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5FEA-B843-47BA-B570-419482AA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4141-806A-4A7C-8441-151047284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986B-0B0E-4B1B-B6EF-6FDD8BEA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C679-BB41-4D18-963B-612D7E393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2877-4477-4423-B8AD-47C6EEB5D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95F25-337C-455A-8A40-94F9567E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B7CB-1B6A-4E45-9FA4-FA4823E3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64C4-C620-4EBF-A9A6-D82EF019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FFDF-CC09-4C7F-A3D4-E68E4CED8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A4DA-041E-43D4-81B1-2B721AB4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016EF-CA63-443C-AF48-8E3A43D8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8F60-19F5-4E46-8C7C-F22AE357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4C5A-45D3-4576-880E-1576CEA81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FCF0-3ED2-453B-A97C-32EADACF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40F53-2560-43CE-B235-872B578C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1729A-641A-4B0F-8EEE-9513E4F53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61643-1558-4279-85A7-F841C2D3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A0438-20D7-45F8-AEB7-C1D3E3109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38A9-90A4-43CC-89B1-6A9228AC5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EA52-78B1-4912-B3B8-64226021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95A3-8985-4ACB-99E3-97BCB5950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8848-3493-4AC9-A586-CC351EF6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8F1-BF96-4C1B-B3E3-E6ED4004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C55-82CA-4B79-B293-82F79679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896B-A3BB-4CBF-BC7C-9D516E83C4B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A077-20A2-48AA-A6E9-AF262750FC3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"/>
              </a:rPr>
              <a:t>Calculo de Costo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6985080" cy="31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tiene la siguiente información de costos de una empresa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7993080" cy="1297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95280" y="3736800"/>
            <a:ext cx="52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8360" y="3716280"/>
            <a:ext cx="8136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 pide calcul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) Costo total usando método AB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) Costos unitarios y Estado de Result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b) Costo total usando método convencional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eccion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Fabricación: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Administración: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primarios asignables a la primera sección de fabricación son de $ 3.000 y a la segunda de $1.5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os costos de la sección de administración son de $1.350. Se asignan a las secciones de fabricación en la misma proporción de los costos primari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unidad de obra de las secciones de fabricación es la mano de obra. La primera sección consume 300 hrs. y la segunda100 h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258920" y="836640"/>
            <a:ext cx="576108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2421000"/>
            <a:ext cx="676908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c) Costo total usando el método AB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42920" y="1844640"/>
            <a:ext cx="6842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Selección de induct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maquinad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las horas de funcionamiento de las máquin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los pedido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pedidos gestion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Arial"/>
              </a:rPr>
              <a:t>Actividades relacionadas con gestión de cliente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el número de clientes que gestiona la empre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9214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6T00:37:20Z</dcterms:created>
  <dc:creator>Ivan Alvarez</dc:creator>
  <dc:description/>
  <dc:language>en-US</dc:language>
  <cp:lastModifiedBy>Ivan Alvarez</cp:lastModifiedBy>
  <dcterms:modified xsi:type="dcterms:W3CDTF">2007-10-17T01:06:57Z</dcterms:modified>
  <cp:revision>10</cp:revision>
  <dc:subject/>
  <dc:title>Diapositiva 1</dc:title>
</cp:coreProperties>
</file>