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588-5679-45D7-A785-D2FD9BAE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0FF-872B-47E1-AC62-7779FEFD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848-F9B4-4392-B2A5-95201718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129-AC69-42E0-9766-87D9DE93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E6FC-1784-49DB-8C09-9A9ABCE6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FF8A-9CE1-41A0-B808-669BB0B5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B45A-9431-48B8-B6CE-41F095B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73A7-FF25-42ED-991C-216EDC6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3F68-4007-4B30-8436-5E393944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A870-A0EF-4751-B826-4D5DCEFB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1236-4FB6-4A54-8CC7-C5DFF0FA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BED-177B-4A22-AE30-8895F1DE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5198-9233-40BC-A030-67AD5310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73D4-D127-4174-BD02-7C1507D2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EA4B-0DAE-4E92-B6A5-9D285E45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F23F-E475-4D65-BC50-55FFA566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A6D2-A081-42F1-A5D3-6BF67357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66B-9D45-4EB9-86C8-018E688B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01E-3A66-4BA3-8EC7-CF31BFD9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0C6-0DDA-4703-8C9F-CB7C38FB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CB0-B42E-4364-94B9-A3F3F4FF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6A3-C582-4154-A298-383E4F4E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890-4EE1-455F-98E4-9AD8381E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F27-2C9E-4860-871B-EE4D68DB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0415-CB3A-40C2-B74A-0CDB25E21F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9677-4BEC-4A08-8745-8B78ECB8C8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Calculo de Cost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tiene la siguiente información de costos de una empre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993080" cy="1297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736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1628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calcul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Costo total usando método 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bricación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ministración: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primarios asignables a la primera sección de fabricación son de $ 3.000 y a la segunda de $1.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de la sección de administración son de $1.350. Se asignan a las secciones de fabricación en la misma proporción de los costos prim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unidad de obra de las secciones de fabricación es la mano de obra. La primera sección consume 300 hrs. y la segunda100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5761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76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) Costo total usando el método A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842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lección de induc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maquin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las horas de funcionamiento de la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los pedi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pedidos gestio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gestión de cl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clientes que gestion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37:20Z</dcterms:created>
  <dc:creator>Ivan Alvarez</dc:creator>
  <dc:description/>
  <dc:language>en-US</dc:language>
  <cp:lastModifiedBy>Ivan Alvarez</cp:lastModifiedBy>
  <dcterms:modified xsi:type="dcterms:W3CDTF">2007-10-17T01:06:57Z</dcterms:modified>
  <cp:revision>10</cp:revision>
  <dc:subject/>
  <dc:title>Diapositiva 1</dc:title>
</cp:coreProperties>
</file>