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4FB-A576-4D4F-A2E8-5DC8FBA6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9DC-CC9D-4A04-801F-2FE76628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4D6-2E4D-463F-8645-E580D78A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BE7-D0A5-4F0B-9778-472950A1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89E-4963-4CA9-B3EE-A4818A9E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F46-6C42-4CE8-AAB7-D76E5651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E4B-BFD0-4BA4-BB83-ADD97F82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8DC-EC32-4716-9B7D-5A2CEBB8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4BB-0209-4EA0-8602-D01630C8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B72-9450-40D6-A004-432896AF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36B-7B4F-46EB-9074-3158D6BA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D31-A1ED-4D82-8B24-61742473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5E2E-CF8A-46D5-B944-CAC8511D14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s de Coste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sistema de costeo intenta responder a preguntas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nto le cuesta a una fábrica de pintura producir una lata de pintur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anto le cuesta a una empresa auditora auditar a un clien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nto le cuesta a un supermercado vender un pack de seis bebid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as preguntas se formulan con múltiples propósitos, diseñar estrategias, tomar decisiones de fijación de precios y administración de costos, y cumplir con los requisitos de presentación de informes extern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umen de costos del producto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*300 + 10*1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*200 + 100*4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8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7.143 + 166.66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23.81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28.8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5,76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umen de costos del produc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*300 + 5*1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0*200 + 50*4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2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857 + 83.33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26.19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11.1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11,19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empresa se dedica a la fabricación de pernos, a través de dos proce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el primer departamento se fabrica la cabeza del perno, a partir de un cilindro metálico que es la materia pr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el segundo proceso o departamento, se toman las unidades provenientes del proceso anterior y se les fabrica el “hil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sabe que los costos de conversión del primer departamento son de $600.000 por concepto de mano de obra directa y $300.000 por concepto de costos indirec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costo de la materia prima es de $40 la unidad y durante el período se procesaron y terminaron 30.000 unida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oniendo que no hay inventarios de productos en proceso, determine el valor del producto a la salida del primer proce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60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Arial"/>
              </a:rPr>
              <a:t>Ejemplo de Costeo por Proces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de Convers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00.000 + 300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de Conversión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00.000 /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0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alor del Producto al salir del primer proces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40 + $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0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Asignación de Costos Indirectos: Método Convenciona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iv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signar todos los costos indirectos incurridos en el período a los productos fabricados. Para ello se debe seleccionar una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Base de Asign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ase de Asignación: es un método sistemático de relacionar un determinado costo o grupo de costos con un objetivo de costos. La selección de la base de asignación debe ser guiada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ropósito persegu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costo o esfuerzo necesario para la asig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bases de asignación más utilizadas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oras de mano de obra 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la  mano de obra 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la materia prima o costo pri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erficie o espacio utiliz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una fábrica exis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 Produc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demás se tie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Pla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Departamento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Departamentos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conveniente departamentalizar los CI, puesto que un determin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 no necesariamente requiere de la participación de todos l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41300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dad que realiza una función específica, que es responsable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rminados costos y que ocupa un espacio físico deter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dimien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r CI a Departamentos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tribución Prim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-565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tribución Secund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r CI de los Departamentos de Producción a los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entr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631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3284640"/>
            <a:ext cx="7848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 de Coste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conjunto de registros, procedimientos y equipos utilizados para recopilar, en forma rutinaria, la información de los costos de un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sistemas de costeo acumulan costos para facilitar decisiones. Nos centraremos en particular en las decisiones relacionadas con el costeo de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esa medir los costos por objeto de costos (no en un saco). Típicamente, departamentos o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33360"/>
            <a:ext cx="8534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33360"/>
            <a:ext cx="86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13000"/>
            <a:ext cx="8534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10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765000"/>
            <a:ext cx="8534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765000"/>
            <a:ext cx="861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6922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s de costeo básic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isten dos sistemas de costeo básico para asignar los costos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s o servici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eo por Órdenes de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eo por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Costeo por Ordenes de Trabaj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s una unidad individual, un lote o un servicio individual denominado trabajo. Orden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usa en empresas que producen a pedido o cuando hay centros de producción que fabrican muchos productos (ej: imprentas, constructora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hoja de costos acompaña al lote de producción, y en ella se registran los costos incurridos en cada departamento (MPD, MOD,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sto Unitario Lote i: MPDi + MODi + CIi / Tamaño Lot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Costeo por Proceso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l proceso, que fabrican un sólo producto en grandes cant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usa en empresas con producción en grandes cantidades y en forma continua   (Ej.: Productos químicos, textiles, acero, minería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cada proceso se miden los costos de MPD, MOD, CI incurridos en un perí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uego se determina el costo promedio de pasar una unidad de producto a través del 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Unitario Proceso i: MPD + MOD + CI / Nº de unidades proces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60280"/>
            <a:ext cx="778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Arial"/>
              </a:rPr>
              <a:t>Ejemplo de Costeo por Órdenes de Trabaj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fábrica recibe durante un determinado período dos órdenes de trabajo, para fabricar 5.000 unidades del producto X y 1.000 unidades del producto Y, respectivamen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 hojas de costos muestran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rden de Fabricación Producto 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50 kg de PVC (3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 hrs (2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B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10 kg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átex (1.0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00 hrs (4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rden de Fabricación Producto 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 kg de PVC (3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0 hrs (2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B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5 kg de látex (1.0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 hrs (4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emás, los costos indirectos de los departamentos A y B son de $200 mil y $250 mil, respectiv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pide determinar el costo unitario de los productos X e 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distribuir los costos indirectos usaremos como base de asignación las horas de mano de ob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 los Costos Indirectos del Depto.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ota de Costos Indirectos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.000 / 700 =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 $/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*2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57.1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*5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8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 los Costos Indirectos del Depto. B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ota de Costos Indirectos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/ Base 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50.000 / 150 = 1.666,7 $/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66,7*1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66.6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66,7*5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83.3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</cp:lastModifiedBy>
  <dcterms:modified xsi:type="dcterms:W3CDTF">2007-05-03T01:35:14Z</dcterms:modified>
  <cp:revision>20</cp:revision>
  <dc:subject/>
  <dc:title>Diapositiva 1</dc:title>
</cp:coreProperties>
</file>