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A986-7E89-48E2-82C2-41A46E7C1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CC7C-894B-4038-A25B-0A19542AF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C862-A525-4950-A81C-D0CF44582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37C6-6717-4B31-9FB1-3DCC4A0C1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AF33-7E02-4AC6-B72B-FDBA44D79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5412-7CE7-40C8-844F-9A83EF86E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1D4D-B9FA-4443-9801-40B02DF64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FA91-9A24-4961-8641-2E505FD23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2A84-9821-4E95-B74A-C98B02709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F53C-D3A4-4894-8B06-E810B16D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C8B8-0F72-4905-AF3E-6715412D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F699-BBCD-4A17-BA09-5A5BAE5D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A1D67-09AF-45BE-A989-F613188271E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ffff"/>
                </a:solidFill>
                <a:latin typeface="Arial"/>
              </a:rPr>
              <a:t>Sistemas de Costeo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Un sistema de costeo intenta responder a preguntas tales com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¿Cuánto le cuesta a una fábrica de pintura producir una lata de pintur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¿Cuanto le cuesta a una empresa auditora auditar a un client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¿Cuánto le cuesta a un supermercado vender un pack de seis bebida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stas preguntas se formulan con múltiples propósitos, diseñar estrategias, tomar decisiones de fijación de precios y administración de costos, y cumplir con los requisitos de presentación de informes extern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457200"/>
            <a:ext cx="853416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Resumen de costos del producto 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PD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50*300 + 10*1.000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25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OD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200*200 + 100*400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8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I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57.143 + 166.667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223.810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328.8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Unidad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5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sto Unitari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65,76 $/un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457200"/>
            <a:ext cx="853416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)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Resumen de costos del producto 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PD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200*300 + 5*1.000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65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OD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500*200 + 50*400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2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I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42.857 + 83.333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226.190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411.19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Unidad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sto Unitari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411,19 $/un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088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a empresa se dedica a la fabricación de pernos, a través de dos proceso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 el primer departamento se fabrica la cabeza del perno, a partir de un cilindro metálico que es la materia prim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 el segundo proceso o departamento, se toman las unidades provenientes del proceso anterior y se les fabrica el “hilo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 sabe que los costos de conversión del primer departamento son de $600.000 por concepto de mano de obra directa y $300.000 por concepto de costos indirecto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 costo de la materia prima es de $40 la unidad y durante el período se procesaron y terminaron 30.000 unidad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oniendo que no hay inventarios de productos en proceso, determine el valor del producto a la salida del primer proces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26028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ffff"/>
                </a:solidFill>
                <a:latin typeface="Arial"/>
              </a:rPr>
              <a:t>Ejemplo de Costeo por Proces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609480"/>
            <a:ext cx="84582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Solución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sto de Conversión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600.000 + 300.000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90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sto de Conversión Unitari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900.000 / 3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30 $/un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Valor del Producto al salir del primer proces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$40 + $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70 $/un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Asignación de Costos Indirectos: Método Convenciona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Objetivo: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Asignar todos los costos indirectos incurridos en el período a los productos fabricados. Para ello se debe seleccionar una </a:t>
            </a: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Base de Asignación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Base de Asignación: es un método sistemático de relacionar un determinado costo o grupo de costos con un objetivo de costos. La selección de la base de asignación debe ser guiada po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l propósito persegui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l costo o esfuerzo necesario para la asign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s bases de asignación más utilizadas s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Horas de mano de obra direc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 de la  mano de obra direc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Horas máqu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 de la materia prima o costo pri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uperficie o espacio utiliz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838188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n una fábrica exist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partamentos Productiv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partamentos de 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Además se tien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I de Plan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I de Departamentos de 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I de Departamentos de Produc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s conveniente departamentalizar los CI, puesto que un determinad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oducto no necesariamente requiere de la participación de todos lo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partamen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33520" y="1413000"/>
            <a:ext cx="8153280" cy="51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Unidad que realiza una función específica, que es responsable 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terminados costos y que ocupa un espacio físico determin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rocedimient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signar CI a Departamentos de Produc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292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istribución Prima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292480" indent="-56520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istribución Secunda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292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signar CI de los Departamentos de Producción a los produc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Centro de Costo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8600" y="404640"/>
            <a:ext cx="876312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763120" cy="2590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57200" y="3284640"/>
            <a:ext cx="784872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ffff"/>
                </a:solidFill>
                <a:latin typeface="Arial"/>
              </a:rPr>
              <a:t>Sistema de Costeo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s un conjunto de registros, procedimientos y equipos utilizados para recopilar, en forma rutinaria, la información de los costos de una empres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os sistemas de costeo acumulan costos para facilitar decisiones. Nos centraremos en particular en las decisiones relacionadas con el costeo de produc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teresa medir los costos por objeto de costos (no en un saco). Típicamente, departamentos o produc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4920" y="333360"/>
            <a:ext cx="8534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28600" y="333360"/>
            <a:ext cx="86104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04920" y="1413000"/>
            <a:ext cx="85341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8600" y="907920"/>
            <a:ext cx="8610480" cy="42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28600" y="765000"/>
            <a:ext cx="8534520" cy="47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80880" y="765000"/>
            <a:ext cx="86108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8600" y="692280"/>
            <a:ext cx="8763120" cy="49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ffff"/>
                </a:solidFill>
                <a:latin typeface="Arial"/>
              </a:rPr>
              <a:t>Sistemas de costeo básicos</a:t>
            </a:r>
            <a:r>
              <a:rPr b="0" lang="es-ES_tradnl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xisten dos sistemas de costeo básico para asignar los costos 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oductos o servici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eo por Órdenes de Trabaj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eo por Proces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ffff"/>
                </a:solidFill>
                <a:latin typeface="Arial"/>
              </a:rPr>
              <a:t>Costeo por Ordenes de Trabajo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Objeto del Costo: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es una unidad individual, un lote o un servicio individual denominado trabajo. Orden de Trabaj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usa en empresas que producen a pedido o cuando hay centros de producción que fabrican muchos productos (ej: imprentas, constructoras, etc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 hoja de costos acompaña al lote de producción, y en ella se registran los costos incurridos en cada departamento (MPD, MOD, C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osto Unitario Lote i: MPDi + MODi + CIi / Tamaño Lote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ffff"/>
                </a:solidFill>
                <a:latin typeface="Arial"/>
              </a:rPr>
              <a:t>Costeo por Proceso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Objeto del Costo: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el proceso, que fabrican un sólo producto en grandes cantida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usa en empresas con producción en grandes cantidades y en forma continua   (Ej.: Productos químicos, textiles, acero, minería, etc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n cada proceso se miden los costos de MPD, MOD, CI incurridos en un perío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uego se determina el costo promedio de pasar una unidad de producto a través del proces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 Unitario Proceso i: MPD + MOD + CI / Nº de unidades procesad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95280" y="260280"/>
            <a:ext cx="7785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ffff"/>
                </a:solidFill>
                <a:latin typeface="Arial"/>
              </a:rPr>
              <a:t>Ejemplo de Costeo por Órdenes de Trabaj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141300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a fábrica recibe durante un determinado período dos órdenes de trabajo, para fabricar 5.000 unidades del producto X y 1.000 unidades del producto Y, respectivament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s hojas de costos muestran la siguiente informació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Orden de Fabricación Producto X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epto. A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ateria Prima Directa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50 kg de PVC (300$/k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ano de Obra Directa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200 hrs (200$/hr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epto. B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ateria Prima Directa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10 kg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átex (1.000$/k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ano de Obra Directa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00 hrs (400$/hr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Orden de Fabricación Producto 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epto. A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ateria Prima Directa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200 kg de PVC (300$/k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ano de Obra Directa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500 hrs (200$/hr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epto. B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ateria Prima Directa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5 kg de látex (1.000$/k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ano de Obra Directa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50 hrs (400$/hr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demás, los costos indirectos de los departamentos A y B son de $200 mil y $250 mil, respectivam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e pide determinar el costo unitario de los productos X e 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457200"/>
            <a:ext cx="853416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Solución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ra distribuir los costos indirectos usaremos como base de asignación las horas de mano de obr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 los Costos Indirectos del Depto. 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Horas de MOD utilizad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7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uota de Costos Indirectos 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I / Base   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200.000 / 700 =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285,71 $/h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I asignados a X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285,71*200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57.14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I asignados a Y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285,71*500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42.85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457200"/>
            <a:ext cx="853416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 los Costos Indirectos del Depto. B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Horas de MOD utilizad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uota de Costos Indirectos 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I / Base  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250.000 / 150 = 1.666,7 $/h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I asignados a X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.666,7*100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66.66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I asignados a Y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.666,7*50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83.3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3T23:42:58Z</dcterms:created>
  <dc:creator>ivan.alvarez</dc:creator>
  <dc:description/>
  <dc:language>en-US</dc:language>
  <cp:lastModifiedBy>Ivan Alvarez</cp:lastModifiedBy>
  <dcterms:modified xsi:type="dcterms:W3CDTF">2007-05-03T01:35:14Z</dcterms:modified>
  <cp:revision>20</cp:revision>
  <dc:subject/>
  <dc:title>Diapositiva 1</dc:title>
</cp:coreProperties>
</file>