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E64FA-53A0-4D9C-AA3F-96D76726A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7BD8D-C890-4E97-90AB-680FCCE9B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F5328-7EDC-4C58-9A31-9836D0341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F7871-BF88-43B3-9FC8-0A0D8886C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BD265-8374-4286-8F11-15E629D43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4C228-4B16-426D-9F0C-AE95FEE10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95187-3786-4707-89C1-144305AFE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39FAA-DAB0-4164-A66C-575DA502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65347-DCAA-4C37-8366-9E0F56936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5B57F-2998-479F-B5EE-FEC9504EC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E2FF3-343A-417D-A0CF-D315AABB3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8980-139F-489B-94EF-1273FE72A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71FD-7AD8-43C4-B502-05ED67CBD1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Métodos de Costeo: Variable y Absorbente</a:t>
            </a:r>
            <a:endParaRPr b="0" lang="en-US" sz="3200" spc="-1" strike="noStrike">
              <a:solidFill>
                <a:srgbClr val="cc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étodos de costeo responden a la pregunt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é costos se deben incluir como costos del produc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eo Variable (o directo o contribucion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steo Absorbente (o completo o funcion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mbos métodos difieren en la forma de tratar los costos indirectos fi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Variable</a:t>
            </a:r>
            <a:endParaRPr b="0" lang="en-US" sz="32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odos los costos de producción variables como costos inventariabl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Los costos indirectos fijos se relacionan con la capacidad de producción, que es función de un período determin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método es de uso interno y presta mucha utilidad a la toma de decisi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Absorbente</a:t>
            </a:r>
            <a:r>
              <a:rPr b="0" lang="es-ES" sz="4400" spc="-1" strike="noStrike">
                <a:solidFill>
                  <a:srgbClr val="ccffff"/>
                </a:solidFill>
                <a:latin typeface="Arial"/>
              </a:rPr>
              <a:t> </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ducto absorbe la totalidad de los costos de producción (fijos y variables), en tanto los costos no productivos se consideran gastos del períod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tanto los costos variables como los fijos son necesarios para producir bien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único método aceptado para fines extern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Arial"/>
              </a:rPr>
              <a:t>Comparación Costeo</a:t>
            </a:r>
            <a:br>
              <a:rPr sz="3200"/>
            </a:br>
            <a:r>
              <a:rPr b="0" lang="es-CL" sz="3200" spc="-1" strike="noStrike">
                <a:solidFill>
                  <a:srgbClr val="ccffff"/>
                </a:solidFill>
                <a:latin typeface="Arial"/>
              </a:rPr>
              <a:t>Absorbente vs. Variable</a:t>
            </a:r>
            <a:endParaRPr b="0" lang="en-US" sz="32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sistemas de costeo difieren sólo en un aspecto conceptual, si los costos fijos de producción son inventariables o no.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Esquema del Estado de Resultados con ambos métodos:</a:t>
            </a:r>
            <a:endParaRPr b="0" lang="en-US" sz="32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Fij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 Costeo absorbente vs. Variab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os unitarios de producción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P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Variable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Fijo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2.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 Tot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duc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6.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de Vent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7.500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Variable de Adm. y Ventas</a:t>
            </a:r>
            <a:r>
              <a:rPr b="0" lang="es-ES_tradnl" sz="2400" spc="-1" strike="noStrike">
                <a:solidFill>
                  <a:srgbClr val="ffffff"/>
                </a:solidFill>
                <a:latin typeface="Arial"/>
              </a:rPr>
              <a:t>	</a:t>
            </a:r>
            <a:r>
              <a:rPr b="0" lang="es-ES_tradnl" sz="2400" spc="-1" strike="noStrike">
                <a:solidFill>
                  <a:srgbClr val="ffffff"/>
                </a:solidFill>
                <a:latin typeface="Arial"/>
              </a:rPr>
              <a:t>$ 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Fijo de Adm. y Ventas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No ha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Variabl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Producción (3000*50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0.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Producción (2500*6000)</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1.0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Absorbent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Producción (6.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Inventario Final (1.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5.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Margen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0.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6.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3.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de los inventarios fin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variable:       </a:t>
            </a:r>
            <a:r>
              <a:rPr b="0" lang="es-CL" sz="2400" spc="-1" strike="noStrike">
                <a:solidFill>
                  <a:srgbClr val="ffffff"/>
                </a:solidFill>
                <a:latin typeface="Arial"/>
              </a:rPr>
              <a:t>	</a:t>
            </a:r>
            <a:r>
              <a:rPr b="0" lang="es-CL" sz="2400" spc="-1" strike="noStrike">
                <a:solidFill>
                  <a:srgbClr val="ffffff"/>
                </a:solidFill>
                <a:latin typeface="Arial"/>
              </a:rPr>
              <a:t>1.000 * 3.000 =  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absorbente:  </a:t>
            </a:r>
            <a:r>
              <a:rPr b="0" lang="es-CL" sz="2400" spc="-1" strike="noStrike">
                <a:solidFill>
                  <a:srgbClr val="ffffff"/>
                </a:solidFill>
                <a:latin typeface="Arial"/>
              </a:rPr>
              <a:t>	</a:t>
            </a:r>
            <a:r>
              <a:rPr b="0" lang="es-CL" sz="2400" spc="-1" strike="noStrike">
                <a:solidFill>
                  <a:srgbClr val="ffffff"/>
                </a:solidFill>
                <a:latin typeface="Arial"/>
              </a:rPr>
              <a:t>1.000 * 5.500 =  5.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 Alvarez</cp:lastModifiedBy>
  <dcterms:modified xsi:type="dcterms:W3CDTF">2007-04-26T02:20:58Z</dcterms:modified>
  <cp:revision>5</cp:revision>
  <dc:subject/>
  <dc:title>Métodos de Costeo: Variable y Absorbente</dc:title>
</cp:coreProperties>
</file>