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DB4D4-8310-4605-B685-8D7DA76E0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ECC39-B312-4CE7-AF17-1BB325E6D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06642-82E1-469E-A9D9-1BEE8156D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9412E-0A95-4B3F-969F-166006A89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98CD-A4B2-4BF2-9EA2-B83C81661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1E6F3-0423-40ED-BA81-41357EC9A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8070-9078-473B-A687-19060A415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ACF46-B48A-4D1B-96FB-F003EF96B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BEA0D-7FC1-4799-9115-4B69C6E4D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52CF-6780-44B9-A08D-3C08E204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18C3-4912-4D3A-A8E2-0D2DF3C6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736C-8A3C-4044-955B-476E1BB00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F89D-7A4A-48CC-9814-156314C4C3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Métodos de Costeo: Variable y Absorbente</a:t>
            </a:r>
            <a:endParaRPr b="0" lang="en-US" sz="3200" spc="-1" strike="noStrike">
              <a:solidFill>
                <a:srgbClr val="cc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todos de costeo responden a la pregunt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é costos se deben incluir como costos del produc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eo Variable (o directo o contribucion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steo Absorbente (o completo o funcion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mbos métodos difieren en la forma de tratar los costos indirectos fi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Variable</a:t>
            </a:r>
            <a:endParaRPr b="0" lang="en-US" sz="32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odos los costos de producción variables como costos inventariabl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Los costos indirectos fijos se relacionan con la capacidad de producción, que es función de un período determin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método es de uso interno y presta mucha utilidad a la toma de decisi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Absorbente</a:t>
            </a:r>
            <a:r>
              <a:rPr b="0" lang="es-ES" sz="4400" spc="-1" strike="noStrike">
                <a:solidFill>
                  <a:srgbClr val="ccffff"/>
                </a:solidFill>
                <a:latin typeface="Arial"/>
              </a:rPr>
              <a:t> </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ducto absorbe la totalidad de los costos de producción (fijos y variables), en tanto los costos no productivos se consideran gastos del períod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tanto los costos variables como los fijos son necesarios para producir bien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único método aceptado para fines extern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Arial"/>
              </a:rPr>
              <a:t>Comparación Costeo</a:t>
            </a:r>
            <a:br>
              <a:rPr sz="3200"/>
            </a:br>
            <a:r>
              <a:rPr b="0" lang="es-CL" sz="3200" spc="-1" strike="noStrike">
                <a:solidFill>
                  <a:srgbClr val="ccffff"/>
                </a:solidFill>
                <a:latin typeface="Arial"/>
              </a:rPr>
              <a:t>Absorbente vs. Variable</a:t>
            </a:r>
            <a:endParaRPr b="0" lang="en-US" sz="32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sistemas de costeo difieren sólo en un aspecto conceptual, si los costos fijos de producción son inventariables o no.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Esquema del Estado de Resultados con ambos métodos:</a:t>
            </a:r>
            <a:endParaRPr b="0" lang="en-US" sz="32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Fij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Costeo absorbente vs. Vari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os unitarios de producción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P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Variable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Fijo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2.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 Tot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duc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6.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de Vent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7.500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Variable de Adm. y Ventas</a:t>
            </a:r>
            <a:r>
              <a:rPr b="0" lang="es-ES_tradnl" sz="2400" spc="-1" strike="noStrike">
                <a:solidFill>
                  <a:srgbClr val="ffffff"/>
                </a:solidFill>
                <a:latin typeface="Arial"/>
              </a:rPr>
              <a:t>	</a:t>
            </a:r>
            <a:r>
              <a:rPr b="0" lang="es-ES_tradnl" sz="2400" spc="-1" strike="noStrike">
                <a:solidFill>
                  <a:srgbClr val="ffffff"/>
                </a:solidFill>
                <a:latin typeface="Arial"/>
              </a:rPr>
              <a:t>$ 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Fijo de Adm. y Ventas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No h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Variabl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Producción (3000*50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0.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Producción (2500*6000)</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1.0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Absorbent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Producción (6.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Inventario Final (1.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5.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Margen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0.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6.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3.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de los inventarios fin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variable:       </a:t>
            </a:r>
            <a:r>
              <a:rPr b="0" lang="es-CL" sz="2400" spc="-1" strike="noStrike">
                <a:solidFill>
                  <a:srgbClr val="ffffff"/>
                </a:solidFill>
                <a:latin typeface="Arial"/>
              </a:rPr>
              <a:t>	</a:t>
            </a:r>
            <a:r>
              <a:rPr b="0" lang="es-CL" sz="2400" spc="-1" strike="noStrike">
                <a:solidFill>
                  <a:srgbClr val="ffffff"/>
                </a:solidFill>
                <a:latin typeface="Arial"/>
              </a:rPr>
              <a:t>1.000 * 3.000 =  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absorbente:  </a:t>
            </a:r>
            <a:r>
              <a:rPr b="0" lang="es-CL" sz="2400" spc="-1" strike="noStrike">
                <a:solidFill>
                  <a:srgbClr val="ffffff"/>
                </a:solidFill>
                <a:latin typeface="Arial"/>
              </a:rPr>
              <a:t>	</a:t>
            </a:r>
            <a:r>
              <a:rPr b="0" lang="es-CL" sz="2400" spc="-1" strike="noStrike">
                <a:solidFill>
                  <a:srgbClr val="ffffff"/>
                </a:solidFill>
                <a:latin typeface="Arial"/>
              </a:rPr>
              <a:t>1.000 * 5.500 =  5.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 Alvarez</cp:lastModifiedBy>
  <dcterms:modified xsi:type="dcterms:W3CDTF">2007-04-26T02:20:58Z</dcterms:modified>
  <cp:revision>5</cp:revision>
  <dc:subject/>
  <dc:title>Métodos de Costeo: Variable y Absorbente</dc:title>
</cp:coreProperties>
</file>