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71349-D6CF-47E1-A962-6663E6868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E7D24-4CA1-43D8-A784-CBF661A3E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77199-87A8-4E58-8AF0-89089BD87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8056F-74D1-4E94-91B1-496752910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CBE93-3345-4F92-91E9-A867236C4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5A5C7-6AB0-45DA-88CF-DB592ACA8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CAF92-A969-4E7D-9665-038AF063C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8AEE9-FDF1-4156-9A63-FDE9A11F9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6F5E3-014F-427B-9B91-007299E4F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9C3DB-0528-468B-815A-0572D639D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0624E-A473-4674-A8A2-443341E88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35786-B328-4A97-92DC-5D9675831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3CD9-DA00-4999-A52C-DC84E70F63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Métodos de Costeo: Variable y Absorbente</a:t>
            </a:r>
            <a:endParaRPr b="0" lang="en-US" sz="3200" spc="-1" strike="noStrike">
              <a:solidFill>
                <a:srgbClr val="ccffff"/>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métodos de costeo responden a la pregunt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é costos se deben incluir como costos del produc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steo Variable (o directo o contribuciona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osteo Absorbente (o completo o funcional)</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mbos métodos difieren en la forma de tratar los costos indirectos fij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Costeo Variable</a:t>
            </a:r>
            <a:endParaRPr b="0" lang="en-US" sz="32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sistema de valoración de inventarios en el cual se incluyen todos los costos de producción variables como costos inventariabl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excluyen (no son inventariables) los costos fijos de producción, los que se tratan como costos (gastos) del periodo en el que se incurren, al igual que los costos no productivos (I&amp;D, Marketing).</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undamento: Los costos indirectos fijos se relacionan con la capacidad de producción, que es función de un período determin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e método es de uso interno y presta mucha utilidad a la toma de decision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Costeo Absorbente</a:t>
            </a:r>
            <a:r>
              <a:rPr b="0" lang="es-ES" sz="4400" spc="-1" strike="noStrike">
                <a:solidFill>
                  <a:srgbClr val="ccffff"/>
                </a:solidFill>
                <a:latin typeface="Arial"/>
              </a:rPr>
              <a:t> </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sistema de valoración de inventarios en el cual se incluyen tanto los costos variables como los costos fijos de producción, es decir el inventario “absorbe” todo el costo de produc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producto absorbe la totalidad de los costos de producción (fijos y variables), en tanto los costos no productivos se consideran gastos del períod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undamento: tanto los costos variables como los fijos son necesarios para producir biene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el único método aceptado para fines extern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Arial"/>
              </a:rPr>
              <a:t>Comparación Costeo</a:t>
            </a:r>
            <a:br>
              <a:rPr sz="3200"/>
            </a:br>
            <a:r>
              <a:rPr b="0" lang="es-CL" sz="3200" spc="-1" strike="noStrike">
                <a:solidFill>
                  <a:srgbClr val="ccffff"/>
                </a:solidFill>
                <a:latin typeface="Arial"/>
              </a:rPr>
              <a:t>Absorbente vs. Variable</a:t>
            </a:r>
            <a:endParaRPr b="0" lang="en-US" sz="32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bos sistemas de costeo difieren sólo en un aspecto conceptual, si los costos fijos de producción son inventariables o no.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Esquema del Estado de Resultados con ambos métodos:</a:t>
            </a:r>
            <a:endParaRPr b="0" lang="en-US" sz="3200" spc="-1" strike="noStrike">
              <a:solidFill>
                <a:srgbClr val="ccffff"/>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por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Variabl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Produc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Contribu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Fijo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Produc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C.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por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de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jemplo: Costeo absorbente vs. Variabl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stos unitarios de producción ($/un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P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I Variables</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I Fijos</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2.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 Tot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ducción</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6.000 unida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 unida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de Venta</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7.500 $/un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 Variable de Adm. y Ventas</a:t>
            </a:r>
            <a:r>
              <a:rPr b="0" lang="es-ES_tradnl" sz="2400" spc="-1" strike="noStrike">
                <a:solidFill>
                  <a:srgbClr val="ffffff"/>
                </a:solidFill>
                <a:latin typeface="Arial"/>
              </a:rPr>
              <a:t>	</a:t>
            </a:r>
            <a:r>
              <a:rPr b="0" lang="es-ES_tradnl" sz="2400" spc="-1" strike="noStrike">
                <a:solidFill>
                  <a:srgbClr val="ffffff"/>
                </a:solidFill>
                <a:latin typeface="Arial"/>
              </a:rPr>
              <a:t>$ 1.7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 Fijo de Adm. y Ventas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4.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ventario inici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No ha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Costeo Variable</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 (5000*75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variabl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C. de Producción (3000*50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5.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C.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1.7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Contribución</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0.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Fijos de Producción (2500*6000)</a:t>
            </a:r>
            <a:r>
              <a:rPr b="0" lang="es-ES_tradnl" sz="2400" spc="-1" strike="noStrike">
                <a:solidFill>
                  <a:srgbClr val="ffffff"/>
                </a:solidFill>
                <a:latin typeface="Arial"/>
              </a:rPr>
              <a:t>	</a:t>
            </a:r>
            <a:r>
              <a:rPr b="0" lang="es-ES_tradnl" sz="2400" spc="-1" strike="noStrike">
                <a:solidFill>
                  <a:srgbClr val="ffffff"/>
                </a:solidFill>
                <a:latin typeface="Arial"/>
              </a:rPr>
              <a:t>15.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Fijos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4.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1.0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Costeo Absorbente</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 (5000*75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ventario Inici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Producción (6.000*5.500)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3.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Inventario Final (1.000*5.500)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5.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de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Margen de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0.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6.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3.5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lor de los inventarios final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or costeo variable:       </a:t>
            </a:r>
            <a:r>
              <a:rPr b="0" lang="es-CL" sz="2400" spc="-1" strike="noStrike">
                <a:solidFill>
                  <a:srgbClr val="ffffff"/>
                </a:solidFill>
                <a:latin typeface="Arial"/>
              </a:rPr>
              <a:t>	</a:t>
            </a:r>
            <a:r>
              <a:rPr b="0" lang="es-CL" sz="2400" spc="-1" strike="noStrike">
                <a:solidFill>
                  <a:srgbClr val="ffffff"/>
                </a:solidFill>
                <a:latin typeface="Arial"/>
              </a:rPr>
              <a:t>1.000 * 3.000 =  3.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or costeo absorbente:  </a:t>
            </a:r>
            <a:r>
              <a:rPr b="0" lang="es-CL" sz="2400" spc="-1" strike="noStrike">
                <a:solidFill>
                  <a:srgbClr val="ffffff"/>
                </a:solidFill>
                <a:latin typeface="Arial"/>
              </a:rPr>
              <a:t>	</a:t>
            </a:r>
            <a:r>
              <a:rPr b="0" lang="es-CL" sz="2400" spc="-1" strike="noStrike">
                <a:solidFill>
                  <a:srgbClr val="ffffff"/>
                </a:solidFill>
                <a:latin typeface="Arial"/>
              </a:rPr>
              <a:t>1.000 * 5.500 =  5.5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3:48:01Z</dcterms:created>
  <dc:creator>ivan.alvarez</dc:creator>
  <dc:description/>
  <dc:language>en-US</dc:language>
  <cp:lastModifiedBy>Ivan Alvarez</cp:lastModifiedBy>
  <dcterms:modified xsi:type="dcterms:W3CDTF">2007-04-26T02:20:58Z</dcterms:modified>
  <cp:revision>5</cp:revision>
  <dc:subject/>
  <dc:title>Métodos de Costeo: Variable y Absorbente</dc:title>
</cp:coreProperties>
</file>