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7C327-1AD0-44D3-9485-BD995E5AE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34486-EE52-49DB-B3B2-FACB04E46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25F39-496E-4E30-9D9E-629A6FF31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031BA-A46E-4F5D-8DB6-ED8E2A4BE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B3828-76B4-4ED3-951D-32A063CDD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0533-E013-430D-A5E1-CECBA30F3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A344-7C34-43D3-A6EA-5BC6A671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6FE6A-D190-47AD-96A4-EB617382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18A5D-2D82-4C77-A4A6-268719781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53EC-9CAE-428E-9082-7C05AD5AF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84441-DBA1-4A2D-9D27-756A60B97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CC5F-12F7-4B55-8814-3562647BF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2A4F-7F3A-4034-9E03-4B1E30D06F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Métodos de Costeo: Variable y Absorbente</a:t>
            </a:r>
            <a:endParaRPr b="0" lang="en-US" sz="3200" spc="-1" strike="noStrike">
              <a:solidFill>
                <a:srgbClr val="ccffff"/>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métodos de costeo responden a la pregunt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é costos se deben incluir como costos del produc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eo Variable (o directo o contribucion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steo Absorbente (o completo o funciona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mbos métodos difieren en la forma de tratar los costos indirectos fi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Variable</a:t>
            </a:r>
            <a:endParaRPr b="0" lang="en-US" sz="32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odos los costos de producción variables como costos inventariabl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xcluyen (no son inventariables) los costos fijos de producción, los que se tratan como costos (gastos) del periodo en el que se incurren, al igual que los costos no productivos (I&amp;D, Marketing).</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Los costos indirectos fijos se relacionan con la capacidad de producción, que es función de un período determin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método es de uso interno y presta mucha utilidad a la toma de decision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Costeo Absorbente</a:t>
            </a:r>
            <a:r>
              <a:rPr b="0" lang="es-ES" sz="4400" spc="-1" strike="noStrike">
                <a:solidFill>
                  <a:srgbClr val="ccffff"/>
                </a:solidFill>
                <a:latin typeface="Arial"/>
              </a:rPr>
              <a:t> </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sistema de valoración de inventarios en el cual se incluyen tanto los costos variables como los costos fijos de producción, es decir el inventario “absorbe” todo el costo de produc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producto absorbe la totalidad de los costos de producción (fijos y variables), en tanto los costos no productivos se consideran gastos del períod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undamento: tanto los costos variables como los fijos son necesarios para producir bien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único método aceptado para fines extern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Arial"/>
              </a:rPr>
              <a:t>Comparación Costeo</a:t>
            </a:r>
            <a:br>
              <a:rPr sz="3200"/>
            </a:br>
            <a:r>
              <a:rPr b="0" lang="es-CL" sz="3200" spc="-1" strike="noStrike">
                <a:solidFill>
                  <a:srgbClr val="ccffff"/>
                </a:solidFill>
                <a:latin typeface="Arial"/>
              </a:rPr>
              <a:t>Absorbente vs. Variable</a:t>
            </a:r>
            <a:endParaRPr b="0" lang="en-US" sz="32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sistemas de costeo difieren sólo en un aspecto conceptual, si los costos fijos de producción son inventariables o no.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Esquema del Estado de Resultados con ambos métodos:</a:t>
            </a:r>
            <a:endParaRPr b="0" lang="en-US" sz="3200" spc="-1" strike="noStrike">
              <a:solidFill>
                <a:srgbClr val="cc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Fijo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C. de Produc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C.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por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jemplo: Costeo absorbente vs. Variab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stos unitarios de producción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P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Variable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 Fijos</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2.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 Tot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5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duc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6.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 un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de Venta</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7.500 $/un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Variable de Adm. y Ventas</a:t>
            </a:r>
            <a:r>
              <a:rPr b="0" lang="es-ES_tradnl" sz="2400" spc="-1" strike="noStrike">
                <a:solidFill>
                  <a:srgbClr val="ffffff"/>
                </a:solidFill>
                <a:latin typeface="Arial"/>
              </a:rPr>
              <a:t>	</a:t>
            </a:r>
            <a:r>
              <a:rPr b="0" lang="es-ES_tradnl" sz="2400" spc="-1" strike="noStrike">
                <a:solidFill>
                  <a:srgbClr val="ffffff"/>
                </a:solidFill>
                <a:latin typeface="Arial"/>
              </a:rPr>
              <a:t>$ 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 Fijo de Adm. y Ventas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No ha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Variabl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s variabl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Producción (3000*50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C.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1.7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Margen de Contribuc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0.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Producción (2500*6000)</a:t>
            </a:r>
            <a:r>
              <a:rPr b="0" lang="es-ES_tradnl" sz="2400" spc="-1" strike="noStrike">
                <a:solidFill>
                  <a:srgbClr val="ffffff"/>
                </a:solidFill>
                <a:latin typeface="Arial"/>
              </a:rPr>
              <a:t>	</a:t>
            </a:r>
            <a:r>
              <a:rPr b="0" lang="es-ES_tradnl" sz="2400" spc="-1" strike="noStrike">
                <a:solidFill>
                  <a:srgbClr val="ffffff"/>
                </a:solidFill>
                <a:latin typeface="Arial"/>
              </a:rPr>
              <a:t>15.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Fij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4.8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1.0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Costeo Absorbente</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s (5000*750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ntario Inici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Producción (6.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Inventario Final (1.000*5.500)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5.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Costo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Margen de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0.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Gastos de Adm. y Ventas</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6.5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Resultado Operacional</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3.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 de los inventarios fin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variable:       </a:t>
            </a:r>
            <a:r>
              <a:rPr b="0" lang="es-CL" sz="2400" spc="-1" strike="noStrike">
                <a:solidFill>
                  <a:srgbClr val="ffffff"/>
                </a:solidFill>
                <a:latin typeface="Arial"/>
              </a:rPr>
              <a:t>	</a:t>
            </a:r>
            <a:r>
              <a:rPr b="0" lang="es-CL" sz="2400" spc="-1" strike="noStrike">
                <a:solidFill>
                  <a:srgbClr val="ffffff"/>
                </a:solidFill>
                <a:latin typeface="Arial"/>
              </a:rPr>
              <a:t>1.000 * 3.000 =  3.00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or costeo absorbente:  </a:t>
            </a:r>
            <a:r>
              <a:rPr b="0" lang="es-CL" sz="2400" spc="-1" strike="noStrike">
                <a:solidFill>
                  <a:srgbClr val="ffffff"/>
                </a:solidFill>
                <a:latin typeface="Arial"/>
              </a:rPr>
              <a:t>	</a:t>
            </a:r>
            <a:r>
              <a:rPr b="0" lang="es-CL" sz="2400" spc="-1" strike="noStrike">
                <a:solidFill>
                  <a:srgbClr val="ffffff"/>
                </a:solidFill>
                <a:latin typeface="Arial"/>
              </a:rPr>
              <a:t>1.000 * 5.500 =  5.5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 Alvarez</cp:lastModifiedBy>
  <dcterms:modified xsi:type="dcterms:W3CDTF">2007-04-26T02:20:58Z</dcterms:modified>
  <cp:revision>5</cp:revision>
  <dc:subject/>
  <dc:title>Métodos de Costeo: Variable y Absorbente</dc:title>
</cp:coreProperties>
</file>