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376-DE5D-49C1-9779-D09FDBFA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9C3-E2FB-444B-AAED-BE451E9E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79E-A3E8-459A-AD2B-BF8131BF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FCA-1F81-4778-AA49-893176A3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76F-BFF4-4530-B2EC-760FDF4F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5E0-90F8-40C4-B30E-17E90D56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E6D-82D6-404C-8178-924A4DB4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3C1-3A94-4364-B919-83A89DA8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4BE-0276-42FA-B9A8-D15866A0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72C-4221-440B-999E-CB3B9B3D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442-1BCE-4F06-9ED4-021E539F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8AE-771A-4C5C-A9F4-85633403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301A-AE45-47A7-B7B8-3C94FE9296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Contabilidad Gerenci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89000"/>
          <a:ext cx="8569080" cy="648000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FINANCIE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Arial Narrow"/>
                          <a:ea typeface="Times New Roman"/>
                        </a:rPr>
                        <a:t>CONTABILIDAD ADMINISTRAT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usuarios externos a la empresa:  accionistas, Estado, acreedores, comuni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Genera información para la toma de decisiones internas.  Es usada básicamente por la administ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Registra hechos pas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Centra su punto de atención en la prospección, en el análisis de hechos futu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prepararse teniendo en cuenta Principios de Contabilidad Generalmente Aceptados (PCG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cuenta con principios que reglamenten su preparación y presen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Es obligatoria su prepa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No es obligatorio preparar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Uno de sus objetivos es determinar la utilidad obten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objetivo final no es el cálculo de util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Debe abarcar toda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Puede prepararse para segmentos de la organ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u preparación no se apoya mucho en otras discipli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Se apoya en disciplinas tales como la estadística, economía, investigación de operaciones, finanzas,  entre otr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proporciona información para prepar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externos para inversionis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de rutina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es internos no rutinarios para decisiones ger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abilidad es un medio de ayuda a la gerencia par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r y coordinar las actividades o áreas funcionales de las que son respons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4160" y="404640"/>
            <a:ext cx="78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s de Contabilidad: propósitos princi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ama de la contabilidad que analiza cómo se distribuyen los costos que genera una empresa ent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diversos productos que fabrica/comercializa o los servicios que ofre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los diferentes departamento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tre sus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 ello, se quiere determinar cuál es el costo de cada producto, departamento, o cliente y la rentabilidad que se obtiene de c/u de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ontabilidad de Costos (2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ontabilidad de costos perm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ocer en que costos incurre la empresa en cada fase de elaboración de sus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lorar las existencias de productos en curso, en proceso y   función de los costos en los que hasta el momento se hayan gen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tectar posibles actividades, productos o clientes en los que la empresa pierde din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ijar los precios de venta conociendo que margen se obtiene de cada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Ga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a reducción del patrimonio, derivada del uso de activos o del incremento de pasivos como parte del proceso de venta de bienes o prestación de servicios a los cli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 desembolso que realiza la empresa y que afecta directamente al resultado disminuyendo la uti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j: Remuneraciones de Personal, arrie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concepto de la Contabilidad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crificio de recursos que se hace con la esperanza de obtener algún benefici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lo general, se mide como el importe monetario que se debe pagar para adquirir bienes y servi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. Uso de 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umo de recursos en el cual el beneficio se obtendrá a lo largo de varios perio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te del gasto no consumido actualmente, pero que lo será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Activo inmovilizado, comput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Egr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alida de dinero desde la Caja (Tesorerí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 Pago de suel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pósito o actividad para la cual se miden en forma separada los cost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ueden ser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ar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art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costos se eligen en función de la decisión que se desea tom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Sistema de coste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idera dos etapas básicas: acumulación y asign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cumulación del cos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es la recopilación de información de costos de una forma organizada, mediante un sistema de cont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Asignación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término general que abar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dentificación de los costos acumulados con un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orrateo de los costos acumulados a un objeto de co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</a:t>
            </a: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se clasifican en función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lación directa o indirecta con el objeto de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iveles de actividad o volu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tario y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rol de co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tros para la toma de deci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lación directa o indirecta con el objet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se relacionan directa o indirectamente con el objeto de co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n aquellos que se relacionan con un objeto de costo en particular y se identifican de una forma económicamente viable (eficaz en cuanto a costos).  Ej. El costo de la lata de una beb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relacionan con el objeto del costo en particular, pero no se identifican con el de una forma económicamente viable (eficaz en cuanto a costo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El costo del personal de control calidad que verifica múlt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os en la embotelladora es un costo indirecto en una l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 el término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prorrate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 costo se describe la asignación de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s indirectos al objetivo del costo en particu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Objetivos del curs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lorizar los recursos empleados en la empresa, y las decisiones que pueden ser adoptadas con esta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parar planes de negocios, y proyectar la posición financiera de la empresa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aluar la gestión a nivel organizacional y por centros de respons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Según el comportamiento o nivel de actividad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varían con el nivel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variable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cambia en proporción al nivel de actividad o produc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consumo de electricidad en una planta indust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 fij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permanece sin cambios (en un cierto rango de actividad relevante) aunque se registren cambios en el grado de actividad o volum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j: el arriendo de una ofic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stos unitario o total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mporte total de un cos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100.000 cuader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 uni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calcula al dividir el importe total de un costo por la cantidad de unidades en cuest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. Costo de fabricación mensual de un cuaderno será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 de fabricación mensual de 100.000 cuadernos / 100.000 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para el Control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puede ser modificado por el responsable de un departamento o se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osto no controlable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sto que no puede ser modificado por el respons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Otros cos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relev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futuro que será afectado por una decisión a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und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inamovible porque ya se produjo o porque una decisión ya tomada lo hace irremed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incremental – de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yor (menor) costo derivado de la producción de un conjunto adicional de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mar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ir una unidad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histór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que ya se produ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Costo estándar o fut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preestablecido o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Arial"/>
              </a:rPr>
              <a:t>Costos en la empres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empresa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Comercial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compran y venden productos tangibles, sin cambiar su forma básic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tiendas por departamento, distribución, venta por mayo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Servici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porcionan servicios intangi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bufetes de abogados, oficinas de contabilidad, compañías de seguros, bancos, empresa de transporte, agencias de publicidad, empresas basadas en Interne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701"/>
                </a:solidFill>
                <a:latin typeface="Arial"/>
              </a:rPr>
              <a:t>Productivas (Manufactura y Procesos)</a:t>
            </a:r>
            <a:r>
              <a:rPr b="0" lang="es-ES_tradnl" sz="20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adquieren materiales y componentes y los convierten en bienes terminados difer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.: fábricas de alimentos, textiles, automóv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lasificación de los 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 (insumos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n los costos de adquisición de todos los insumos que se convierten en parte d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no de Obr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cluye la remuneración de la mano de obra que se pueda identificar con el objetivo del co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ostos Indirec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Materia Pri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on todos los costos de producción que se consideran parte del objetivo del costo, pero que no se pueden identificar con el objeto de costo en forma económicamente v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invent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de un producto que se consideran un activo cuando se incurre en ellos y después se convierten en un costo de las mercaderías vendidas, al vende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productivas, todos los costos de producción son costos inventariables. Los costos de materias primas directas, de mano de obra directa y los indirectos crean nuevos activos, primero como productos en proceso y después como productos terminad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consiguiente, los costos de producción se incluyen en el trabajo en proceso y en el inventario de bienes terminados (son inventariados) para acumular los costos de crear esos ac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ando se venden los productos terminados, el costo de las mercaderías vendidas se considera un gasto que se compara con los ingresos provenientes de la vent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ostos Inventariables y Costos del Perio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stos del peri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todos los costos en el estado de resultados menos el costo de las mercaderías vendid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costos se tratan como </a:t>
            </a:r>
            <a:r>
              <a:rPr b="0" lang="es-MX" sz="2000" spc="-1" strike="noStrike">
                <a:solidFill>
                  <a:srgbClr val="ffe701"/>
                </a:solidFill>
                <a:latin typeface="Arial"/>
              </a:rPr>
              <a:t>gastos del period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en el que se efectuaron, porque se supone que no beneficiaran a periodos futuros (o no hay evidencia suficiente para concluir que existe benefici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 llevar de inmediato a gastos estos costos, se compara mejor los gastos con los ingre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las empresas del sector manufactura, los costos del periodo incluyen todos los que no son de fabricación (costos de I&amp;D, de distribuc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Prim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l Material directo más el costo de la mano de obra directa.  Es la suma de los dos principales costos del producto o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 =  MD + M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Convers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de la Mano de Obra Directa más  los costos indirectos de fabricación.  Representan el costo necesario para transformar la materia pr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C =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suma de los tres elementos del costo, es el costo que se carga a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= MD + MOD + C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Temari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ptos prev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étodos de cost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ción de costos indire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conven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étodo A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stos y Decisiones de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nálisis Costo – Volumen - Ut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Variables y Margen de Con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Relevantes y Problemas de Dec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Contabilidad para la Planificación y el Control de Gest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s Estándar y Análisis de Desvi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stema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Fó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To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la  sumatoria del costo de producción más todos los gastos necesarios para fabricar el 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T = MD + MOD + CIF + GA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e701"/>
                </a:solidFill>
                <a:latin typeface="Arial"/>
              </a:rPr>
              <a:t>Costo Unitario de Produc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es el costo final de cada unidad producida, resulta de dividir el costo de producción por las unidades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PD / UNIDADES PRODUCI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ormulas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85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Costos de Producció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73520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= Materia Prim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ij = Mano de Obra Directa j usada en el producto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 = Costo Directo del producto i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Pij  +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MOi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F  = Costos Indirectos de Fabricación (ó 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Producción de la Empresa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Di +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l Producto i = CDi +   ai * 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Flujo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terias Prim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en Proces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Prod. Termin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Inic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Consu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I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C. 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r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P          C. Prod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 Pr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.Fin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.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ano de Obr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Resul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eldos  Distrib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Costos Indirec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istri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637000"/>
            <a:ext cx="228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3284640"/>
            <a:ext cx="205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2637000"/>
            <a:ext cx="2208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3933720"/>
            <a:ext cx="0" cy="68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5229360"/>
            <a:ext cx="0" cy="75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393372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2133720"/>
            <a:ext cx="432000" cy="287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4149720"/>
            <a:ext cx="58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627280" y="278100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781360"/>
            <a:ext cx="455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445000"/>
            <a:ext cx="519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3141720"/>
            <a:ext cx="0" cy="23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3141720"/>
            <a:ext cx="3747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32720" y="21337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4149720"/>
            <a:ext cx="288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1916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249228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916280"/>
            <a:ext cx="0" cy="165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3429000"/>
            <a:ext cx="28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01080" y="2133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42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Tipos de Inventari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s de Materiales direct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materiales directos en existencia, listos para entrar al proceso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en proces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parcialmente elaborados, pero no terminados por comple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Inventario de productos termin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productos terminados por completo pero no vend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4280" y="690480"/>
            <a:ext cx="8218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a el año recién terminado se obtuvieron los siguientes da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3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preci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27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tros 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4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inici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s finales de productos termin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1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sa de 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ra el caso expuesto se pi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terminar el costo de producción y de ventas para el año recién termi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ostrar los flujos de existencias en las cuentas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feccionar el Estado de Resultados para el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) Costo de Producción y Costo de Vent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materias primas direct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comprad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2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s primas directas dispon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materias primas direc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inici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eria prima directa utiliza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no de obra direc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indirec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1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stencias finales de productos en proce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3.5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iniciales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6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producción 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83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ductos terminados disponibles para la v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9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istenci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productos termin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4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8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stos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8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rgen de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6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5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ultado antes de impues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3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12.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18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 agente económico autónomo en sus decisiones, que utiliza insumos o factores productivos para transformarlos en bienes y servicios o en otros insu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rincipales factores que ingresan a la empresa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bajo (Mano de Ob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ffff"/>
                </a:solidFill>
                <a:latin typeface="Arial"/>
              </a:rPr>
              <a:t>Las decisiones gerenciales en la empre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funciones principales de la gerencia se pueden resumir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Planific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isualizar el futuro, decidir los objetivos y trazar programas de acción para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Organiz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tegrar dinámica y racionalmente los recursos de una organización, para alcanzar resultados previ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Dirigi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conducir y motivar grupos humanos hacia el logro de objetivos y resultados, con determinados recur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ontrol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Verificar que los resultados están de acuerdo a lo establec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Arial"/>
              </a:rPr>
              <a:t>Requerimientos para la toma de decisi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una de las funciones requiere, en todo momento, de una adecuada toma de deci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toma de decisiones debe considerar y basarse, en dos aspectos fundam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formación cuantitativa y cualit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Rol de la Contabilida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provee </a:t>
            </a:r>
            <a:r>
              <a:rPr b="0" lang="es-ES" sz="2400" spc="-1" strike="noStrike">
                <a:solidFill>
                  <a:srgbClr val="ffe701"/>
                </a:solidFill>
                <a:latin typeface="Arial"/>
              </a:rPr>
              <a:t>información cuantitativ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la que junto con información cualitativa, ayudará a formar un juicio sobre el o los cursos de acción a segu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tabilidad juega su rol más importante en los campos de la Planificación y e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-119160"/>
          <a:ext cx="9144000" cy="697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9160"/>
                    <a:ext cx="9144000" cy="697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ff"/>
                </a:solidFill>
                <a:latin typeface="Arial"/>
              </a:rPr>
              <a:t>Contabilidad Financiera, Administrativa y de Costo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Financier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presentar informes a terce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registra las operaciones de la empresa y proporciona estados financieros basados en los Principios Contables Generalmente Aceptados (PCG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Administrativ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o Ger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la presentación de informes internos e insiste en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, que ayuda a los gerentes a tomar decisiones para cumplir las metas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Contabilidad de Cost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de y presenta información financiera y no financiera que se relaciona con el costo de adquirir o consumir recursos por parte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porciona información a la Contabilidad Administrativa y Financie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1:35:26Z</dcterms:created>
  <dc:creator>IVAN ALVAREZ VALDES</dc:creator>
  <dc:description/>
  <dc:language>en-US</dc:language>
  <cp:lastModifiedBy>Ivan Alvarez</cp:lastModifiedBy>
  <dcterms:modified xsi:type="dcterms:W3CDTF">2007-09-29T23:03:37Z</dcterms:modified>
  <cp:revision>66</cp:revision>
  <dc:subject/>
  <dc:title>Diapositiva 1</dc:title>
</cp:coreProperties>
</file>