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D003-5F21-4C63-BDB0-6AF10AC83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9579-C242-4949-8151-D5F0980A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4CD1-0844-46FD-8FAA-7D939383F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AB49-7175-458E-AD2C-7AE95E219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4D26-EC81-4660-928C-3E4F3443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3FCD-7D0D-4BB0-AE2E-5B308D7B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8ECD-E229-48BE-A8A5-94026057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88D8-5EF6-49BF-BA8B-B10D8478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91F3-09A1-40F2-ABF6-CA83C9FD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92F5-73E0-440B-B004-10399B15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379B-CF56-4D4B-8F80-6F508B06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7D6D-9FBF-4556-AA63-7A291F25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2456-D4AE-45AA-8B51-A545665323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"/>
              </a:rPr>
              <a:t>Contabilidad Gerencia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ván Álvarez V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24000" y="189000"/>
          <a:ext cx="8569080" cy="6480000"/>
        </p:xfrm>
        <a:graphic>
          <a:graphicData uri="http://schemas.openxmlformats.org/drawingml/2006/table">
            <a:tbl>
              <a:tblPr/>
              <a:tblGrid>
                <a:gridCol w="4284360"/>
                <a:gridCol w="4284720"/>
              </a:tblGrid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Arial Narrow"/>
                          <a:ea typeface="Times New Roman"/>
                        </a:rPr>
                        <a:t>CONTABILIDAD FINANCIER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Arial Narrow"/>
                          <a:ea typeface="Times New Roman"/>
                        </a:rPr>
                        <a:t>CONTABILIDAD ADMINISTRATIV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94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Genera información para usuarios externos a la empresa:  accionistas, Estado, acreedores, comunidad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Genera información para la toma de decisiones internas.  Es usada básicamente por la administr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Registra hechos pasad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Centra su punto de atención en la prospección, en el análisis de hechos futur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Debe prepararse teniendo en cuenta Principios de Contabilidad Generalmente Aceptados (PCG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No cuenta con principios que reglamenten su preparación y present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Es obligatoria su prepar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No es obligatorio preparar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Uno de sus objetivos es determinar la utilidad obteni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Su objetivo final no es el cálculo de utilida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Debe abarcar toda la organiz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Puede prepararse para segmentos de la organiz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Su preparación no se apoya mucho en otras disciplin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Se apoya en disciplinas tales como la estadística, economía, investigación de operaciones, finanzas,  entre otra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contabilidad proporciona información para prepara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es externos para inversionis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es internos de rutina para decisiones gerenci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es internos no rutinarios para decisiones gerenci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contabilidad es un medio de ayuda a la gerencia par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ministrar y coordinar las actividades o áreas funcionales de las que son respons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4160" y="404640"/>
            <a:ext cx="78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ff00"/>
                </a:solidFill>
                <a:latin typeface="Arial"/>
              </a:rPr>
              <a:t>Sistemas de Contabilidad: propósitos princip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ff00"/>
                </a:solidFill>
                <a:latin typeface="Arial"/>
              </a:rPr>
              <a:t>Contabilidad de Costos</a:t>
            </a:r>
            <a:r>
              <a:rPr b="0" lang="es-MX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ff00"/>
                </a:solidFill>
                <a:latin typeface="Arial"/>
              </a:rPr>
              <a:t>(1)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ama de la contabilidad que analiza cómo se distribuyen los costos que genera una empresa ent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diversos productos que fabrica/comercializa o los servicios que ofre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ntre los diferentes departamentos de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ntre sus cl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 ello, se quiere determinar cuál es el costo de cada producto, departamento, o cliente y la rentabilidad que se obtiene de c/u de ell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ff00"/>
                </a:solidFill>
                <a:latin typeface="Arial"/>
              </a:rPr>
              <a:t>Contabilidad de Costos (2)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contabilidad de costos permi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ocer en que costos incurre la empresa en cada fase de elaboración de sus produc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Valorar las existencias de productos en curso, en proceso y   función de los costos en los que hasta el momento se hayan gener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tectar posibles actividades, productos o clientes en los que la empresa pierde din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Fijar los precios de venta conociendo que margen se obtiene de cada produc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ffff"/>
                </a:solidFill>
                <a:latin typeface="Arial"/>
              </a:rPr>
              <a:t>Terminología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Gas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 un concepto de la Contabilidad Financier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 una reducción del patrimonio, derivada del uso de activos o del incremento de pasivos como parte del proceso de venta de bienes o prestación de servicios a los clien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 desembolso que realiza la empresa y que afecta directamente al resultado disminuyendo la utilida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j: Remuneraciones de Personal, arrien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s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 un concepto de la Contabilidad de Cos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 un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acrificio de recursos que se hace con la esperanza de obtener algún beneficio futu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or lo general, se mide como el importe monetario que se debe pagar para adquirir bienes y servic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j. Uso de Materias Pri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ffff"/>
                </a:solidFill>
                <a:latin typeface="Arial"/>
              </a:rPr>
              <a:t>Terminología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sumo de recursos en el cual el beneficio se obtendrá a lo largo de varios periodo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arte del gasto no consumido actualmente, pero que lo será en el futu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j. Activo inmovilizado, computad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Egre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alida de dinero desde la Caja (Tesorerí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j. Pago de suel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ff00"/>
                </a:solidFill>
                <a:latin typeface="Arial"/>
              </a:rPr>
              <a:t>Objeto de Cost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pósito o actividad para la cual se miden en forma separada los cost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ueden ser Objeto de Cost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roduc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rvi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royec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ar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ctiv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Departam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os costos se eligen en función de la decisión que se desea tom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ff00"/>
                </a:solidFill>
                <a:latin typeface="Arial"/>
              </a:rPr>
              <a:t>Sistema de coste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sidera dos etapas básicas: acumulación y asign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e701"/>
                </a:solidFill>
                <a:latin typeface="Arial"/>
              </a:rPr>
              <a:t>Acumulación del costo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 es la recopilación de información de costos de una forma organizada, mediante un sistema de contabi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e701"/>
                </a:solidFill>
                <a:latin typeface="Arial"/>
              </a:rPr>
              <a:t>Asignación de costo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 término general que abarc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identificación de los costos acumulados con un objeto de cos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l prorrateo de los costos acumulados a un objeto de cos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Clasificación de los Costos</a:t>
            </a:r>
            <a:r>
              <a:rPr b="0" lang="es-ES_tradnl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costos se clasifican en función 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lación directa o indirecta con el objeto de cos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iveles de actividad o volum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Unitario y to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trol de cos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tros para la toma de deci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Arial"/>
              </a:rPr>
              <a:t>Relación directa o indirecta con el objeto de cost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 se relacionan directa o indirectamente con el objeto de cost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ostos direc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n aquellos que se relacionan con un objeto de costo en particular y se identifican de una forma económicamente viable (eficaz en cuanto a costos).  Ej. El costo de la lata de una bebi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ostos indirec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relacionan con el objeto del costo en particular, pero no se identifican con el de una forma económicamente viable (eficaz en cuanto a costos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j. El costo del personal de control calidad que verifica múlti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uctos en la embotelladora es un costo indirecto en una la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 el término </a:t>
            </a:r>
            <a:r>
              <a:rPr b="0" lang="en-US" sz="2000" spc="-1" strike="noStrike">
                <a:solidFill>
                  <a:srgbClr val="ffe701"/>
                </a:solidFill>
                <a:latin typeface="Arial"/>
              </a:rPr>
              <a:t>prorrate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l costo se describe la asignación de l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tos indirectos al objetivo del costo en particul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Arial"/>
              </a:rPr>
              <a:t>Objetivos del curso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alorizar los recursos empleados en la empresa, y las decisiones que pueden ser adoptadas con esta inform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eparar planes de negocios, y proyectar la posición financiera de la empresa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valuar la gestión a nivel organizacional y por centros de respons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Arial"/>
              </a:rPr>
              <a:t>Según el comportamiento o nivel de actividad.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i varían con el nivel de produ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sto variable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 cambia en proporción al nivel de actividad o producc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j: El consumo de electricidad en una planta industri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sto fijo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 permanece sin cambios (en un cierto rango de actividad relevante) aunque se registren cambios en el grado de actividad o volum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j: el arriendo de una ofici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ostos unitario o totale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osto to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importe total de un cost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j. Costo de fabricación mensual de 100.000 cuadern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osto unitar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se calcula al dividir el importe total de un costo por la cantidad de unidades en cuest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j. Costo de fabricación mensual de un cuaderno será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to de fabricación mensual de 100.000 cuadernos / 100.000 un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Costos para el Control de costo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Costo controlable: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sto que puede ser modificado por el responsable de un departamento o sec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Costo no controlable: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sto que no puede ser modificado por el respons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Otros costos para la toma de decisione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Costo releva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futuro que será afectado por una decisión a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Costo hundi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inamovible porque ya se produjo o porque una decisión ya tomada lo hace irremedi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Costo incremental – decremen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ayor (menor) costo derivado de la producción de un conjunto adicional de unida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Costo marg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de producir una unidad adi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Costo histór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que ya se produj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Costo estándar o futu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preestablecido o futu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ffff"/>
                </a:solidFill>
                <a:latin typeface="Arial"/>
              </a:rPr>
              <a:t>Costos en la empresa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Tipos de empresa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e701"/>
                </a:solidFill>
                <a:latin typeface="Arial"/>
              </a:rPr>
              <a:t>Comercial</a:t>
            </a:r>
            <a:r>
              <a:rPr b="0" lang="es-ES_tradnl" sz="2000" spc="-1" strike="noStrike">
                <a:solidFill>
                  <a:srgbClr val="ffe701"/>
                </a:solidFill>
                <a:latin typeface="Arial"/>
              </a:rPr>
              <a:t>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compran y venden productos tangibles, sin cambiar su forma básic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j.: tiendas por departamento, distribución, venta por mayor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e701"/>
                </a:solidFill>
                <a:latin typeface="Arial"/>
              </a:rPr>
              <a:t>Servici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proporcionan servicios intangib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j.: bufetes de abogados, oficinas de contabilidad, compañías de seguros, bancos, empresa de transporte, agencias de publicidad, empresas basadas en Internet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e701"/>
                </a:solidFill>
                <a:latin typeface="Arial"/>
              </a:rPr>
              <a:t>Productivas (Manufactura y Procesos)</a:t>
            </a:r>
            <a:r>
              <a:rPr b="0" lang="es-ES_tradnl" sz="2000" spc="-1" strike="noStrike">
                <a:solidFill>
                  <a:srgbClr val="ffe701"/>
                </a:solidFill>
                <a:latin typeface="Arial"/>
              </a:rPr>
              <a:t>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adquieren materiales y componentes y los convierten en bienes terminados diferen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j.: fábricas de alimentos, textiles, automóvile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Clasificación de los Costos de Producció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ostos Direct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Materia Prima</a:t>
            </a:r>
            <a:r>
              <a:rPr b="0" lang="en-US" sz="2000" spc="-1" strike="noStrike">
                <a:solidFill>
                  <a:srgbClr val="ffe701"/>
                </a:solidFill>
                <a:latin typeface="Arial"/>
              </a:rPr>
              <a:t> (insumos)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on los costos de adquisición de todos los insumos que se convierten en parte del objetivo del cos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Mano de Obr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incluye la remuneración de la mano de obra que se pueda identificar con el objetivo del cos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ostos Indirect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Materia Pri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son todos los costos de producción que se consideran parte del objetivo del costo, pero que no se pueden identificar con el objeto de costo en forma económicamente vi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Costos Inventariables y Costos del Period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stos inventari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on todos los costos de un producto que se consideran un activo cuando se incurre en ellos y después se convierten en un costo de las mercaderías vendidas, al vender el produc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ara las empresas productivas, todos los costos de producción son costos inventariables. Los costos de materias primas directas, de mano de obra directa y los indirectos crean nuevos activos, primero como productos en proceso y después como productos terminad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or consiguiente, los costos de producción se incluyen en el trabajo en proceso y en el inventario de bienes terminados (son inventariados) para acumular los costos de crear esos activ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uando se venden los productos terminados, el costo de las mercaderías vendidas se considera un gasto que se compara con los ingresos provenientes de la vent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Costos Inventariables y Costos del Period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stos del perio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on todos los costos en el estado de resultados menos el costo de las mercaderías vendid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tos costos se tratan como </a:t>
            </a:r>
            <a:r>
              <a:rPr b="0" lang="es-MX" sz="2000" spc="-1" strike="noStrike">
                <a:solidFill>
                  <a:srgbClr val="ffe701"/>
                </a:solidFill>
                <a:latin typeface="Arial"/>
              </a:rPr>
              <a:t>gastos del periodo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en el que se efectuaron, porque se supone que no beneficiaran a periodos futuros (o no hay evidencia suficiente para concluir que existe beneficio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l llevar de inmediato a gastos estos costos, se compara mejor los gastos con los ingres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ara las empresas del sector manufactura, los costos del periodo incluyen todos los que no son de fabricación (costos de I&amp;D, de distribució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Arial"/>
              </a:rPr>
              <a:t>Fórmulas de costo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e701"/>
                </a:solidFill>
                <a:latin typeface="Arial"/>
              </a:rPr>
              <a:t>Costo Prim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es el costo del Material directo más el costo de la mano de obra directa.  Es la suma de los dos principales costos del producto o servic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CP =  MD + M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e701"/>
                </a:solidFill>
                <a:latin typeface="Arial"/>
              </a:rPr>
              <a:t>Costo de Conversió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es el costo de la Mano de Obra Directa más  los costos indirectos de fabricación.  Representan el costo necesario para transformar la materia pri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CC = MOD + CI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e701"/>
                </a:solidFill>
                <a:latin typeface="Arial"/>
              </a:rPr>
              <a:t>Costo de Producció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es la suma de los tres elementos del costo, es el costo que se carga a las unidades produci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CPD = MD + MOD + CI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Arial"/>
              </a:rPr>
              <a:t>Temario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00"/>
                </a:solidFill>
                <a:latin typeface="Arial"/>
              </a:rPr>
              <a:t>Contabilidad de Co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ceptos prev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étodos de coste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signación de costos indirec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étodo convenc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étodo AB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00"/>
                </a:solidFill>
                <a:latin typeface="Arial"/>
              </a:rPr>
              <a:t>Costos y Decisiones de 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nálisis Costo – Volumen - Util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s Variables y Margen de Contribu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s Relevantes y Problemas de Dec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00"/>
                </a:solidFill>
                <a:latin typeface="Arial"/>
              </a:rPr>
              <a:t>Contabilidad para la Planificación y el Control de Gest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esupues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s Estándar y Análisis de Desvi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istemas de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Arial"/>
              </a:rPr>
              <a:t>Fórmulas de costo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e701"/>
                </a:solidFill>
                <a:latin typeface="Arial"/>
              </a:rPr>
              <a:t>Costo Total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es la  sumatoria del costo de producción más todos los gastos necesarios para fabricar el produc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CT = MD + MOD + CIF + GAS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e701"/>
                </a:solidFill>
                <a:latin typeface="Arial"/>
              </a:rPr>
              <a:t>Costo Unitario de Producció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es el costo final de cada unidad producida, resulta de dividir el costo de producción por las unidades produci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CPD / UNIDADES PRODUCID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Formulas de costo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69850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Arial"/>
              </a:rPr>
              <a:t>Costos de Producció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735200"/>
            <a:ext cx="8280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Pij = Materia Prima j usada en el producto 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Oij = Mano de Obra Directa j usada en el producto 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Di  = Costo Directo del producto i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Pij  +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Σ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MOij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IF  = Costos Indirectos de Fabricación (ó C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de Producción de la Empresa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Σ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Di + 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del Producto i = CDi +   ai * 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30492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Flujo de Existen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Materias Prima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Prod. en Proceso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Prod. Termin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nv.Inic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 Consumo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.I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.I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C. Ven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ompra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P          C. Prod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. Pro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nv.Fina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O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.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.F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Mano de Obra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Result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Sueldos  Distrib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.Ven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Costos Indirec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I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Distrib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2637000"/>
            <a:ext cx="2284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2000" y="3284640"/>
            <a:ext cx="2055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10280" y="1906560"/>
            <a:ext cx="0" cy="1293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12000" y="2637000"/>
            <a:ext cx="2208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87280" y="3933720"/>
            <a:ext cx="0" cy="684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87280" y="5229360"/>
            <a:ext cx="0" cy="755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20000" y="3933720"/>
            <a:ext cx="0" cy="64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27280" y="2133720"/>
            <a:ext cx="432000" cy="287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50920" y="4149720"/>
            <a:ext cx="587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627280" y="2781000"/>
            <a:ext cx="0" cy="1368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27280" y="2781360"/>
            <a:ext cx="4557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5445000"/>
            <a:ext cx="519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771640" y="3141720"/>
            <a:ext cx="0" cy="2303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71640" y="3141720"/>
            <a:ext cx="374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532720" y="21337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51640" y="4149720"/>
            <a:ext cx="2887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32000" y="191628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48360" y="2492280"/>
            <a:ext cx="718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24360" y="1916280"/>
            <a:ext cx="0" cy="1657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51640" y="3429000"/>
            <a:ext cx="28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101080" y="213372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51640" y="342900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Tipos de Inventario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Inventarios de Materiales direct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materiales directos en existencia, listos para entrar al proceso de produ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Inventario de productos en proces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productos parcialmente elaborados, pero no terminados por comple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Inventario de productos terminad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productos terminados por completo pero no vendi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14280" y="690480"/>
            <a:ext cx="82184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ara el año recién terminado se obtuvieron los siguientes dat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Gastos de administración y ven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2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s primas directas comprad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22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ano de obra direct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18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Ven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15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istencias iniciales de materias primas direc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3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istencias finales de materias primas direc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2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istencias iniciales de productos en proces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14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istencias finales de productos en proces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13.5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precia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27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tros costos indirect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14.5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istencias iniciales de productos terminad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6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istencias finales de productos terminad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4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Gastos financier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1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asa de impuesto a la rent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ara el caso expuesto se pi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terminar el costo de producción y de ventas para el año recién termin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ostrar los flujos de existencias en las cuentas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nfeccionar el Estado de Resultados para el añ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) Costo de Producción y Costo de Vent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xistencias iniciales de materias primas directas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3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terias primas directas comprad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22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terias primas directas disponibl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xistencias finales de materias primas direc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(2.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teria prima directa utilizad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3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xistencias iniciales de productos en proces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4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teria prima directa utilizad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3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no de obra direct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8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stos indirect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1.5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xistencias finales de productos en proces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(13.5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sto de producción total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83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xistencias iniciales de productos terminad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6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sto de producción total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83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ductos terminados disponibles para la vent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89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xistencias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final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de productos terminad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(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4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.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sto de ven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8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gresos por ven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5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stos de ven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(85.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rgen de ven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6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Gastos de administración y ven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(25.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4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(10.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sultado antes de impuest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3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mpuesto a la Rent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(12.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18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ff00"/>
                </a:solidFill>
                <a:latin typeface="Arial"/>
              </a:rPr>
              <a:t>La empresa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un agente económico autónomo en sus decisiones, que utiliza insumos o factores productivos para transformarlos en bienes y servicios o en otros insum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s principales factores que ingresan a la empresa s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terias Pri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abajo (Mano de Obr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ecnolog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ne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est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ffff"/>
                </a:solidFill>
                <a:latin typeface="Arial"/>
              </a:rPr>
              <a:t>Las decisiones gerenciales en la empresa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funciones principales de la gerencia se pueden resumir 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Planifica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visualizar el futuro, decidir los objetivos y trazar programas de acción para la organiz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Organiza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integrar dinámica y racionalmente los recursos de una organización, para alcanzar resultados previs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Dirigi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conducir y motivar grupos humanos hacia el logro de objetivos y resultados, con determinados recurs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Controla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Verificar que los resultados están de acuerdo a lo estableci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Arial"/>
              </a:rPr>
              <a:t>Requerimientos para la toma de decisione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da una de las funciones requiere, en todo momento, de una adecuada toma de decis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toma de decisiones debe considerar y basarse, en dos aspectos fundamental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formación cuantitativa y cualitati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Ju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Rol de la Contabilida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Contabilidad provee </a:t>
            </a:r>
            <a:r>
              <a:rPr b="0" lang="es-ES" sz="2400" spc="-1" strike="noStrike">
                <a:solidFill>
                  <a:srgbClr val="ffe701"/>
                </a:solidFill>
                <a:latin typeface="Arial"/>
              </a:rPr>
              <a:t>información cuantitativ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 la que junto con información cualitativa, ayudará a formar un juicio sobre el o los cursos de acción a segui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Contabilidad juega su rol más importante en los campos de la Planificación y el Contr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-119160"/>
          <a:ext cx="9144000" cy="697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19160"/>
                    <a:ext cx="9144000" cy="697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ffff"/>
                </a:solidFill>
                <a:latin typeface="Arial"/>
              </a:rPr>
              <a:t>Contabilidad Financiera, Administrativa y de Costo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ntabilidad Financiera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u objetivo es presentar informes a tercer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ide y registra las operaciones de la empresa y proporciona estados financieros basados en los Principios Contables Generalmente Aceptados (PCGA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ntabilidad Administrativa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o Geren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u objetivo es la presentación de informes internos e insiste en el futu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ide y presenta información financiera y no financiera, que ayuda a los gerentes a tomar decisiones para cumplir las metas de la organizac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ntabilidad de Costo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ide y presenta información financiera y no financiera que se relaciona con el costo de adquirir o consumir recursos por parte de la organiz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roporciona información a la Contabilidad Administrativa y Financier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01:35:26Z</dcterms:created>
  <dc:creator>IVAN ALVAREZ VALDES</dc:creator>
  <dc:description/>
  <dc:language>en-US</dc:language>
  <cp:lastModifiedBy>Ivan Alvarez</cp:lastModifiedBy>
  <dcterms:modified xsi:type="dcterms:W3CDTF">2007-09-29T23:03:37Z</dcterms:modified>
  <cp:revision>66</cp:revision>
  <dc:subject/>
  <dc:title>Diapositiva 1</dc:title>
</cp:coreProperties>
</file>