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8952-5418-4BF3-9890-EBB4832EFB3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6C92-7B86-4C23-9176-83F843B08DA6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1054-C775-4465-B3C0-A68A72F9ADCF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2D3B-B224-4F18-90A3-3CC0F95F2029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85C5-E875-4AB0-9EEC-9AE93FC4954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E38-F001-4EA0-8752-B2411197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B53-31CD-4258-86B0-8060D922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03EB-A70A-4C2C-8222-0FF133A2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4BC-5C69-4CBB-930D-2E7902C0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E3C6-F404-4B0C-93D6-8C23E4FD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E2C-A620-4276-AF8C-AE16C2CA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D53-0326-4954-8671-889FBE85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4F8-157C-47CA-9C01-BE7568FA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138-D497-4167-BE11-27540FFF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2EF-372A-43F8-9DC6-16E4751B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18C-D3EF-4D5E-8B24-2DD69F10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D6F-09E1-4F67-83DB-B6E181DF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1FE2-3D9E-4840-8C85-C20446445F2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Primera Parte: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Tahoma"/>
              </a:rPr>
              <a:t>Contabilidad Financie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apítulo 10: Análisis Financier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 se consideran las siguientes familias de rat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quidez: Ayudan a evaluar la capacidad de la empresa para pagar oportunamente sus obligaciones de cort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deudamiento: Ayudan a evaluar la importancia de la deuda y su estructura como proporción de los recursos totales empleados por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: Ayudan a evaluar el uso de los activos y las políticas de pago y cob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ntabilidad: Miden la ganancia en relación a la inver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enzaremos viendo los tres primeros grup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534960" y="189000"/>
            <a:ext cx="8136000" cy="9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Liquid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755640" y="1484280"/>
                <a:ext cx="5761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lación de Liquidez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755640" y="3068640"/>
                <a:ext cx="662472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ueba áci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- Existenci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Circulant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84360" y="4508640"/>
                <a:ext cx="830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bertura de Gast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ía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 Circulante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Endeudamiento o solv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00000" y="1557360"/>
                <a:ext cx="496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 endeudamien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900000" y="2997360"/>
                <a:ext cx="49690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Deuda/Patrimon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900000" y="4365720"/>
                <a:ext cx="583272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Estructura Deud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sivo Largo Plaz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s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71640" y="5589720"/>
                <a:ext cx="7777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azón Cobertura de Interese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astos Financie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Gastos Financiero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476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ios de Activ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755640" y="1341360"/>
                <a:ext cx="61927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istencia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755640" y="2349360"/>
                <a:ext cx="5689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ías de Existencia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istencias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de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4360" y="3429000"/>
                <a:ext cx="66243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cobr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cobr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ngreso de la explotació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4360" y="5516640"/>
                <a:ext cx="6408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ación de activo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gresos de la explot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84360" y="4437000"/>
                <a:ext cx="7554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ríodo medio de pag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entas por pagar x 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to explotación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Ad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y Vt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828648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ntiende por rentabilidad la ganancias que produce un activo en relación al monto invert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el patrimonio mide las ganancias que reciben los dueños del patrimonio de la empresa en relación a su propia inversión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trimon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7628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22780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entabilidad sobre activos, en cambio, mide las ganancias que reciben todos los que tienen intereses en la empresa (pasivo y patrimonio) en relación a los montos invertidos, es dec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sultado del Ejercicio + Gastos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os To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14360"/>
            <a:ext cx="8351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ción y Análisis de la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320" y="1557000"/>
            <a:ext cx="906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hay dos empresas con igual rentabilidad esperada, pero una es más riesgosa que la otra, entonces un inversionista averso al riesgo preferiría la menos riesg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enari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A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mpresa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nt.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b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15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3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(R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sv. Estánda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53%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4.1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riesgo de un activo se mide por la desviación estándar de los retornos que gen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supuesto básico de las finanzas es que los inversionistas tienen aversión al riesgo. Es decir, si tuvieran que elegir entre las empresas A y B elegirían la A, pues para una misma rentabilidad esperada tiene menos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 ello es que los activos más riesgosos tiene mayores rentabilidades esperadas (por ejemplo, acciones versus pagarés del Banco Centr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780552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Riesgo y Rentab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64680" y="1701720"/>
            <a:ext cx="8528040" cy="49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entras mayor es el endeudamiento de una empresa, mayor es la rentabilidad del patrimonio y mayor es el riesgo que asumen los accionistas. Esto es lo que se conoce como “Apalancamiento Financier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ongamos que una empresa tiene activos por 10.000 y su resultado operacional puede ser -1.000, +1.000 o +3.000 con iguales probabilidades. Veamos cómo cambia la rentabilidad del patrimonio y su desviación estándar en función del nivel de endeudamiento. Supondremos que la empresa se endeuda al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440" y="2060640"/>
            <a:ext cx="81342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8000" y="3314880"/>
            <a:ext cx="8893080" cy="2346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8046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analizar los estados financieros de una empresa se busca evaluar tanto el desempeño económica como el desempeño financi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análisis de los estados financieros es de interés tanto para la administración de una empresa como para agentes externos a el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ción: En qué medida se están cumpliendo los objetivos tra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gentes Externos: Bancos y acreedores (evaluar la capacidad de pago); y accionistas (rentabilidad versus riesg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78469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8000" y="3141720"/>
            <a:ext cx="9036000" cy="238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125440"/>
            <a:ext cx="8207280" cy="94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3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280" y="3500280"/>
            <a:ext cx="8893440" cy="2345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8207280" cy="9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4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rimonio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da = 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549600"/>
            <a:ext cx="8821800" cy="2327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64680" y="1773000"/>
            <a:ext cx="8528040" cy="44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 = Patrimonio; D = Deuda; U = Utilidad del ejercicio; Rd = tasa de interés de la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Utilidad + Intereses)/(Activ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(Rp*P + Rd*D)/(D+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 = Rp*P/(D+P) + Rd*D/(P+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p = Ra + (Ra -Rd)*D/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cir, a mayor deuda mayor rentabilidad del patrimonio, siempre que Ra &gt; 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841040"/>
            <a:ext cx="8353440" cy="468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54936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ción entre Deuda, Riesgo y Ren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4000" y="1268280"/>
                <a:ext cx="7343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95280" y="3419640"/>
                <a:ext cx="77756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AI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 Total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74760" y="254016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RAII: Resultado antes de impuestos e inter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8360" y="4992840"/>
                <a:ext cx="8136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Activo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 Explotació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 flipH="1">
            <a:off x="4858920" y="4292640"/>
            <a:ext cx="289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4365720"/>
            <a:ext cx="3585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ios de Rentabi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640" y="1484280"/>
                <a:ext cx="71280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nta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sobre Patrimonio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187280" y="2852640"/>
                <a:ext cx="6446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sultado 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nta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iv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atrimonio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9640" y="4734000"/>
                <a:ext cx="799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rgen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Rotación Activos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Apalancamient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 flipH="1">
            <a:off x="2339640" y="3933720"/>
            <a:ext cx="86364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43280" y="3860640"/>
            <a:ext cx="144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386064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T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3416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ITDA (Earnings Before Interest, taxes, depreciation and amortization) =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sultado Operacional + Depreciación del Ejerc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 una estimación de la caja generada por las actividades operacionales (del gi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suele construir razones usando el EBIT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BITDA / Gast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7630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mitaciones del uso de razones financier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ólo usa información co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empre los valores contables reflejan valores de mercado. Es bueno complementar el análisis con información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de cuentas por cobrar que es recup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estado de las exist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85920" indent="282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ál es el valor de mercado de los activos fi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90000"/>
              </a:lnSpc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a datos históricos. Es bueno complementarlo con información que permita proyect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álisis Patrimon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43912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e al análisis de los valores que muestra el Balance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busca evaluar aspectos tales c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ción de liquidez o capacidad de p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idad y cantidad del endeud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ión de los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técnicas de análisis más comunes son el análisis estático, el análisis dinámico y el análisis de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439120" cy="518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un año determinado, se calcula qué porcentaje representa cada grupo patrimonial del total del ac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n sólo las grandes agrupaciones de los activos y pas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de la composición de activos y la estructura de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maño del activo circulante en relación al pasivo circul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capital propio y deu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ción entre activos fijos y financiamiento de largo pla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640720" cy="2503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) Análisis Patrimonial Es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3963960"/>
            <a:ext cx="86407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784836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analiza la evolución de los principales grupos patrimoniales a través de los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e una visión general los cambios de tendencias en cuanto a la composición de activos y la estructura de financi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mente se analiza la evolución en unidades monetarias, en porcentaje respecto al total de activos y en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97708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26028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) Análisis Patrimonial 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395360"/>
            <a:ext cx="6048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f6f8"/>
            </a:gs>
            <a:gs pos="100000">
              <a:srgbClr val="c5d3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) Análisis a través de Rat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9476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siste en la comparación de ratios o razones calculadas a partir de los valores de los estados financi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pongamos que una empresa tiene una rentabilidad de 10%. ¿Es esto bueno o ma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8a3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ra poder responder esa pregunta se debe usar Patrones de Compar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jetivos o estándare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volución histó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medios secto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atios de los competidore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Michel</cp:lastModifiedBy>
  <cp:lastPrinted>1999-03-18T21:04:13Z</cp:lastPrinted>
  <dcterms:modified xsi:type="dcterms:W3CDTF">2007-09-10T23:46:59Z</dcterms:modified>
  <cp:revision>14</cp:revision>
  <dc:subject/>
  <dc:title>Análisis Financiero</dc:title>
</cp:coreProperties>
</file>