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180E-57BB-44F9-849E-4C4079F89A3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B18-689A-4493-8355-74F17545712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1C1C-DA46-4F0E-AB75-F8063853D8F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F572-C842-4056-8654-2A3869AA81B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DE6C-C884-4AED-BD5C-52D695E9E89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9C8-835A-41C7-A647-3A029075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A0E-4BF8-4828-B663-41B81C80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C1F-4C73-497D-B151-64D46550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F32-AEAD-44CD-B047-058A5DD7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3A5-619B-4748-87F7-9E90E7B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F26-D91D-45A4-B603-183AF4DA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DFC-6182-47F7-8845-66448222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CCD-7977-4F22-990F-2221DFD0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6EE-BE3D-4E64-90DF-6EA4BA0D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A17-435E-43A4-931A-6BCD609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400-7148-489B-A374-254B4F16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27D-F038-49B5-AAB9-8B209940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7358-02BF-4549-85A0-909905B623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apítulo 10: Análisis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 se consideran las siguientes familias de rat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quidez: Ayudan a evaluar la capacidad de la empresa para pagar oportunamente sus obligacione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deudamiento: Ayudan a evaluar la importancia de la deuda y su estructura como proporción de los recursos totales empleados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: Ayudan a evaluar el uso de los activos y las políticas de pago y cob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ntabilidad: Miden la ganancia en relación a la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enzaremos viendo los tres primeros gru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4960" y="189000"/>
            <a:ext cx="81360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Liquid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1484280"/>
                <a:ext cx="5761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lación de Liquide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55640" y="3068640"/>
                <a:ext cx="6624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ueba áci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- Existenci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4360" y="4508640"/>
                <a:ext cx="830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bertura de Gast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ía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Endeudamiento o solv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00000" y="1557360"/>
                <a:ext cx="496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 endeudamien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00000" y="2997360"/>
                <a:ext cx="4969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uda/Patrimon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00000" y="4365720"/>
                <a:ext cx="58327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Estructura Deu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Largo Plaz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71640" y="5589720"/>
                <a:ext cx="7777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Cobertura de Interes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astos Financie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stos Financiero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Activ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5640" y="1341360"/>
                <a:ext cx="6192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istenci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55640" y="2349360"/>
                <a:ext cx="5689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ías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istencias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4360" y="3429000"/>
                <a:ext cx="662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cobr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cobr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greso de la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4360" y="5516640"/>
                <a:ext cx="6408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activo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gresos de la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4437000"/>
                <a:ext cx="7554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pag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pag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explotación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82864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ntiende por rentabilidad la ganancias que produce un activo en relación al monto inver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el patrimonio mide las ganancias que reciben los dueños del patrimonio de la empresa en relación a su propia inversión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7628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22780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activos, en cambio, mide las ganancias que reciben todos los que tienen intereses en la empresa (pasivo y patrimonio) en relación a los montos invertidos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 + Gas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1436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557000"/>
            <a:ext cx="906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hay dos empresas con igual rentabilidad esperada, pero una es más riesgosa que la otra, entonces un inversionista averso al riesgo preferiría la menos riesg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enar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A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(R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v. Estánd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53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4.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 de un activo se mide por la desviación estándar de los retornos que gen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upuesto básico de las finanzas es que los inversionistas tienen aversión al riesgo. Es decir, si tuvieran que elegir entre las empresas A y B elegirían la A, pues para una misma rentabilidad esperada tiene menos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llo es que los activos más riesgosos tiene mayores rentabilidades esperadas (por ejemplo, acciones versus pagarés del Banco Cent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4680" y="1701720"/>
            <a:ext cx="8528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mayor es el endeudamiento de una empresa, mayor es la rentabilidad del patrimonio y mayor es el riesgo que asumen los accionistas. Esto es lo que se conoce como “Apalancamiento Financier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tiene activos por 10.000 y su resultado operacional puede ser -1.000, +1.000 o +3.000 con iguales probabilidades. Veamos cómo cambia la rentabilidad del patrimonio y su desviación estándar en función del nivel de endeudamiento. Supondremos que la empresa se endeuda al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2060640"/>
            <a:ext cx="81342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3314880"/>
            <a:ext cx="8893080" cy="23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046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analizar los estados financieros de una empresa se busca evaluar tanto el desempeño económica como el desempeño financi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nálisis de los estados financieros es de interés tanto para la administración de una empresa como para agentes externos a el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: En qué medida se están cumpliendo los objetivos tra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ntes Externos: Bancos y acreedores (evaluar la capacidad de pago); y accionistas (rentabilidad versus ries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3141720"/>
            <a:ext cx="9036000" cy="238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125440"/>
            <a:ext cx="8207280" cy="9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500280"/>
            <a:ext cx="8893440" cy="234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549600"/>
            <a:ext cx="8821800" cy="232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4680" y="1773000"/>
            <a:ext cx="8528040" cy="44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= Patrimonio; D = Deuda; U = Utilidad del ejercicio; Rd = tasa de interés de la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Utilidad + Intereses)/(Activ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Rp*P + Rd*D)/(D+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Rp*P/(D+P) + Rd*D/(P+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 = Ra + (Ra -Rd)*D/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a mayor deuda mayor rentabilidad del patrimonio, siempre que Ra &gt; 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84104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1268280"/>
                <a:ext cx="7343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95280" y="3419640"/>
                <a:ext cx="7775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74760" y="254016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RAII: Resultado antes de impuestos e inter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8360" y="4992840"/>
                <a:ext cx="8136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 Explotació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>
            <a:off x="4858920" y="4292640"/>
            <a:ext cx="289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4365720"/>
            <a:ext cx="3585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484280"/>
                <a:ext cx="71280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Patrimon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87280" y="2852640"/>
                <a:ext cx="6446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640" y="4734000"/>
                <a:ext cx="799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palancamien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H="1">
            <a:off x="2339640" y="39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43280" y="386064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3860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T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ITDA (Earnings Before Interest, taxes, depreciation and amortization) =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ultado Operacional + Depreciación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estimación de la caja generada por las actividades operacionales (del gi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suele construir razones usando el EBIT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63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aciones del uso de razones financi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lo usa información co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empre los valores contables reflejan valores de mercado. Es bueno complementar el análisis con información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de cuentas por cobrar que es recup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estado de las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valor de mercado de los activos fi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 datos históricos. Es bueno complementarlo con información que permita proyec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is Patrimon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4391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e al análisis de los valores que muestra el Balance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busca evaluar aspectos tale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ón de liquidez o capacidad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y cantidad del endeu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ón de l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écnicas de análisis más comunes son el análisis estático, el análisis dinámico y el análisis de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un año determinado, se calcula qué porcentaje representa cada grupo patrimonial del total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n sólo las grandes agrupaciones de los activos y pa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de la composición de activos y la estructura de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l activo circulante en relación al pasivo circul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capital propio y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activos fijos y financiamiento de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250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963960"/>
            <a:ext cx="8640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 la evolución de los principales grupos patrimoniales a través de l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los cambios de tendencias en cuanto a la composición de activos y la estructura de financi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mente se analiza la evolución en unidades monetarias, en porcentaje respecto al total de activos y en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395360"/>
            <a:ext cx="6048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9476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siste en la comparación de ratios o razones calculadas a partir de los valores de los estados financi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ongamos que una empresa tiene una rentabilidad de 10%. ¿Es esto bueno o ma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poder responder esa pregunta se debe usar Patrones de Compa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o estándare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olución histó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medio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atios de los competidore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Michel</cp:lastModifiedBy>
  <cp:lastPrinted>1999-03-18T21:04:13Z</cp:lastPrinted>
  <dcterms:modified xsi:type="dcterms:W3CDTF">2007-09-10T23:46:59Z</dcterms:modified>
  <cp:revision>14</cp:revision>
  <dc:subject/>
  <dc:title>Análisis Financiero</dc:title>
</cp:coreProperties>
</file>