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78A36D-320C-4FC2-B6C0-463CA8E5CEB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1FE-230F-4EB8-B20B-D1B54EE9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4AE-5409-4692-BD98-42F93BD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F17-BDF8-46B1-B25D-5A1DCBA7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D53-D3DD-40DE-9DDB-F3BA8140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EED-A44C-4ED0-BD69-F00ED7FF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18C-1683-4D04-BC7A-264450D2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A0A-F16F-4975-84C0-160E24A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A7C-44CB-48C5-ABB3-2EE6AC0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7DA-00B2-4AD3-81AA-C028CDE9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8F9-6333-4AE7-9D5D-6F20C5F5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6D5-F99F-4678-8A41-486A91E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D38-10C2-4BCA-B990-06DEE6C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A668B2-91A6-4D60-B6C5-E1A468D05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Primera Parte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abilidad Financier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865600"/>
            <a:ext cx="77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ítulo 7: Consolidación de Estados Financi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stado de Resultados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Z : Empresa que posee más del 50% del capital de otra sociedad (Filial). Se considera la posesión directa e indire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IGANTE : Empresa que posee más del 10% y menos del 50% del capital de otra sociedad (la coligad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jemplo Gráfic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hile las empresas matrices deben consolidar su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eros con sus filiales, es decir, deben presen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 estados financieros como si fuesen una sola e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360" y="265104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9640" y="2651040"/>
            <a:ext cx="27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98080" y="3489480"/>
            <a:ext cx="1210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74960" y="3489480"/>
            <a:ext cx="111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o de Consolidació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ar cuentas de igual naturale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r cuentas recipro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ocer parte del patrimonio y del resultado que pertenece a terceros (Interés minoritar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ecuencia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 la composición de  activos y pasivos de la matr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n los ingresos y ga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oni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880" y="974880"/>
            <a:ext cx="852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N DOS EMPRESAS, DONDE LA EMPRESA X PO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75% DE LA EMPRESA 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1982880"/>
            <a:ext cx="8308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NTAS POR COBRAR A 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355760"/>
            <a:ext cx="82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ON EN 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 Circulant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00*0,7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2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Pas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Interés Minoritari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ITARIO : AQUELLA PARTE DE LA EMPRESA Y QUE NO PERTENECE A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Balance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257508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CIRCULANTE  2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.CIRCULANTE 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Michel</cp:lastModifiedBy>
  <cp:lastPrinted>1999-03-18T21:03:28Z</cp:lastPrinted>
  <dcterms:modified xsi:type="dcterms:W3CDTF">2007-09-04T03:47:09Z</dcterms:modified>
  <cp:revision>11</cp:revision>
  <dc:subject/>
  <dc:title>ESTADISTICAS DE POLIMEROS</dc:title>
</cp:coreProperties>
</file>