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F3FF67-1531-4832-9041-31B5DBCA366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7FE-8AFD-4118-B7E9-5B7F9457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B6B-B746-40A5-8188-259A8445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E37-4B3B-4650-AF93-1B7CF1C8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97E-92B0-4A55-AAE2-9AA47BC5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3EA-FD26-4B25-B46E-20E71607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AB0-2E74-445C-B0F6-E1399EC9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B18-D270-441B-AFC4-43847533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648-3E88-4051-ADF1-D51CCE34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A42-594C-4FC0-8208-9CDF2C0C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10E-6358-44D6-BD68-81699A7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7A0-396A-4391-921B-AA0DE0A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602-242E-4852-824E-EDF2FADB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C47627-AE43-45C2-847B-91C01AE05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Primera Parte: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ontabilidad Financier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3640" y="2865600"/>
            <a:ext cx="778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ítulo 7: Consolidación de Estados Financie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stado de Resultados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1520" y="1473120"/>
            <a:ext cx="9015480" cy="4216320"/>
          </a:xfrm>
          <a:prstGeom prst="rect">
            <a:avLst/>
          </a:prstGeom>
          <a:noFill/>
          <a:ln w="5076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X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ILIAL 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X+Y    CONS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SO  POR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O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6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1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EN DE VEN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7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TOS ADM Y VT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4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OPERAC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EMP.RELA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2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ADO EJ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3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7.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RIZ : Empresa que posee más del 50% del capital de otra sociedad (Filial). Se considera la posesión directa e indire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IGANTE : Empresa que posee más del 10% y menos del 50% del capital de otra sociedad (la coligad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jemplo Gráfico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560" y="1835280"/>
            <a:ext cx="97776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0560" y="1758960"/>
            <a:ext cx="1054080" cy="9018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0880" y="3740040"/>
            <a:ext cx="90144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3056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2860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6668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666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0840" y="18129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20" y="280368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666880"/>
            <a:ext cx="1295280" cy="1447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7160" y="265104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64720" y="30322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1371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219320"/>
            <a:ext cx="502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2952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60360" y="135576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209680"/>
            <a:ext cx="1752840" cy="1447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1760" y="21178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9120" y="43275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22860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6200" y="1965240"/>
            <a:ext cx="1288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240" y="5165640"/>
            <a:ext cx="494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ig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5035680"/>
            <a:ext cx="5092560" cy="1663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1181160"/>
            <a:ext cx="8915400" cy="1143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Chile las empresas matrices deben consolidar su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eros con sus filiales, es decir, deben presen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 estados financieros como si fuesen una sola e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92776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oman las inversiones en empresas relacionadas y se descomponen en activos y pas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3359160"/>
            <a:ext cx="3340080" cy="2349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40240" y="3359160"/>
            <a:ext cx="3340080" cy="2425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425840"/>
            <a:ext cx="17398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360" y="2651040"/>
            <a:ext cx="249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Individ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49640" y="2651040"/>
            <a:ext cx="27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Consoli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680" y="441972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ón en 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3526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3352680"/>
            <a:ext cx="0" cy="243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98080" y="3489480"/>
            <a:ext cx="1210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74960" y="3489480"/>
            <a:ext cx="1117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64832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o de Consolidació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16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ar cuentas de igual naturale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r cuentas recipro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nocer parte del patrimonio y del resultado que pertenece a terceros (Interés minoritari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ecuencia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 la composición de  activos y pasivos de la matri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n los ingresos y ga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moni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ad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880" y="974880"/>
            <a:ext cx="852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ENEN DOS EMPRESAS, DONDE LA EMPRESA X PO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75% DE LA EMPRESA Y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000" y="1790640"/>
            <a:ext cx="8762760" cy="502776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120" y="1982880"/>
            <a:ext cx="8308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ENTAS POR COBRAR A 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AC. CIRCULANT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ON EN 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150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CIRCULAN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TAS.POR PAGAR A 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PASIV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355760"/>
            <a:ext cx="82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ON EN 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 Circulant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00*0,7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2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Pas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Interés Minoritari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372280"/>
            <a:ext cx="8474040" cy="82404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ITARIO : AQUELLA PARTE DE LA EMPRESA Y QUE NO PERTENECE A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Balance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760" y="2171880"/>
            <a:ext cx="8686800" cy="3429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040" y="2575080"/>
            <a:ext cx="8245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.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CIRCULANTE  2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.CIRCULANTE   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cp:keywords/>
  <dc:language>en-US</dc:language>
  <cp:lastModifiedBy>Michel</cp:lastModifiedBy>
  <cp:lastPrinted>1999-03-18T21:03:28Z</cp:lastPrinted>
  <dcterms:modified xsi:type="dcterms:W3CDTF">2007-09-04T03:47:09Z</dcterms:modified>
  <cp:revision>11</cp:revision>
  <dc:subject/>
  <dc:title>ESTADISTICAS DE POLIMEROS</dc:title>
</cp:coreProperties>
</file>