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D6959B-EB5E-4946-B552-ED29E73EF4B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34A-7598-4C3E-9F3D-D2914155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AC4-9021-4EE6-A5F1-705196E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6D7-B020-4DC0-BBFB-30E9C836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3C5-3C03-465F-9112-92000548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CFF-6264-4F50-BA41-3BFADF72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93F-88FA-4785-B4B0-525E5C9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0E3-3BE0-40AD-8322-FBFBF9E8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873-1356-4451-A28A-9DDDFAF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F11-FF37-41B1-92C8-0B2519C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470-03D4-4137-A7E8-A64F10B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D69-7C7B-4573-A9A4-0364EFD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C21-C662-4AA5-B0B7-9EA1344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AC42D7-2890-4594-A0A9-8D34A3B56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Primera Parte: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ntabilidad Financier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865600"/>
            <a:ext cx="77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ítulo 7: Consolidación de Estados Financie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stado de Resultados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520" y="1473120"/>
            <a:ext cx="9015480" cy="4216320"/>
          </a:xfrm>
          <a:prstGeom prst="rect">
            <a:avLst/>
          </a:prstGeom>
          <a:noFill/>
          <a:ln w="5076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X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ILIAL 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X+Y    CON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SO  POR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O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6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1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EN DE VEN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7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OS ADM Y VT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4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OPERAC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EMP.RELA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J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3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7.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RIZ : Empresa que posee más del 50% del capital de otra sociedad (Filial). Se considera la posesión directa e indire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IGANTE : Empresa que posee más del 10% y menos del 50% del capital de otra sociedad (la coligad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jemplo Gráfico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1835280"/>
            <a:ext cx="97776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0560" y="1758960"/>
            <a:ext cx="1054080" cy="9018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0880" y="3740040"/>
            <a:ext cx="90144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056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2860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666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666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0840" y="18129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20" y="280368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666880"/>
            <a:ext cx="129528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7160" y="26510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4720" y="30322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1371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2193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2952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60360" y="135576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209680"/>
            <a:ext cx="1752840" cy="1447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1760" y="21178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9120" y="43275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6200" y="1965240"/>
            <a:ext cx="1288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5165640"/>
            <a:ext cx="494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i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5035680"/>
            <a:ext cx="5092560" cy="166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1181160"/>
            <a:ext cx="8915400" cy="1143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hile las empresas matrices deben consolidar su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eros con sus filiales, es decir, deben presen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 estados financieros como si fuesen una sola e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92776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oman las inversiones en empresas relacionadas y se descomponen en activos y pas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359160"/>
            <a:ext cx="3340080" cy="23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0240" y="3359160"/>
            <a:ext cx="3340080" cy="242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25840"/>
            <a:ext cx="17398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360" y="265104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49640" y="2651040"/>
            <a:ext cx="27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Consoli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44197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352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33526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98080" y="3489480"/>
            <a:ext cx="1210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74960" y="3489480"/>
            <a:ext cx="111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648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o de Consolidació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16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ar cuentas de igual naturale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r cuentas recipro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ocer parte del patrimonio y del resultado que pertenece a terceros (Interés minoritar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ecuencia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 la composición de  activos y pasivos de la matr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n los ingresos y ga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oni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d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880" y="974880"/>
            <a:ext cx="852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N DOS EMPRESAS, DONDE LA EMPRESA X PO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75% DE LA EMPRESA 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000" y="1790640"/>
            <a:ext cx="8762760" cy="502776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" y="1982880"/>
            <a:ext cx="8308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ENTAS POR COBRAR A 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AC. CIRCULANT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ON EN 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150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CIRCULA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TAS.POR PAGAR A 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PASIV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355760"/>
            <a:ext cx="82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ON EN 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 Circulant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00*0,7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2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Pas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Interés Minoritari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372280"/>
            <a:ext cx="8474040" cy="82404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ITARIO : AQUELLA PARTE DE LA EMPRESA Y QUE NO PERTENECE A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Balance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760" y="2171880"/>
            <a:ext cx="8686800" cy="3429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257508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.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CIRCULANTE  2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.CIRCULANTE 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Michel</cp:lastModifiedBy>
  <cp:lastPrinted>1999-03-18T21:03:28Z</cp:lastPrinted>
  <dcterms:modified xsi:type="dcterms:W3CDTF">2007-09-04T03:47:09Z</dcterms:modified>
  <cp:revision>11</cp:revision>
  <dc:subject/>
  <dc:title>ESTADISTICAS DE POLIMEROS</dc:title>
</cp:coreProperties>
</file>