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989B-6B7E-4468-9F0D-53F6B386B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F41A-A214-47DA-A43C-27CC98C53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C1B7-1543-4021-A6C2-04543A454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2C16-3F81-4916-8F68-A4C2BB317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596CB-E331-4422-9EA7-F0CB050BB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99659-6F6A-44FF-B069-8FD157ACA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B15DB-773B-4BC9-BFC6-6DDB5B162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72412-5EA6-45B5-AC19-CCB12AF71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7B666-6AAB-45A4-AE56-8A0D60106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0060E-A556-41F7-BC75-9BC26B40F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02475-FA0D-4830-B01B-E8423160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3AFB-D0A5-459A-A10F-B8BA833E8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1E1A7-18CA-473D-9087-206B1970E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232F4-93DD-4544-9F83-2FC1FD5B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5BC83-4761-493D-B355-AF3A798E2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CC879-33F0-40AB-9EA7-B4C4C44B1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39503-EA7E-4E23-8BB2-F9B226F6C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3749-1133-4758-93BF-BD0E98A39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E18B-E55F-478A-BE3F-C818E1A3B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EBCB-C90F-49A2-BE02-1337D3498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6873-7FEE-4AD6-8205-42CDC66FE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DF6E-B00D-42B7-884C-6BD53EF7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215D-B1A5-4090-987F-9269EB07D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343E-1FD0-4064-87F7-81EAFB2E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8D57D-1905-489A-BCA0-31D7AD80665F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AB9D7-8823-423E-8E33-B4001E73E93E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212544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imera Parte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abilidad Financier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3854160"/>
            <a:ext cx="777240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pítulo 8: Corrección Moneta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75960" y="22669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.I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o Fij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trim. Inici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.F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j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1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trim. Inici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o Fijo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tilidad del ej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trimonio Inicial Actualizado = 1000*1.1  =   1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trimonio Final Actualizado   = 1000*1.1 + 10 = 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UTILIDAD REAL (PFA - PIA)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    =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1828800" y="2259000"/>
            <a:ext cx="647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28800" y="2259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05920" y="2259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828800" y="2868480"/>
            <a:ext cx="647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48320" y="22590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28800" y="3325680"/>
            <a:ext cx="647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828800" y="33256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381880" y="33256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828800" y="4316400"/>
            <a:ext cx="655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33256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87280" y="549360"/>
            <a:ext cx="779328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Tahoma"/>
              </a:rPr>
              <a:t>Ejemplo 2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: ahora el activo está formado por un terre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53840" y="2205000"/>
            <a:ext cx="6535800" cy="87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alance Final Corregido: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3328560"/>
            <a:ext cx="861048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j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1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rimonio Inici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o Fij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tilida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533520" y="3405240"/>
            <a:ext cx="792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340524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3520" y="4471920"/>
            <a:ext cx="800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534520" y="340524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95680" y="340524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42160" cy="14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ahoma"/>
              </a:rPr>
              <a:t>Ejemplo 3: ahora hay una deuda reajustable (en UF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6320" y="2033280"/>
            <a:ext cx="899136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.I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j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50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ud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5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trim. Inici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.F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j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51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ud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5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trim. Inici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tilidad del ej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trimonio Inicial Actualizado = 1000*1.1          =   1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trimonio Final Actualizado   = 1510 - 500*1,1 =     96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UTILIDAD REAL (PFA - PIA)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  =   (14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1828800" y="2033640"/>
            <a:ext cx="655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28800" y="203364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3024360"/>
            <a:ext cx="655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1880" y="203364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28800" y="3557520"/>
            <a:ext cx="655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828800" y="3557520"/>
            <a:ext cx="0" cy="152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828800" y="5081760"/>
            <a:ext cx="655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81880" y="3557520"/>
            <a:ext cx="0" cy="152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03364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48320" y="3557520"/>
            <a:ext cx="0" cy="152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58920" y="475920"/>
            <a:ext cx="769608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8.3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Mecanismo de la Corrección Monetari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valorizar el Patrimonio Inic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valorizar el Patrimonio Final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ctivos Revalorizables (No Monetario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asivos Revalorizables (No Monetario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ctivos no monetarios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6880" y="1789200"/>
            <a:ext cx="815184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stán auto protegidos de la Inflación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Su valor real permanece constante en el tiemp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ctivos Fij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pósitos a Plazo Reajustab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xistenci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ctivos Intangibles, Acci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tas.por Cobrar Reajus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asivos no monetarios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77920" y="19411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stán auto protegidos de la Inflación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Su valor real permanece constante en el tiemp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jemplo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udas en U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udas pactadas en moneda extranjer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ualquier deuda pactada con cláusula de reajustabilida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Se amortiza en pesos y luego se hace C.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47560" y="380520"/>
            <a:ext cx="7227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ctivos y Pasivos monetario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69720" y="2122560"/>
            <a:ext cx="8523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Son aquellos pasivos y activos cuyo valor nominal permanece constante, pero no el re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ispon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uentas por cobr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udas no reajus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25240" y="7617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Fases de la Corrección Monetari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600" y="24382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901"/>
              </a:spcBef>
              <a:buClr>
                <a:srgbClr val="3333cc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rregir el Capital Inicial (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PC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3333cc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rregir Aportes y Retiros de Capita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3333cc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rregir Activos No Monetari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3333cc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rregir Pasivos No Monetari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Factores de corrección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0920" y="1974600"/>
            <a:ext cx="870408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IPC,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se usa para corregir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p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ctivos Fij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ctivos Intangi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ahoma"/>
              </a:rPr>
              <a:t>Costo de Reposición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e usa para corregir el valor de las existenci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e define como el valor de la última unidad compra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ara fines tributarios se considera el precio más alto pagado en el ejercici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01400" y="585360"/>
            <a:ext cx="7086600" cy="9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Factores de corrección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52280" y="2252160"/>
            <a:ext cx="8763120" cy="398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ahoma"/>
              </a:rPr>
              <a:t>Variación Tipo de Cambio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e usa para corregir las deudas o depósitos pactados en moneda extranjer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ahoma"/>
              </a:rPr>
              <a:t>Cláusulas de Reajustabilidad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: Según como se haya establecido o pactad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e usa para corregir deudas o depósitos pactados con las respectivas cláusula (la más usual es la Unidad de Fomento (UF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¿Qué es la Corrección Monetaria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2205000"/>
            <a:ext cx="8078760" cy="308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 un mecanismo para reflejar en los estados financieros la pérdida de poder adquisitivo de la moned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02920" y="549000"/>
            <a:ext cx="7340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2431800"/>
            <a:ext cx="861048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na empresa tiene los siguientes estados financieros a fines del ejercicio de 2002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CTIVO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SIVO Y PATRIMON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j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Oblig. en M.Extranj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6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udores por Vt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90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tas.por Pagar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xistenci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80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pital y Reserv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o Fij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50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tilidad del Ejercici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300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otal Activ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30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otal Pasiv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3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99640" y="41400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03240" y="1893600"/>
            <a:ext cx="7772400" cy="463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stado de Resultado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greso por Vent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2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sto de Venta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500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argen de Venta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7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astos de Adm.y Vtas.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300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sultado Operacional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astos Financiero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tilidad de Ejercicio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00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55280" y="4140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560" y="2171880"/>
            <a:ext cx="838188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emás, se tiene la siguiente informació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859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C a Noviembre de 2001 = 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859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C a Noviembre de 2002 = 1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859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ción tipo de cambi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30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859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 existencias, valoradas según el método FIFO,  se componen de 80 unidades a $8 cada una y 16 unidades a $10 cada una. En la última compra se pagó este último preci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28600" y="2152800"/>
            <a:ext cx="8686800" cy="430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cción Capital Inicial (como IPC de diciembre se conoce en Enero, se usa el de noviembre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PC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25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-  1= 25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tal Inicial Revalorizad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1000*1.25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50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tal Inici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000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cción Monetari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9640" y="41400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2280" y="2104560"/>
            <a:ext cx="8763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alorización Activos No Monetari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o Fijo Revalorizad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500*1.25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o Fij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cción Monetari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istencias Revalorizad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96*1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6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istenci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8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cción Monetari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55280" y="5569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28600" y="202896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alorización Pasivos No Monetari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ligaciones en M.E. Revalorizad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600* 1.3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8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ligaciones en M.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6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cción Monetari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rimonio Final Revalorizado : (Activo- Pasiv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0 + 900 + 960 + 625- 780 - 400 = 1405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o el Patrimonio Inicial Revalorizado es 1250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lidad Re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155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94920" y="1973160"/>
            <a:ext cx="8451720" cy="46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ientos de Corrección Monetari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cción monetari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tal Inici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o Fij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cción monetari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istenci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cción monetari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cción monetari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uda M.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520" y="414000"/>
            <a:ext cx="4419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4572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>
            <a:off x="2362320" y="2228760"/>
            <a:ext cx="5305320" cy="4368960"/>
          </a:xfrm>
          <a:prstGeom prst="rect">
            <a:avLst/>
          </a:prstGeom>
          <a:noFill/>
          <a:ln w="507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stado de Resultados Corregid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gresos por Vent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de Vent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gen de Vent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7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stos Adm. y Vent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ado Operacion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stos Financier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cción Monetari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(14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lida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15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00000" y="41400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80880" y="226692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Balance Corregid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CTIVO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SIVO Y PATRIMON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j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Oblig. en M.E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78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udores por Vta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90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tas. por Pagar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xistenci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96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pital y Reserv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25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o Fij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625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tilidad del Ejercici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155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585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58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993080" cy="98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8.1 Concepto de Poder Adquisitivo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5960" y="198108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ongamos una economía donde existe un único bien (manzanas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io período 0 :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0$/uni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io período 1 :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1$/uni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onces, inflación = 10%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 una persona dispone de $1000, y tiene la alternativa de depositar al 20%, la utilidad que obtendrá será la siguient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6920" y="2168640"/>
            <a:ext cx="8839080" cy="4356000"/>
          </a:xfrm>
          <a:prstGeom prst="rect">
            <a:avLst/>
          </a:prstGeom>
          <a:noFill/>
          <a:ln w="12708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MANZA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= 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TAL INICI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0,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=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TAL FIN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2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09,0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LIDA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9,0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LIDAD NOMIN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00 - 1000 = 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n $ de cada añ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LIDAD RE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,09*11 = 10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n $ del año 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993080" cy="98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8.1 Concepto de Poder Adquisitivo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5440" y="2133360"/>
            <a:ext cx="8062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ara calcular la utilidad real obtenida en un depósito, lo que hacemos es comparar el dinero obtenido a la fecha del vencimiento con el capital depositado originalmente, pero actualizado según la variación del Índice de Precios al Consumidor (IPC), es deci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Utilidad real 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= 1200 – 1000*(1+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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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1200 – 1000*1,1 = 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971280" y="404280"/>
            <a:ext cx="7993080" cy="98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8.1 Concepto de Poder Adquisitivo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69840" y="333000"/>
            <a:ext cx="8066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8.2 Inflación y Estados Financiero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99640" y="2017800"/>
            <a:ext cx="8055000" cy="457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lemas de la inflación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orsiona Valor de Activos y Pasiv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orsiona Relación entre Ingresos y Gast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ción Moneta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e pagar impuestos sobre utilidades re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e comparar estados financieros de distintos períod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24000" y="2060280"/>
            <a:ext cx="8640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ara determinar la utilidad real en una empresa, es decir, con corrección monetaria, se aplica un procedimiento conceptualmente similar a cuando se obtiene la utilidad real de un depósito bancario (ejemplo anterior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La diferencia es que el patrimonio final no es necesariamente una cantidad de dinero, como ocurre en un depósito, sino un conjunto de activos y pasivos, monetarios y no monetari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ntonces, se debe comparar el patrimonio inicial actualizado con el patrimonio final, también actualizad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969840" y="333000"/>
            <a:ext cx="8066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8.2 Inflación y Estados Financiero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77920" y="1952280"/>
            <a:ext cx="8686800" cy="470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B.I.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ja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000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atrim. Inicial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B.F.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ja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010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atrim. Inicial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Utilidad del ej.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upuesto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nflación 10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 utilidad es producto de una prestación de servicios que se paga al conta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8488440" y="2529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564400" y="35370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163600" y="2529000"/>
            <a:ext cx="632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163600" y="250344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163600" y="2960640"/>
            <a:ext cx="632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906800" y="2529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63600" y="3537000"/>
            <a:ext cx="640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2163600" y="4545000"/>
            <a:ext cx="640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63600" y="35370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06800" y="35370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1150560" y="366480"/>
            <a:ext cx="7792920" cy="11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Tahoma"/>
              </a:rPr>
              <a:t>Ejemplo 1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: empresa cuyo único activo es caja y no tiene pasivo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2280" y="2075040"/>
            <a:ext cx="8839440" cy="423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ahoma"/>
              </a:rPr>
              <a:t>Utilidad Nominal  =  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atrimonio Inicial Actualizado = 1000*1.1=1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atrimonio Final Actualizado (Act. - Pas.) = 10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ahoma"/>
              </a:rPr>
              <a:t>UTILIDAD REAL (PFA - PIA)</a:t>
            </a:r>
            <a:r>
              <a:rPr b="1" i="1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ahoma"/>
              </a:rPr>
              <a:t>  = (9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ahoma"/>
              </a:rPr>
              <a:t>Balance Final Corregid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ja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010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atrim. Inicial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érdida del ej.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(9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5181480"/>
            <a:ext cx="716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6248520"/>
            <a:ext cx="708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51814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772400" y="51814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33920" y="51814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1T23:09:14Z</dcterms:created>
  <dc:creator>Michael Jorratt</dc:creator>
  <dc:description/>
  <cp:keywords/>
  <dc:language>en-US</dc:language>
  <cp:lastModifiedBy>Michel</cp:lastModifiedBy>
  <cp:lastPrinted>1999-03-18T21:02:27Z</cp:lastPrinted>
  <dcterms:modified xsi:type="dcterms:W3CDTF">2007-08-28T02:00:45Z</dcterms:modified>
  <cp:revision>23</cp:revision>
  <dc:subject/>
  <dc:title>Primera Parte: Contabilidad Financiera</dc:title>
</cp:coreProperties>
</file>