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B1A-034D-4BB5-B366-6A1136E3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3A6F-2850-435C-B7C6-7038020D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AA6-5BF9-4DC1-A4D3-A3CB0A86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364-F332-4DD1-BF1F-A055943D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F30C-29B8-48CA-9D5C-E76A4CA4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1880-F3ED-46EB-A3D4-3D028230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DD5F-3F48-4DE0-AE0C-817094C9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F185-75BB-4B5D-828A-AA959194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2286-0082-4DBD-B834-7372C2F9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1A43-AC70-4652-B972-BFEA95E7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25C0-CBCC-474B-8CEE-C08675B9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DB8-F162-4215-854C-CE7F0A4B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90E0-FDDE-4A45-9B96-C26E9DF4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9578-D11B-43A6-A1CB-A7FDF3EC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553A-F74C-4C20-9A69-4B47CE2E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0E04-C95B-4E42-9749-EF683E22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4D2D-AE25-43A7-95D7-1BD1C54D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526-4062-4665-9B93-EDE9E4B5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DC4-00FC-4944-9137-C493ED4A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0A38-8189-42D6-BFF2-5682314E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658-CF74-4B65-A9A6-5B3A1CCA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469-E877-466B-9722-FD8FFA58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71B-4806-49B6-AC5E-FA3D39A5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BB8-3B3C-4585-BBB7-184147CF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2680-7118-41F9-862A-4FB9A22AF1E6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9BD4-F708-446E-9D81-6B784350A02F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1254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mera Part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bilidad Financie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38541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ítulo 8: 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960" y="2266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000*1.1 + 10 = 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  =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2590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8684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59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33256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43164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549360"/>
            <a:ext cx="77932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2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ahora el activo está formado por un terr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53840" y="2205000"/>
            <a:ext cx="65358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lance Final Corregido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32856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rimonio Inic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40524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44719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34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4216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Ejemplo 3: ahora hay una deuda reajustable (en UF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320" y="2033280"/>
            <a:ext cx="8991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      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510 - 500*1,1 =     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=   (14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03364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0336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30243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188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55752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0817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960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3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canismo de la Corrección Moneta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Final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s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6880" y="17892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pósitos a Plazo Reajust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, Ac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tas.por Cobrar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as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792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en 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pactadas en moneda extranjer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alquier deuda pactada con cláusula de reajustabi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amortiza en pesos y luego se hace C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227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y Pasivos monetario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69720" y="21225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on aquellos pasivos y activos cuyo valor nominal permanece constante, pero no el re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pon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no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240" y="761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ses de la Corrección Monet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el Capital Inicial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P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portes y Retiros de Capi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ct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Pas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974600"/>
            <a:ext cx="87040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PC,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se usa para corregi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osto de Reposi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el valor de las 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define como el valor de la última unidad comp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fines tributarios se considera el precio más alto pagado en el ejerci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01400" y="585360"/>
            <a:ext cx="70866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2252160"/>
            <a:ext cx="8763120" cy="398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las deudas o depósitos pactados en moneda extranje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láusulas de Reajustabilidad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Según como se haya establecido o pact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deudas o depósitos pactados con las respectivas cláusula (la más usual es la Unidad de Fomento (UF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¿Qué es la Corrección Monetaria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205000"/>
            <a:ext cx="807876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un mecanismo para reflejar en los estados financieros la pérdida de poder adquisitivo de la mone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34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243180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empresa tiene los siguientes estados financieros a fines del ejercicio de 200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xtran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A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Pas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99640" y="41400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3240" y="1893600"/>
            <a:ext cx="7772400" cy="46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greso por 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5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de Adm.y Vtas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tilidad de Ejercic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217188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emás, se tiene la siguiente inform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2 = 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3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2152800"/>
            <a:ext cx="8686800" cy="43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Capital Inicial (como IPC de diciembre se conoce en Enero, se usa el de noviembr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PC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  1= 2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 Reval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000*1.25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4140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210456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Activos No Mone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Revaloriza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500*1.25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96*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280" y="556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202896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Pasivos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.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600* 1.3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imonio Final Revalorizado : (Activo- Pasiv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+ 900 + 960 + 625- 780 - 400 = 140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el Patrimonio Inicial Revalorizado es 1250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5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1973160"/>
            <a:ext cx="845172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ientos de Corrección Moneta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uda M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41400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2228760"/>
            <a:ext cx="5305320" cy="4368960"/>
          </a:xfrm>
          <a:prstGeom prst="rect">
            <a:avLst/>
          </a:prstGeom>
          <a:noFill/>
          <a:ln w="507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 Corregi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Adm. y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1400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22669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alance Corregi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 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625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55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ongamos una economía donde existe un único bien (manzanas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0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0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1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1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onces, inflación = 10%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una persona dispone de $1000, y tiene la alternativa de depositar al 20%, la utilidad que obtendrá será la sigui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6920" y="2168640"/>
            <a:ext cx="8839080" cy="4356000"/>
          </a:xfrm>
          <a:prstGeom prst="rect">
            <a:avLst/>
          </a:prstGeom>
          <a:noFill/>
          <a:ln w="127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MANZ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NOM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 - 1000 =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 cada añ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,09*11 = 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l año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62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calcular la utilidad real obtenida en un depósito, lo que hacemos es comparar el dinero obtenido a la fecha del vencimiento con el capital depositado originalmente, pero actualizado según la variación del Índice de Precios al Consumidor (IPC), es dec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tilidad real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= 1200 – 1000*(1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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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1200 – 1000*1,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s de la inflació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Valor de Activos y Pas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Relación entre Ingresos y Gas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pagar impuestos sobre utilidades re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comparar estados financieros de distintos perío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determinar la utilidad real en una empresa, es decir, con corrección monetaria, se aplica un procedimiento conceptualmente similar a cuando se obtiene la utilidad real de un depósito bancario (ejemplo anteri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tonces, se debe comparar el patrimonio inicial actualizado con el patrimonio final, también actualiz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7920" y="195228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uesto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flación 1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utilidad es producto de una prestación de servicios que se paga al con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8488440" y="25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644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3600" y="252900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3600" y="2503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63600" y="296064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06800" y="25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3537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63600" y="454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636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68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150560" y="366480"/>
            <a:ext cx="779292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1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empresa cuyo único activo es caja y no tiene pasiv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2075040"/>
            <a:ext cx="8839440" cy="42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Utilidad Nominal  =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Inicial Actualizado = 1000*1.1=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Final Actualizado (Act. - Pas.) = 1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  =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Balance Final Correg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érdida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18148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2485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cp:keywords/>
  <dc:language>en-US</dc:language>
  <cp:lastModifiedBy>Michel</cp:lastModifiedBy>
  <cp:lastPrinted>1999-03-18T21:02:27Z</cp:lastPrinted>
  <dcterms:modified xsi:type="dcterms:W3CDTF">2007-08-28T02:00:45Z</dcterms:modified>
  <cp:revision>23</cp:revision>
  <dc:subject/>
  <dc:title>Primera Parte: Contabilidad Financiera</dc:title>
</cp:coreProperties>
</file>