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5F759-5FB1-415E-BDFE-12CEDC9AD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3467D-3617-4616-BBF6-A2AB0B16C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E668F-706B-4374-B021-EF2768AC0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9D020-5E0A-4D4F-8367-ECDE15E84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B3C84-92DB-49D8-8F3B-9F20C85E0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13B88-DD87-4331-A298-3E89B57E3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8ADFE-72D2-4C77-BE66-8D1E5DA02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DEEA7-2AB8-49D8-B735-6E4C9995D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09AAA-0739-4332-9FCE-504B2AE27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DAB35-BB17-4206-9563-C773375CA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6E2ED-FE75-4609-B480-DC56F3E5F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69996-AD43-43FA-B429-E146E0E52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22DB8-7F16-4DB5-9BE6-5805EC111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47FAB-7D86-4885-8543-DBBB5D390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8BC0D-D67C-48E5-8766-20404E3DF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4C12F-C46F-4995-B932-234964996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1736B-972A-4171-9E21-E52F118D8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64231-06B6-4796-AA41-4C02926D5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F61AD-8A5E-4B8A-BB89-9A94123D7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E45BC-816B-477E-9DD2-708622F9C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88BBA-562C-4888-A24D-1422CF16D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11DC0-32D9-4997-B005-0167E79C1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35987-51DF-4E48-95C7-0F4BCA842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1182-7932-4B92-A62C-9D53DA867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8D0F-664F-48EC-98B6-98402AEBE36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AB10-3520-4FA6-8E56-1D7436617CFE}"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99"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6"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4.000)</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0"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todas las rentas percibidas en el año.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4"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36"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40"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42"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43"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44"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45"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47"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48"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49"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50"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55"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59"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63"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64"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68"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ario</a:t>
            </a:r>
            <a:endParaRPr b="0" lang="en-US" sz="4400" spc="-1" strike="noStrike">
              <a:solidFill>
                <a:srgbClr val="333399"/>
              </a:solidFill>
              <a:latin typeface="Tahoma"/>
            </a:endParaRPr>
          </a:p>
        </p:txBody>
      </p:sp>
      <p:sp>
        <p:nvSpPr>
          <p:cNvPr id="101"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72"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74"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76"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77"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79"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8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8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8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03"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07"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13"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14"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18"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20"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4"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cp:keywords/>
  <dc:language>en-US</dc:language>
  <cp:lastModifiedBy>Michel</cp:lastModifiedBy>
  <cp:lastPrinted>1999-03-18T21:02:27Z</cp:lastPrinted>
  <dcterms:modified xsi:type="dcterms:W3CDTF">2007-08-28T01:57:21Z</dcterms:modified>
  <cp:revision>24</cp:revision>
  <dc:subject/>
  <dc:title>Primera Parte: Contabilidad Financiera</dc:title>
</cp:coreProperties>
</file>