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E519E-6CE0-413D-A23C-02F4D1586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9EB1C-AA90-41DF-9ED3-B4660ED53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B93E9-6145-4F01-8CA2-42BB0237F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F15EF-7157-4849-976C-9384A1CA5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3F821-3CA7-469C-A58A-E5781A140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CFC66-532F-4E5C-98BB-3E16CC921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99A16-8D7E-4072-AA2E-B450B20DF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578CF-DBFF-4757-93A1-B1A1AE079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BE84F-BDE4-416A-BAC3-CF1F96BA9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4BCBE-2651-415B-A77C-1EBE4ACF9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EA2C2-6745-4FE2-8DEE-3710DEFA9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39D3B-19A4-4AC9-9833-ADD68C440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8D9D8-338F-4730-A3F0-35A9B3631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8AF4F-E8BB-4982-B4FB-D284204DF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1F41B-50BC-4A5E-BE91-BD4E16BBF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68138-CC90-42FE-BA9C-1CCC7DF5C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6803A-F647-4C24-B4C0-48E1529B88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5A58C-6317-4B25-A967-FB588545A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59B4D-7A5E-4A5A-8FEE-2A49180BF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5E24D-1053-4A12-A945-0A4C15999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CAC8A-6235-41DD-B4D6-049C45AAA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28E1C-786C-46D5-8887-E2B262788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05BDD-F7FC-47F7-90F5-3A538F63B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617B-BA66-4DBA-884E-526BBF91A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472F-8213-4C6B-9D56-67F24C77F6F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E61E-F54E-4A19-A537-89E176AFD3F3}"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99"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6"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4.000)</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0"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todas las rentas percibidas en el año.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4"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36"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40"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42"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43"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44"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45"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47"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48"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49"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50"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55"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59"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63"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64"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68"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ario</a:t>
            </a:r>
            <a:endParaRPr b="0" lang="en-US" sz="4400" spc="-1" strike="noStrike">
              <a:solidFill>
                <a:srgbClr val="333399"/>
              </a:solidFill>
              <a:latin typeface="Tahoma"/>
            </a:endParaRPr>
          </a:p>
        </p:txBody>
      </p:sp>
      <p:sp>
        <p:nvSpPr>
          <p:cNvPr id="101"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72"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74"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76"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77"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79"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8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8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8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03"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07"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13"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14"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18"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20"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4"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cp:keywords/>
  <dc:language>en-US</dc:language>
  <cp:lastModifiedBy>Michel</cp:lastModifiedBy>
  <cp:lastPrinted>1999-03-18T21:02:27Z</cp:lastPrinted>
  <dcterms:modified xsi:type="dcterms:W3CDTF">2007-08-28T01:57:21Z</dcterms:modified>
  <cp:revision>24</cp:revision>
  <dc:subject/>
  <dc:title>Primera Parte: Contabilidad Financiera</dc:title>
</cp:coreProperties>
</file>