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AC05-D202-452B-B9BA-FB89D3500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6FBA-1BED-4F72-9C28-FB549818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C05F-AFC3-4FB5-9697-2112799E2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BB57-55BE-4981-9CD0-14502223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1CD0-7C5D-404E-B7A3-165EF6CB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C6BB-34DF-4899-B1E6-15E0E148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345C-DCF2-4DE5-97C0-51790F88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D171-38E9-4A32-B184-E536AD9D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C61A-01E5-4CF1-BC2A-A4BC74E5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07F4-1C10-4515-A668-4DE9C9C1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3942-96EE-4627-B3DC-B9B40414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1D9E-2730-42F5-809A-39137D66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E0E2-79A1-4882-A3BF-694A3C5706B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318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ntabilidad Financier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5640" y="3933720"/>
            <a:ext cx="7772400" cy="13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ítulo 6: Patrimon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6.2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sientos de Apertur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960" y="1557000"/>
            <a:ext cx="8816760" cy="441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des de Person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jemplo: Juan Pérez y Oscar González crean un sociedad de responsabilidad ltda., cada uno se compromete a aportar $1.000.0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H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. Pérez aporte por Enterar (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. González aporte por Enterar (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0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6.2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sientos de Apertur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68280"/>
            <a:ext cx="876276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edades Anónima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distingue entre capital Autorizado, Suscrito y Pa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rizado: Aquel que figura en el estatuto y que se estima suficiente para el desenvolvimiento de la soc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crito: Parte del capital autorizado que los accionistas se comprometen a apor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ado: Monto de las suscripciones efectivamente pag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79280" y="1628640"/>
            <a:ext cx="8785440" cy="45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constituye una  S.A. por un capital de mm$10, el que se divide en 100.000 acciones a $100 c/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ciones por Suscribi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ital Autorizad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accionistas suscriben 80.000 ac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cionis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ciones por Suscribi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504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80520" y="1773360"/>
            <a:ext cx="829476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se pagan las acciones suscrita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$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ionis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$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Autoriza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m$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iones por suscribi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mm$ 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Paga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m$ 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56160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6.3 Distribución de Utilidad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557000"/>
            <a:ext cx="8915400" cy="473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ciedades de Person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da miembro tiene una cuenta particular, que se carga con los retiros a cuenta de la utilidad del ejercicio y se abona con las utilidades distribui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91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Sr. Pérez retira $10.000 a cuenta de la utilidad del ejercic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.Pérez Cta. particul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52280" y="1412640"/>
            <a:ext cx="883944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al final del Ejercicio se tienen utilidades $300.000 y se decide capitalizar el 50%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.Pérez Cta.Particul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7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.González Cta.particul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7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rvas (Patrimonio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la Cuenta Particular tiene saldo deudor, representa un activo de la empresa. En caso contrario, refleja un pas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39384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6.3 Distribución de Utilidad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9640" y="1557000"/>
            <a:ext cx="83073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ciedades Anóni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rimo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 pag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rva revalorización de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breprecio en venta de acciones pro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rva mayor valor retasación técnica act. Fi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ilidades Reten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rva futuros dividen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ilidades Acumul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érdidas Acumul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ilidad (pérdida) del ejerc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ndos provisorios (men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39384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6.3 Distribución de Utilidad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3020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 1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844640"/>
            <a:ext cx="881244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gistro de acuerdo a la junta de accionistas en virtud del cual, con cargo a las utilidades del ejercicio de $90.000 se distribuirán dividendos por $40.000, capitalizándose el res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dad del Ejercicio (Pat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9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videndos por Pagar (P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dad Acumulada (Pat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5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 2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773000"/>
            <a:ext cx="8915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deciden pagar dividendos de $1.5 por acción a un accionista mayoritario que posee el 40% del capital (200.000) con acciones suscritas y pagadas. El pago se efectúa con $1 en efectivo y $0.5 en acciones en cartera de la empre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ndos por Pag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0.0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es Negociab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032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7760" y="1844640"/>
            <a:ext cx="888696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miten 500.000 acciones de pagos a un valor libro de $1.2 por acción. Se colocan obteniendo $650.000. El costo de la colocación fue de $15.0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3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 Financier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ital Pagado (Pat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bre Precio Vta. Acciones (Pat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5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1704960" y="226044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04960" y="6146640"/>
            <a:ext cx="6629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40040" y="2647800"/>
            <a:ext cx="2958840" cy="105408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egocio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21120" y="3943440"/>
            <a:ext cx="2577960" cy="90144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oc.de Pers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35720" y="5086440"/>
            <a:ext cx="1892160" cy="82548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480" y="1865160"/>
            <a:ext cx="1471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ant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66800" y="6284880"/>
            <a:ext cx="135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am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gocio Individ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ción independ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solo propietario, persona na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ocio y propietario son uno jurídica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ocio y propietario son entidades diferentes contablem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0728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ciedad de Person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ón formada voluntariamente por  dos o más personas, naturales o juríd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sociedad es una entidad individual diferente de las actividades de cada socio. Es una persona juríd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da socio es responsable de las deudas de la soc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conforman para actividades comerciales, oficinas de profesionales y empresas medi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9280" y="1557360"/>
            <a:ext cx="82076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ciedad Anóni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ón Creada por 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ietarios se identifican como accionis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un persona Juríd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forma por la reunión de un fondo común o aporte de accionis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ionistas tienen responsabilidad limitada al monto de sus apor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administra por un directorio que delega parte de sus funciones en el Gerente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094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cieda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Es un contrato en que dos o más personas estipulan poner algo en común con la mira de repartir entre sí los beneficios que de ello provengan. (Código Civi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4720" y="4581360"/>
            <a:ext cx="7488000" cy="94572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s una persona jurídica distinta de los socios individualmente conside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55640" y="1628280"/>
            <a:ext cx="7848720" cy="33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 Jurídic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ersona ficticia, que puede adquirir derechos y contraer obligaciones, y es susceptible de ser representada y de actuar por sí en la vida de los negocios como una persona natu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719440" y="2041560"/>
            <a:ext cx="2951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ERSONA JURI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14360" y="3108240"/>
            <a:ext cx="206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UB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70160" y="3108240"/>
            <a:ext cx="214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 DERECH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IV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87200" y="4403880"/>
            <a:ext cx="1676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IN F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 LU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5800" y="4403880"/>
            <a:ext cx="222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N FIN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LU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9920" y="5851440"/>
            <a:ext cx="2711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RPO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46000" y="5851440"/>
            <a:ext cx="2316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UND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78440" y="2514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73320" y="2895480"/>
            <a:ext cx="373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7332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0724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30920" y="3886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97200" y="411480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97200" y="4114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83400" y="4114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4492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16120" y="5562720"/>
            <a:ext cx="403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16120" y="5562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54600" y="5562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os de sociedades con fines de lucr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resa individual de responsabilidad limit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edad colec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edad de responsabilidad limit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edad Anón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edad en comand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6T18:48:24Z</dcterms:created>
  <dc:creator>Michael Jorratt</dc:creator>
  <dc:description/>
  <cp:keywords/>
  <dc:language>en-US</dc:language>
  <cp:lastModifiedBy>Michael Jorratt De Luis</cp:lastModifiedBy>
  <cp:lastPrinted>1999-03-18T21:00:01Z</cp:lastPrinted>
  <dcterms:modified xsi:type="dcterms:W3CDTF">2007-03-19T03:47:50Z</dcterms:modified>
  <cp:revision>10</cp:revision>
  <dc:subject/>
  <dc:title>Patrimonio CONTABILIDAD Y CONTROL DE GESTION</dc:title>
</cp:coreProperties>
</file>