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14C-2261-471E-AC48-3E04BA23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2EF-54C2-4EA0-8D29-0BF84198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2FF-7E49-4738-9E4C-50B4D5B4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1A7A-34A8-4CCA-8372-E60F9711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A72-E786-4038-BDE3-D965DAA7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C9A7-7016-4C38-BF88-44FCCCAD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156-4ECF-4EF0-ACA6-37F7B55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FE7-CDB1-46F9-AF7B-5E61D80B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F08-89BB-4CBD-BABB-A9C42FE7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8CA-6612-4FCB-BF6A-EFA289D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016-6EDB-419A-B8EB-AFCCE975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EB8-51AC-4C6F-B0FB-0756FD1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7CE2-FF68-411D-A5F6-73ECDA0DB84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393372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ítulo 6: Patrimon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1557000"/>
            <a:ext cx="8816760" cy="44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Juan Pérez y Oscar González crean un sociedad de responsabilidad ltda., cada uno se compromete a aportar $1.000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Pér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 González aporte por Enterar 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sientos de Apertu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68280"/>
            <a:ext cx="8762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es Anónim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istingue entre capital Autorizado, Suscrito y Pa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ado: Aquel que figura en el estatuto y que se estima suficiente para el desenvolvimiento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crito: Parte del capital autorizado que los accionistas se comprometen a a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ado: Monto de las suscripciones efectivamente pag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78544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constituye una  S.A. por un capital de mm$10, el que se divide en 100.000 acciones a $100 c/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accionistas suscriben 80.000 ac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773360"/>
            <a:ext cx="829476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se pagan las acciones suscrita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$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utoriz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por suscrib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mm$ 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$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557000"/>
            <a:ext cx="891540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de Perso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miembro tiene una cuenta particular, que se carga con los retiros a cuenta de la utilidad del ejercicio y se abona con las utilidades distribu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r. Pérez retira $10.000 a cuenta de la utilidad d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Pérez Cta. particul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2640"/>
            <a:ext cx="883944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 final del Ejercicio se tienen utilidades $300.000 y se decide capitalizar el 50%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Pér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.González Cta.particul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s (Patrimonio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la Cuenta Particular tiene saldo deudor, representa un activo de la empresa. En caso contrario, refleja un pas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30736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es Anó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pa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revalorización d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precio en venta de accione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mayor valor retasación técnica act.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Reten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a futuros divide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s Acumul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(pérdida) del ejerc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ndos provisorios (me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39384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6.3 Distribución de Utilida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02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88124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del Ejercici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9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videndos por Pagar (P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Acumulada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773000"/>
            <a:ext cx="8915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deciden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ndos por Pag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.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es Negoc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jemplo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7760" y="1844640"/>
            <a:ext cx="888696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miten 500.000 acciones de pagos a un valor libro de $1.2 por acción. Se colocan obteniendo $650.000. El costo de la colocación fue de $15.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3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 Financier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ital Pagado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bre Precio Vta. Acciones (Pat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04960" y="226044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614664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40040" y="2647800"/>
            <a:ext cx="2958840" cy="10540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goci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21120" y="3943440"/>
            <a:ext cx="2577960" cy="90144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c.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35720" y="5086440"/>
            <a:ext cx="1892160" cy="825480"/>
          </a:xfrm>
          <a:prstGeom prst="ellipse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480" y="1865160"/>
            <a:ext cx="147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66800" y="62848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am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gocio Individ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depend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solo propietario, persona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uno jurídica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o y propietario son entidades diferentes contabl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de Perso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formada voluntariamente por  dos o más personas, naturales o juríd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ociedad es una entidad individual diferente de las actividades de cada socio. Es una persona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a socio es responsable de las deudas de la soc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conforman para actividades comerciales, oficinas de profesionales y empresas medi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8207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ón Creada por 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ietarios se identifican como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un persona Jurí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orma por la reunión de un fondo común o aporte de accion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istas tienen responsabilidad limitada al monto de sus apor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dministra por un directorio que delega parte de sus funciones en el Gerente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s un contrato en que dos o más personas estipulan poner algo en común con la mira de repartir entre sí los beneficios que de ello provengan. (Código Civi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4720" y="4581360"/>
            <a:ext cx="7488000" cy="945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 una persona jurídica distinta de los socios individualmente conside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848720" cy="33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 Juríd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ersona ficticia, que puede adquirir derechos y contraer obligaciones, y es susceptible de ser representada y de actuar por sí en la vida de los negocios como una persona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719440" y="2041560"/>
            <a:ext cx="295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JURI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4360" y="3108240"/>
            <a:ext cx="206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0160" y="3108240"/>
            <a:ext cx="21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DERECH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7200" y="4403880"/>
            <a:ext cx="167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 F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 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5800" y="4403880"/>
            <a:ext cx="222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FI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U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9920" y="5851440"/>
            <a:ext cx="27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46000" y="5851440"/>
            <a:ext cx="2316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U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7844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73320" y="289548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7332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0724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09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97200" y="411480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972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8340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4492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16120" y="5562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612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4600" y="5562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s de sociedades con fines de luc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 individual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col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de responsabilidad limi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Anó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147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edad en comand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6.1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</a:rPr>
              <a:t>Formas de Organiza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cp:keywords/>
  <dc:language>en-US</dc:language>
  <cp:lastModifiedBy>Michael Jorratt De Luis</cp:lastModifiedBy>
  <cp:lastPrinted>1999-03-18T21:00:01Z</cp:lastPrinted>
  <dcterms:modified xsi:type="dcterms:W3CDTF">2007-03-19T03:47:50Z</dcterms:modified>
  <cp:revision>10</cp:revision>
  <dc:subject/>
  <dc:title>Patrimonio CONTABILIDAD Y CONTROL DE GESTION</dc:title>
</cp:coreProperties>
</file>