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E3E-D0C7-4EE9-96D8-DB230858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FFF-D099-4B0A-AD75-01270267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BCB-54D4-4830-956C-C5E00933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85A-8AEA-406F-A8CF-FAC6CA8A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A96-F30C-41DC-8819-9C97EA12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00C-ADE8-4D3F-AE2B-EAF22CF2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844-A7FE-43AF-B481-7ED6D16F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71D-60C9-49B5-9EF9-769DB9CB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1A9-397F-469E-B111-BBE86C87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B39-B0A2-4238-B120-0C845062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527-79F8-4A2D-A9CA-F79E4F6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29A-7396-4080-B957-4FEED0C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D9F9-A5D3-4662-A96A-EDB2044E0F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393372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6: Patrimon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1557000"/>
            <a:ext cx="881676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Juan Pérez y Oscar González crean un sociedad de responsabilidad ltda., cada uno se compromete a aportar $1.000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Pér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. Gonzál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682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es Anónim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istingue entre capital Autorizado, Suscrito y Pa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ado: Aquel que figura en el estatuto y que se estima suficiente para el desenvolvimient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rito: Parte del capital autorizado que los accionistas se comprometen a a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do: Monto de las suscripciones efectivamente pag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onstituye una  S.A. por un capital de mm$10, el que se divide en 100.000 acciones a $100 c/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accionistas suscriben 80.000 a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773360"/>
            <a:ext cx="829476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agan las acciones suscrit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m$ 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557000"/>
            <a:ext cx="8915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miembro tiene una cuenta particular, que se carga con los retiros a cuenta de la utilidad del ejercicio y se abona con las utilidades distribu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r. Pérez retira $10.000 a cuenta de la utilidad del 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Pérez Cta. 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2640"/>
            <a:ext cx="8839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 final del Ejercicio se tienen utilidades $300.000 y se decide capitalizar el 50%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ér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.Gonzál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s (Patrimoni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Cuenta Particular tiene saldo deudor, representa un activo de la empresa. En caso contrario, refleja un pas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3073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Anó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revalorización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breprecio en venta de accione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mayor valor retasación técnica act.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Rete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futuros 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 (pérdida) d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 provisorios (me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8812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videndos por Pagar (P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Acumulada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773000"/>
            <a:ext cx="8915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ciden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es Negoc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760" y="1844640"/>
            <a:ext cx="88869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n 500.000 acciones de pagos a un valor libro de $1.2 por acción. Se colocan obteniendo $650.000. El costo de la colocación fue de $15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3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 Financie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Pagad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bre Precio Vta. Acciones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1704960" y="226044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4960" y="614664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40040" y="2647800"/>
            <a:ext cx="2958840" cy="10540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goci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1120" y="3943440"/>
            <a:ext cx="2577960" cy="901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c.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35720" y="5086440"/>
            <a:ext cx="1892160" cy="825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480" y="186516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66800" y="62848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ocio Individ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solo propietario, persona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uno jurí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entidades diferentes contabl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de Perso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formada voluntariamente por  dos o más personas, naturales o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ciedad es una entidad individual diferente de las actividades de cada socio. Es una persona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ocio es responsable de las deudas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nforman para actividades comerciales, oficinas de profesionales y empresas medi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207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Creada por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ietarios se identifican como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orma por la reunión de un fondo común o aporte de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 tienen responsabilidad limitada al monto de sus apo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dministra por un directorio que delega parte de sus funciones en el Gerent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 un contrato en que dos o más personas estipulan poner algo en común con la mira de repartir entre sí los beneficios que de ello provengan. (Código Civi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4581360"/>
            <a:ext cx="7488000" cy="945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 una persona jurídica distinta de los socios individualmente consid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 Juríd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sona ficticia, que puede adquirir derechos y contraer obligaciones, y es susceptible de ser representada y de actuar por sí en la vida de los negocios como una persona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9440" y="2041560"/>
            <a:ext cx="29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JUR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14360" y="3108240"/>
            <a:ext cx="206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0160" y="3108240"/>
            <a:ext cx="21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4403880"/>
            <a:ext cx="167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 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5800" y="4403880"/>
            <a:ext cx="22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 FI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920" y="5851440"/>
            <a:ext cx="27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0" y="5851440"/>
            <a:ext cx="231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844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3320" y="289548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33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724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09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97200" y="41148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72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83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449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6120" y="5562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61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46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sociedades con fines de luc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individual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Anó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en comand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cp:keywords/>
  <dc:language>en-US</dc:language>
  <cp:lastModifiedBy>Michael Jorratt De Luis</cp:lastModifiedBy>
  <cp:lastPrinted>1999-03-18T21:00:01Z</cp:lastPrinted>
  <dcterms:modified xsi:type="dcterms:W3CDTF">2007-03-19T03:47:50Z</dcterms:modified>
  <cp:revision>10</cp:revision>
  <dc:subject/>
  <dc:title>Patrimonio CONTABILIDAD Y CONTROL DE GESTION</dc:title>
</cp:coreProperties>
</file>