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5A3-B260-456C-8104-8E4A535F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6A7-E8F7-42EB-92CB-0EF9D144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D27-32F7-4345-A5B0-EEB24AE7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B54-7E12-4FE7-8339-7D8BCC69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DC4-CEE4-46FF-BD78-E396F508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3A8-9FCE-4C7D-9E01-66E0CE92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379-B016-48D7-B44F-4F7D8798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B1B-4ADA-48E0-9367-61F19F3C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5ED-8DDB-449F-93E5-88F3A29C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776-8272-45B9-8134-7EFDC9F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146-824E-4FC3-BB4D-FCD57F8A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973-A589-4FB6-BA12-D14204A2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D0DC-5692-4654-9994-B0AE72944C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400" y="195228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5: Pas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51508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: Es un contrato de arrendamiento con opc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solicita a otra (la empresa de leasing) que adquiera un determinado bien para dárselo simultáneamente en arrend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ntrato establece el pago de una cuota de arrendamiento por un cierto lap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 ese lapso el arrendatario tiene 3 op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volver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r arrendánd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gar la opción y quedarse con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77336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Financi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en leasing 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Leas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es Diferi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de las cuotas de arren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toria de las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que generará el contrato durante su vigencia, es decir (2) -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mpra una camioneta vía leasing. El contrato establece el pago de 6 cuotas iguales de m$ 1.000, las que incluyen un interés mensual del 1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.01) 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5.795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= 6.000 - 5.795,5 = 204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gistr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 Fijo en leasing (A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795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204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 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l primer m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8188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parte de la cuota mensual corresponde a interés y cuánto a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 por amortiza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é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95,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7,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2,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853,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8,5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1,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01,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9,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,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940,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9,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70,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970,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9,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0,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990,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0,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627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Tribut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uota del leasing es un gasto. Sólo se registra como activo la última cuota (opción), la cual se depre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ota contrato de lea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ast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5565600"/>
            <a:ext cx="7719840" cy="94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onces, la ventaja fundamental del leasing es tribut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0120" y="1600200"/>
            <a:ext cx="7499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es rubros del pas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es Rubros del Pasiv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920" y="1485720"/>
            <a:ext cx="85341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ntas por pagar, Documentos por pagar y Acreedores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ercibidos por adela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8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ligaciones con el Público: Bo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emisión: Monto que se pagará al tenedor del 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de emisión: Tasa de interés que se deveng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ar: Capital no amortizado más intereses devengados y no pa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mercado: Precio al que se transa el bono (en función de la tasa de interés de merc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pón: Pago parcial del bono, que puede incluir amortización del capital y/o intere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155680"/>
            <a:ext cx="8610480" cy="38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700 y tasa de emisión de 6,5%. Anualmente se amortizará la quinta parte del valor de emisión y se pagarán los intereses devengados.  Como la tasa de interés de mercado es de 7,2%, el bono se transó en mm $687,46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660400"/>
            <a:ext cx="8610480" cy="32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2,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54240"/>
            <a:ext cx="861048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r cupón (pago de capital e interes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3440"/>
            <a:ext cx="748368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40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712,65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65280"/>
            <a:ext cx="7483680" cy="71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2491920"/>
            <a:ext cx="8839440" cy="299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7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inanciero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Michael Jorratt De Luis</cp:lastModifiedBy>
  <cp:lastPrinted>1999-03-18T20:56:04Z</cp:lastPrinted>
  <dcterms:modified xsi:type="dcterms:W3CDTF">2007-03-19T03:28:43Z</dcterms:modified>
  <cp:revision>10</cp:revision>
  <dc:subject/>
  <dc:title>Primera Parte: Contabilidad Financiera</dc:title>
</cp:coreProperties>
</file>