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3.wmf" ContentType="image/x-wmf"/>
  <Override PartName="/ppt/media/image26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4.wmf" ContentType="image/x-wmf"/>
  <Override PartName="/ppt/media/image2.wmf" ContentType="image/x-wmf"/>
  <Override PartName="/ppt/media/image2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0AD74-5B23-4DDB-961C-68B1B4ACB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0E87A-C38D-4935-BAF3-402FD26B8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82451-B3C6-419B-98A3-6E6CD5D0C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E216A-7360-49BE-92EA-E968E4551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980CB-C5BB-40B1-A64E-6789E247D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41D9C-4C48-49BA-851E-4C7AAA1BA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F0950-FECA-4636-A78F-491AB55DC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4A692-02EE-48AF-AA47-33DE7060D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A098C-476E-443B-8188-D25D44F39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A040D-EA25-4064-8E96-00BAF8581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A452A-8C7F-4023-A177-50A184A30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4BFFE-9F55-4BB9-94D1-FF4C6FD27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47152-079D-4823-8E93-8F67597C6DA1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4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5.wmf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Ejemplo de registro de transacciones en la ecuación del inventa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91520" cy="16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 1 de diciembre el ingeniero Julio González crea una sociedad con su esposa, JG Gestión SA, mediante la cual se dedicará a prestar asesorías en control de gestión. Cada uno aportó $20 millones en efectiv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84120" y="3641760"/>
          <a:ext cx="8435880" cy="92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4120" y="3641760"/>
                    <a:ext cx="8435880" cy="92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611280" y="720720"/>
          <a:ext cx="8066160" cy="5516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720720"/>
                    <a:ext cx="8066160" cy="551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6840" y="1197000"/>
            <a:ext cx="84358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Las oficinas tienen una vida útil estimada en 50 años, con valor residual cero. En tanto, para los computadores y muebles se estima la vida útil en 5 años, sin valor residual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La deuda con el banco devenga un interés mensual de 1%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Durante el mes de diciembre se consumió el 20% de los suministr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Durante diciembre se ejecutó el 5% del contrato con el Ministerio de Economí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Al 31 de diciembre quedaron remuneraciones impagas por $600 mi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260280"/>
            <a:ext cx="8507520" cy="70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Antecedentes adicionales para JG Gestión S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"/>
          <p:cNvGraphicFramePr/>
          <p:nvPr/>
        </p:nvGraphicFramePr>
        <p:xfrm>
          <a:off x="250920" y="2509920"/>
          <a:ext cx="8642160" cy="1839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2509920"/>
                    <a:ext cx="8642160" cy="183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468360" y="1397160"/>
          <a:ext cx="8280360" cy="4100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397160"/>
                    <a:ext cx="8280360" cy="41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" name=""/>
          <p:cNvGraphicFramePr/>
          <p:nvPr/>
        </p:nvGraphicFramePr>
        <p:xfrm>
          <a:off x="395280" y="1608120"/>
          <a:ext cx="8496360" cy="3641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608120"/>
                    <a:ext cx="8496360" cy="364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24000" y="274680"/>
            <a:ext cx="84960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jemplo: Plan de Cuentas de JG Gestión 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4478400" y="1557360"/>
            <a:ext cx="4414680" cy="40687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87440" y="1557360"/>
            <a:ext cx="396216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24000" y="274680"/>
            <a:ext cx="84960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jemplo: Plan de Cuentas de JG Gestión 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2079720" y="1270080"/>
            <a:ext cx="4484520" cy="51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Ejemplo de Registros Contab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11280" y="1649520"/>
            <a:ext cx="77058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 la empresa JG Gestión SA desarrollaremos: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Registro de las transacciones en el libro dia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Libro may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Balance de comprobación y sal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Estados financie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Asientos de cier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86920" y="304920"/>
            <a:ext cx="765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Registro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de las transacciones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en el libro dia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611280" y="1197000"/>
          <a:ext cx="8137440" cy="4906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197000"/>
                    <a:ext cx="8137440" cy="490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86920" y="304920"/>
            <a:ext cx="765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Registro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de las transacciones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en el libro dia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611280" y="1206360"/>
          <a:ext cx="8137440" cy="4329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206360"/>
                    <a:ext cx="8137440" cy="432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736560"/>
            <a:ext cx="8291520" cy="20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 3 de diciembre compra en $60 millones un piso de un edificio, pagando el 20% al contado. La diferencia la financia con un crédito hipotecario. La propiedad fue tasada por el SII en $45 millones, siendo un 10% de ese valor atribuible al terren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312840" y="3355920"/>
          <a:ext cx="8507160" cy="2136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2840" y="3355920"/>
                    <a:ext cx="8507160" cy="213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86920" y="304920"/>
            <a:ext cx="765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Registro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de las transacciones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en el libro dia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539640" y="1116000"/>
          <a:ext cx="8136000" cy="4905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116000"/>
                    <a:ext cx="8136000" cy="490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286920" y="304920"/>
            <a:ext cx="765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Registro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de las transacciones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en el libro dia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611280" y="1338120"/>
          <a:ext cx="8064360" cy="3722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338120"/>
                    <a:ext cx="8064360" cy="372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290520" y="304920"/>
            <a:ext cx="292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b)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Libro May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684360" y="1111320"/>
          <a:ext cx="7488000" cy="4765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111320"/>
                    <a:ext cx="7488000" cy="476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5" name=""/>
          <p:cNvGraphicFramePr/>
          <p:nvPr/>
        </p:nvGraphicFramePr>
        <p:xfrm>
          <a:off x="684360" y="933480"/>
          <a:ext cx="7632720" cy="4618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933480"/>
                    <a:ext cx="7632720" cy="461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7" name=""/>
          <p:cNvGraphicFramePr/>
          <p:nvPr/>
        </p:nvGraphicFramePr>
        <p:xfrm>
          <a:off x="468360" y="847800"/>
          <a:ext cx="7991280" cy="4833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847800"/>
                    <a:ext cx="7991280" cy="483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461880" y="304920"/>
            <a:ext cx="616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c)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Balance de Comprobación y Sal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68360" y="1152360"/>
          <a:ext cx="8351640" cy="528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152360"/>
                    <a:ext cx="8351640" cy="528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378720" y="185760"/>
            <a:ext cx="436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d)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Estados Financier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611280" y="3900600"/>
          <a:ext cx="5327640" cy="2768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3900600"/>
                    <a:ext cx="5327640" cy="276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" name=""/>
          <p:cNvGraphicFramePr/>
          <p:nvPr/>
        </p:nvGraphicFramePr>
        <p:xfrm>
          <a:off x="611280" y="981000"/>
          <a:ext cx="6697440" cy="28735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1280" y="981000"/>
                    <a:ext cx="6697440" cy="287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81960" y="380880"/>
            <a:ext cx="373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)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Asientos de Cier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800" y="1066680"/>
            <a:ext cx="8169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s cuentas de resultado se deben dejar en cero para comenzar el ejercicio sigui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971640" y="2133720"/>
          <a:ext cx="6553080" cy="4497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2133720"/>
                    <a:ext cx="6553080" cy="449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736560"/>
            <a:ext cx="8291520" cy="16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 9 de diciembre compra computadores y muebles de oficina por un valor total de $7 millones, pagándose el 40% en efectivo y el resto a 60 dí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277920" y="2781360"/>
          <a:ext cx="8686800" cy="2492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7920" y="2781360"/>
                    <a:ext cx="8686800" cy="249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736560"/>
            <a:ext cx="8291520" cy="16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 13 de diciembre se adquieren suministros de oficina (CDs, papeles, etc.) para ser usados durante los 4 próximos meses. El monto invertido es de $500 mil y se paga al conta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206280" y="2852640"/>
          <a:ext cx="8686800" cy="2492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6280" y="2852640"/>
                    <a:ext cx="8686800" cy="249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736560"/>
            <a:ext cx="8291520" cy="16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 20 de diciembre la consultora recibe su primer ingreso, por $2,5 millones en efectivo, producto de una capacitación prestada a la Cía. APZ S.A. Se recauda el 40% al contado y el resto a 30 dí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250920" y="2852640"/>
          <a:ext cx="8686800" cy="2800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2852640"/>
                    <a:ext cx="8686800" cy="280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736560"/>
            <a:ext cx="829152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 25 de diciembre se firma un contrato de consultoría con el Ministerio de Economía por un valor total de $47 millones, el cual será ejecutado en un plazo de 6 meses. Se recibe un anticipo de $10 millones y el resto se irá cobrando en función del avanc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206280" y="2997360"/>
          <a:ext cx="8686800" cy="3106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6280" y="2997360"/>
                    <a:ext cx="8686800" cy="31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736200"/>
            <a:ext cx="829152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 30 de diciembre se pagan remuneraciones por $6,5 millones y servicios básicos por $150 mil, todo al contad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206280" y="2205000"/>
          <a:ext cx="8686800" cy="341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6280" y="2205000"/>
                    <a:ext cx="8686800" cy="34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250920" y="2163600"/>
          <a:ext cx="8640720" cy="3397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2163600"/>
                    <a:ext cx="8640720" cy="339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" name=""/>
          <p:cNvSpPr/>
          <p:nvPr/>
        </p:nvSpPr>
        <p:spPr>
          <a:xfrm>
            <a:off x="179280" y="2709720"/>
            <a:ext cx="4176720" cy="503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356000" y="4508640"/>
            <a:ext cx="4788000" cy="7920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411280" y="3213000"/>
            <a:ext cx="0" cy="27370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588000" y="5300640"/>
            <a:ext cx="0" cy="6494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954000" y="6014880"/>
            <a:ext cx="295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stado de Flujo de Efect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420160" y="6014880"/>
            <a:ext cx="24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stado de Result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755640" y="2060640"/>
          <a:ext cx="7632720" cy="2878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2060640"/>
                    <a:ext cx="7632720" cy="287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7:17:42Z</dcterms:created>
  <dc:creator>Michael Jorratt De Luis</dc:creator>
  <dc:description/>
  <dc:language>en-US</dc:language>
  <cp:lastModifiedBy>Michel</cp:lastModifiedBy>
  <dcterms:modified xsi:type="dcterms:W3CDTF">2007-08-09T04:55:24Z</dcterms:modified>
  <cp:revision>2</cp:revision>
  <dc:subject/>
  <dc:title>Ejemplo: Plan de Cuentas de JG Gestión SA</dc:title>
</cp:coreProperties>
</file>