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2A1E-3949-4249-B05D-8B4E4BA6C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BE45-C369-4480-B88B-A56C72B4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92C7-A741-49D6-8CE9-A22B4FA05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8E97-3C16-41A4-9336-96036B316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7FB3-AA56-4AB9-8282-CD11FFBA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AAD7-0DE5-47EC-974C-FBE87661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FA7D-3EDE-46A4-9D0F-3CE6E56F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A31A-9B9A-4BF7-B663-D401FCD8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3420-E6A1-4F59-AB82-A56A0140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7808-A188-46A0-87A8-0E817092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D1AE-1FEB-4280-928C-A77AC49D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1EEB-740C-4928-B177-70E3B2FE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E1CC-D239-4CF4-A967-BE43026893A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jemplo de registro de transacciones en la ecuación del invent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1 de diciembre el ingeniero Julio González crea una sociedad con su esposa, JG Gestión SA, mediante la cual se dedicará a prestar asesorías en control de gestión. Cada uno aportó $20 millones en efec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4120" y="3641760"/>
          <a:ext cx="8435880" cy="92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3641760"/>
                    <a:ext cx="84358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11280" y="720720"/>
          <a:ext cx="8066160" cy="551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720720"/>
                    <a:ext cx="8066160" cy="55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684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oficinas tienen una vida útil estimada en 50 años, con valor residual cero. En tanto, para los computadores y muebles se estima la vida útil en 5 años, sin valor residu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deuda con el banco devenga un interés mensual de 1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urante el mes de diciembre se consumió el 20% de los suminist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urante diciembre se ejecutó el 5% del contrato con el Ministerio de Econom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l 31 de diciembre quedaron remuneraciones impagas por $600 m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260280"/>
            <a:ext cx="850752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ntecedentes adicionales para JG Gestión 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250920" y="2509920"/>
          <a:ext cx="8642160" cy="183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509920"/>
                    <a:ext cx="8642160" cy="18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468360" y="1397160"/>
          <a:ext cx="8280360" cy="4100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97160"/>
                    <a:ext cx="828036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395280" y="1608120"/>
          <a:ext cx="8496360" cy="364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608120"/>
                    <a:ext cx="8496360" cy="36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: Plan de Cuentas de JG Gestión 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478400" y="1557360"/>
            <a:ext cx="4414680" cy="4068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87440" y="1557360"/>
            <a:ext cx="39621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: Plan de Cuentas de JG Gestión 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079720" y="1270080"/>
            <a:ext cx="44845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mplo de Registro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1649520"/>
            <a:ext cx="7705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la empresa JG Gestión SA desarrollaremos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gistro de las transacciones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alance de comprobación y sal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ado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sientos de cie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11280" y="1197000"/>
          <a:ext cx="8137440" cy="490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197000"/>
                    <a:ext cx="813744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11280" y="1206360"/>
          <a:ext cx="8137440" cy="432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206360"/>
                    <a:ext cx="813744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736560"/>
            <a:ext cx="829152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3 de diciembre compra en $60 millones un piso de un edificio, pagando el 20% al contado. La diferencia la financia con un crédito hipotecario. La propiedad fue tasada por el SII en $45 millones, siendo un 10% de ese valor atribuible al terr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840" y="3355920"/>
          <a:ext cx="8507160" cy="213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840" y="3355920"/>
                    <a:ext cx="8507160" cy="21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9640" y="1116000"/>
          <a:ext cx="8136000" cy="490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16000"/>
                    <a:ext cx="8136000" cy="49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1280" y="1338120"/>
          <a:ext cx="8064360" cy="372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38120"/>
                    <a:ext cx="8064360" cy="37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90520" y="304920"/>
            <a:ext cx="29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4360" y="1111320"/>
          <a:ext cx="7488000" cy="476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111320"/>
                    <a:ext cx="748800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684360" y="933480"/>
          <a:ext cx="7632720" cy="461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933480"/>
                    <a:ext cx="763272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468360" y="847800"/>
          <a:ext cx="7991280" cy="483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847800"/>
                    <a:ext cx="7991280" cy="48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61880" y="304920"/>
            <a:ext cx="61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Balance de Comprobación y Sal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68360" y="1152360"/>
          <a:ext cx="8351640" cy="52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52360"/>
                    <a:ext cx="8351640" cy="52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78720" y="185760"/>
            <a:ext cx="436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ad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11280" y="3900600"/>
          <a:ext cx="5327640" cy="276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900600"/>
                    <a:ext cx="5327640" cy="27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611280" y="981000"/>
          <a:ext cx="6697440" cy="2873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981000"/>
                    <a:ext cx="6697440" cy="28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1960" y="380880"/>
            <a:ext cx="37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sientos de Cie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066680"/>
            <a:ext cx="816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cuentas de resultado se deben dejar en cero para comenzar el ejercicio sigu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71640" y="2133720"/>
          <a:ext cx="6553080" cy="449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133720"/>
                    <a:ext cx="6553080" cy="44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736560"/>
            <a:ext cx="829152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9 de diciembre compra computadores y muebles de oficina por un valor total de $7 millones, pagándose el 40% en efectivo y el resto a 60 dí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77920" y="2781360"/>
          <a:ext cx="8686800" cy="249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920" y="2781360"/>
                    <a:ext cx="8686800" cy="24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736560"/>
            <a:ext cx="829152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13 de diciembre se adquieren suministros de oficina (CDs, papeles, etc.) para ser usados durante los 4 próximos meses. El monto invertido es de $500 mil y se paga al con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06280" y="2852640"/>
          <a:ext cx="8686800" cy="249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2852640"/>
                    <a:ext cx="8686800" cy="24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736560"/>
            <a:ext cx="829152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20 de diciembre la consultora recibe su primer ingreso, por $2,5 millones en efectivo, producto de una capacitación prestada a la Cía. APZ S.A. Se recauda el 40% al contado y el resto a 30 dí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50920" y="2852640"/>
          <a:ext cx="8686800" cy="280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852640"/>
                    <a:ext cx="8686800" cy="28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736560"/>
            <a:ext cx="82915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25 de diciembre se firma un contrato de consultoría con el Ministerio de Economía por un valor total de $47 millones, el cual será ejecutado en un plazo de 6 meses. Se recibe un anticipo de $10 millones y el resto se irá cobrando en función del ava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06280" y="2997360"/>
          <a:ext cx="8686800" cy="310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2997360"/>
                    <a:ext cx="8686800" cy="31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736200"/>
            <a:ext cx="82915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30 de diciembre se pagan remuneraciones por $6,5 millones y servicios básicos por $150 mil, todo al cont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06280" y="2205000"/>
          <a:ext cx="8686800" cy="341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2205000"/>
                    <a:ext cx="8686800" cy="34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50920" y="2163600"/>
          <a:ext cx="8640720" cy="339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163600"/>
                    <a:ext cx="8640720" cy="33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79280" y="2709720"/>
            <a:ext cx="4176720" cy="503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56000" y="4508640"/>
            <a:ext cx="4788000" cy="79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11280" y="3213000"/>
            <a:ext cx="0" cy="273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88000" y="5300640"/>
            <a:ext cx="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54000" y="6014880"/>
            <a:ext cx="29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ado de Flujo de Efec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20160" y="601488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ado de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55640" y="2060640"/>
          <a:ext cx="7632720" cy="287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060640"/>
                    <a:ext cx="7632720" cy="28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7:17:42Z</dcterms:created>
  <dc:creator>Michael Jorratt De Luis</dc:creator>
  <dc:description/>
  <dc:language>en-US</dc:language>
  <cp:lastModifiedBy>Michel</cp:lastModifiedBy>
  <dcterms:modified xsi:type="dcterms:W3CDTF">2007-08-09T04:55:24Z</dcterms:modified>
  <cp:revision>2</cp:revision>
  <dc:subject/>
  <dc:title>Ejemplo: Plan de Cuentas de JG Gestión SA</dc:title>
</cp:coreProperties>
</file>