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7D69-488B-4103-BCB5-A9B65102E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A2D0-2EAF-4E73-A6D0-331B915CA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8AEB-F560-4BFA-82D2-0A46E75DA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D985-AA49-4375-A73C-DD94EFD5E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428F-D156-4EFD-B8D3-377111C25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88A0-51FA-4738-A3E0-4B8316C6D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064C-BFAF-4703-819D-8AF85A81E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A947-3FD2-4A0D-9620-39E8C756E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39DA-419A-40BA-BC50-28F31F46A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D17D-CF25-4308-8CAD-0601B2068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0A8C-6659-4CB1-A65C-06B7A1BEA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B0CF-F09C-488F-9B7E-28B9C31F3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83E31-BAA2-425F-9B46-17E7F904D3B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Ejemplo de registro de transacciones en la ecuación del invent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1 de diciembre el ingeniero Julio González crea una sociedad con su esposa, JG Gestión SA, mediante la cual se dedicará a prestar asesorías en control de gestión. Cada uno aportó $20 millones en efect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84120" y="3641760"/>
          <a:ext cx="8435880" cy="92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120" y="3641760"/>
                    <a:ext cx="843588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611280" y="720720"/>
          <a:ext cx="8066160" cy="5516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720720"/>
                    <a:ext cx="8066160" cy="551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6840" y="119700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s oficinas tienen una vida útil estimada en 50 años, con valor residual cero. En tanto, para los computadores y muebles se estima la vida útil en 5 años, sin valor residu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 deuda con el banco devenga un interés mensual de 1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urante el mes de diciembre se consumió el 20% de los suministr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urante diciembre se ejecutó el 5% del contrato con el Ministerio de Economí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l 31 de diciembre quedaron remuneraciones impagas por $600 m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260280"/>
            <a:ext cx="850752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Antecedentes adicionales para JG Gestión 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250920" y="2509920"/>
          <a:ext cx="8642160" cy="1839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509920"/>
                    <a:ext cx="8642160" cy="18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468360" y="1397160"/>
          <a:ext cx="8280360" cy="4100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397160"/>
                    <a:ext cx="8280360" cy="41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395280" y="1608120"/>
          <a:ext cx="8496360" cy="3641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608120"/>
                    <a:ext cx="8496360" cy="364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4960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jemplo: Plan de Cuentas de JG Gestión 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478400" y="1557360"/>
            <a:ext cx="4414680" cy="40687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87440" y="1557360"/>
            <a:ext cx="396216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4960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jemplo: Plan de Cuentas de JG Gestión 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079720" y="1270080"/>
            <a:ext cx="448452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jemplo de Registros Cont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11280" y="1649520"/>
            <a:ext cx="7705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la empresa JG Gestión SA desarrollaremos: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Registro de las transacciones en el libro di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ibro may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Balance de comprobación y sal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stados financi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sientos de cier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86920" y="304920"/>
            <a:ext cx="765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gistr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de las transaccione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en el libro di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11280" y="1197000"/>
          <a:ext cx="8137440" cy="4906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197000"/>
                    <a:ext cx="8137440" cy="49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86920" y="304920"/>
            <a:ext cx="765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gistr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de las transaccione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en el libro di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11280" y="1206360"/>
          <a:ext cx="8137440" cy="4329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206360"/>
                    <a:ext cx="8137440" cy="432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736560"/>
            <a:ext cx="829152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3 de diciembre compra en $60 millones un piso de un edificio, pagando el 20% al contado. La diferencia la financia con un crédito hipotecario. La propiedad fue tasada por el SII en $45 millones, siendo un 10% de ese valor atribuible al terre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840" y="3355920"/>
          <a:ext cx="8507160" cy="2136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840" y="3355920"/>
                    <a:ext cx="8507160" cy="21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86920" y="304920"/>
            <a:ext cx="765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gistr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de las transaccione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en el libro di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539640" y="1116000"/>
          <a:ext cx="8136000" cy="490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116000"/>
                    <a:ext cx="8136000" cy="49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86920" y="304920"/>
            <a:ext cx="765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gistr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de las transaccione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en el libro di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11280" y="1338120"/>
          <a:ext cx="8064360" cy="3722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338120"/>
                    <a:ext cx="8064360" cy="37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90520" y="304920"/>
            <a:ext cx="292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ibro May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684360" y="1111320"/>
          <a:ext cx="7488000" cy="476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111320"/>
                    <a:ext cx="7488000" cy="47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684360" y="933480"/>
          <a:ext cx="7632720" cy="4618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933480"/>
                    <a:ext cx="7632720" cy="46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468360" y="847800"/>
          <a:ext cx="7991280" cy="483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847800"/>
                    <a:ext cx="7991280" cy="48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61880" y="304920"/>
            <a:ext cx="616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Balance de Comprobación y Sal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68360" y="1152360"/>
          <a:ext cx="8351640" cy="52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152360"/>
                    <a:ext cx="8351640" cy="52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78720" y="185760"/>
            <a:ext cx="436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stados Financi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11280" y="3900600"/>
          <a:ext cx="5327640" cy="2768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3900600"/>
                    <a:ext cx="5327640" cy="27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611280" y="981000"/>
          <a:ext cx="6697440" cy="2873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981000"/>
                    <a:ext cx="6697440" cy="28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81960" y="380880"/>
            <a:ext cx="373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sientos de Cier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066680"/>
            <a:ext cx="816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s cuentas de resultado se deben dejar en cero para comenzar el ejercicio sigu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971640" y="2133720"/>
          <a:ext cx="6553080" cy="449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133720"/>
                    <a:ext cx="6553080" cy="44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736560"/>
            <a:ext cx="829152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9 de diciembre compra computadores y muebles de oficina por un valor total de $7 millones, pagándose el 40% en efectivo y el resto a 60 dí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77920" y="2781360"/>
          <a:ext cx="8686800" cy="2492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920" y="2781360"/>
                    <a:ext cx="8686800" cy="24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736560"/>
            <a:ext cx="829152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13 de diciembre se adquieren suministros de oficina (CDs, papeles, etc.) para ser usados durante los 4 próximos meses. El monto invertido es de $500 mil y se paga al cont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06280" y="2852640"/>
          <a:ext cx="8686800" cy="2492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280" y="2852640"/>
                    <a:ext cx="8686800" cy="24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736560"/>
            <a:ext cx="829152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20 de diciembre la consultora recibe su primer ingreso, por $2,5 millones en efectivo, producto de una capacitación prestada a la Cía. APZ S.A. Se recauda el 40% al contado y el resto a 30 dí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50920" y="2852640"/>
          <a:ext cx="8686800" cy="2800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852640"/>
                    <a:ext cx="8686800" cy="280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736560"/>
            <a:ext cx="82915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25 de diciembre se firma un contrato de consultoría con el Ministerio de Economía por un valor total de $47 millones, el cual será ejecutado en un plazo de 6 meses. Se recibe un anticipo de $10 millones y el resto se irá cobrando en función del avan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206280" y="2997360"/>
          <a:ext cx="8686800" cy="3106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280" y="2997360"/>
                    <a:ext cx="8686800" cy="31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736200"/>
            <a:ext cx="829152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30 de diciembre se pagan remuneraciones por $6,5 millones y servicios básicos por $150 mil, todo al contad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206280" y="2205000"/>
          <a:ext cx="8686800" cy="341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280" y="2205000"/>
                    <a:ext cx="8686800" cy="34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250920" y="2163600"/>
          <a:ext cx="8640720" cy="3397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163600"/>
                    <a:ext cx="8640720" cy="33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179280" y="2709720"/>
            <a:ext cx="4176720" cy="503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356000" y="4508640"/>
            <a:ext cx="4788000" cy="792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411280" y="3213000"/>
            <a:ext cx="0" cy="2737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588000" y="5300640"/>
            <a:ext cx="0" cy="649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54000" y="6014880"/>
            <a:ext cx="29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tado de Flujo de Efec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420160" y="6014880"/>
            <a:ext cx="24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tado de Resul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755640" y="2060640"/>
          <a:ext cx="7632720" cy="2878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060640"/>
                    <a:ext cx="7632720" cy="28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7:17:42Z</dcterms:created>
  <dc:creator>Michael Jorratt De Luis</dc:creator>
  <dc:description/>
  <dc:language>en-US</dc:language>
  <cp:lastModifiedBy>Michel</cp:lastModifiedBy>
  <dcterms:modified xsi:type="dcterms:W3CDTF">2007-08-09T04:55:24Z</dcterms:modified>
  <cp:revision>2</cp:revision>
  <dc:subject/>
  <dc:title>Ejemplo: Plan de Cuentas de JG Gestión SA</dc:title>
</cp:coreProperties>
</file>