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96B3-9E07-4FAC-877E-6F6A2E0AF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785D-5364-40EE-9B8B-680177A0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D521-6F68-4DD1-9169-FCED05FE1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8FC4-DAB4-4975-AE92-8DA9CFF8A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DA9D-3967-4919-9365-842D47DD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3903-A8B8-4B09-8BAE-4A80AD39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D24B-9746-44CD-8903-499EA345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771D-4288-4DA7-BFF9-43FF7D51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EBA1-C363-4CF8-A602-A0A856F3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BCAE-CC75-4409-8396-63A26E0B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B878-6CFA-46FF-AFB6-ABF73BDC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A846-ED92-4FC5-81FE-CE3C52BA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394F-548B-40FE-9189-FBF4F8BC4A9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560" y="2060280"/>
            <a:ext cx="7086600" cy="147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ntabilidad Financier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7560" y="3716280"/>
            <a:ext cx="6994440" cy="101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ítulo 4: Ac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4560" y="1887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822240" y="40417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Deudores por ventas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4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Provisiones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Book Antiqua"/>
              </a:rPr>
              <a:t>(2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Deudores por ventas (neto)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4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04560" y="205560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póngase que se logran recuperar $1.000 de la deuda previamente castig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04632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Debe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Disponible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Ingresos fuera de la explotación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360" y="5003640"/>
            <a:ext cx="816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Book Antiqua"/>
              </a:rPr>
              <a:t>Las normas tributarias permiten rebajar como gasto los castigos, pero no las provi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3427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8207280" cy="34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PERIODICO: Se cierra el negocio cada cierto tiempo, se cuentan las unidades físicas y se valoriz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PERPETUO: La cuenta existencias se mantiene permanentemente al d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1628640"/>
            <a:ext cx="8001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stemas de Invent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stema Periódic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974880" y="1989000"/>
            <a:ext cx="6910200" cy="20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ventario inici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ompras del Período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3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rcadería Disponi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00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Inventario Final        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800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sto de Explotació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2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4408560"/>
            <a:ext cx="8097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utiliza una cuenta transitoria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ercaderí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que se carga con el inventario inicial y las compras (al costo) y se abona con la ventas (a precio de ven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se detectan robos ni mermas de mercade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stema Perpetu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vender mercadería se reduce la cuenta mercadería y se aumenta la cuenta costo de ve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reconoce el Costo de Venta cada vez que ocurre una ve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ere poder asociar cada venta con la mercader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98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étodos de Contabilización de Inventari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ongamos que una empresa ha realizado las siguientes compras de mercader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.0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unidades a $10 cada 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8.0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unidades a $11 cada 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el 10.04 vende dos unidades ¿Cuál es el costo de venta? ¿$20, $22, el promedio ponderado, 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44480" y="1941120"/>
            <a:ext cx="8075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étodo de l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dades Específic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ro Permanente que permite Identificar cuál es el Costo de Adquisición de Cada Unidad Vend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usa con volúmenes de venta peque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usa para activos de alto valor unita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5440" y="404640"/>
            <a:ext cx="844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898560" indent="-89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étodos de Contabilización de Invent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99520" y="1483920"/>
            <a:ext cx="866484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étodo de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o Promedio Pondera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da vez que ocurre una compra se calcula un nuevo promed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*10  +5*11)/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0,6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*10,62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1,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*10,62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3,75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590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9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étodos de Contabilización de Inventar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94920" y="1699920"/>
            <a:ext cx="80629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Método FIFO (o PE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uesto: La mercadería que primero entra al inventario es la que primero se ven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mercadería vendida se valora al costo más antiguo, y el inventario queda valorado al costo de adquisición más rec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*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+ 5*1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90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9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étodos de Contabilización de Inventar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628280"/>
            <a:ext cx="7772400" cy="38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étodo LIFO (o UE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uesto: La mercadería que ingresó al último es la primera que se ven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mercadería vendida se valora al costo de adquisición más reciente, y las existencias se valoran al costo más antigu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*1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*11 + 3*10 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805360"/>
            <a:ext cx="8064360" cy="82404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590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9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étodos de Contabilización de Inventar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oración de A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entas por Cobr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étodos de Valoración de Exis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os Fi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os Financi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85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351640" cy="136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tiene un Inventario Inicial de 300 unidades a $0,95 c/u. Las compras y ventas del período son las siguie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76360" y="2457360"/>
            <a:ext cx="6408720" cy="42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ventario Fís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5280" y="2362320"/>
            <a:ext cx="828036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 Sistema Periódico y FIF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= 250*1,12+80*1,1 = 3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 = 300*0,95=2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as = 1.0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 para la venta (DV) = II + Compras = 285 + 1.015 = 1.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 = DV – IF = 1300 - 368 = 9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24000" y="1730520"/>
            <a:ext cx="7772400" cy="249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= 300*0,95+30*1,0 = 3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V = II + Compras = 1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s = DV – IF = 1300- 315 = 9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 Sistema Periódico y LIF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3933720"/>
            <a:ext cx="8136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los precios suben, el costo de ventas con LIFO es mayor que con FIFO. A su vez, el valor de las existencias con LIFO es menor que con FIF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920" y="21938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P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300*0,95+10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,04 $/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0+9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IF = 330*1,04 = 343,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V = II + Compras = 1.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 = DV – IF = 1300 – 343,2 =  956,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 Sistema Periódico y CPP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 Sistema Perpetuo y FIF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2319480"/>
            <a:ext cx="8497800" cy="30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 Sistema Perpetuo y LIF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0920" y="2395440"/>
            <a:ext cx="8569080" cy="31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 Sistema Perpetuo y CPP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4360" y="2414520"/>
            <a:ext cx="882036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M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o de Ven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ódic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3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8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5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petu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3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4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ntario Fin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ódic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petu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5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6840" y="2924280"/>
            <a:ext cx="739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01880" y="558972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5840" y="393372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01880" y="659772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2360" y="475920"/>
            <a:ext cx="80647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os Fijos o de Largo Plaz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ctivos Físicos (o tangibles)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errenos, construcciones y obras de ingeniería, maquinarias y equip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ctivos Intangibles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entes, marcas comerciales, derechos de llave, licencias o franquicia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342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699920"/>
            <a:ext cx="8588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en 3 métodos para valorar activ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oración al Co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taja: Información objetiva y verific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ventaja: No necesariamente coincide con valor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or de Mercado (o de Reemplaz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taja: Es el Valor Real del A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ventaja: No siempre es objetivo, no es único y no todos los activos se transan en el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7680" y="404640"/>
            <a:ext cx="792468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4.1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os Físic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449280" y="1700280"/>
            <a:ext cx="8299440" cy="45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loración: Al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costo de adquisición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que comprende el precio del activo más los gastos conex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astos Conexos: Transporte, instalaciones, comisiones, gastos notarial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gunos activos de bajo valor relativo se registran directamente como gastos (ej: repuestos, materiales de oficina, libr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93480"/>
            <a:ext cx="8229600" cy="75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joras y Repar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joras: Cambios Estructurales del activo (ampliación a adición de elementos). S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pitaliz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s decir, incrementan en activo fi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as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 Compra de Activo Fi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3400" y="1628280"/>
            <a:ext cx="8599320" cy="472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adquiere una propiedad que costó $50.000.000. Una tasación técnica indica lo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da U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erren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trucción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3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alacion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1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emás se incurrió en los siguientes gas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norarios del abogad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0,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de Transferenci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0,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notaria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0,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 Compra de Activo Fi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2233080"/>
            <a:ext cx="8915400" cy="436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o Total = mm$50 + mm$0.15 = $50.15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siento Con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b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ren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.15*0.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ció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.15*0.58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lacion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.15*0.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.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99640" y="274320"/>
            <a:ext cx="7558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 Venta de Activo Fi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424720" cy="20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vende una máquina en $60.000, cuyo valor contable neto es el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 Bru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ciación Acumulada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10.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 ne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9000" y="3860640"/>
            <a:ext cx="8775720" cy="265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ciación Acumula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 Bru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so Fuera de Explot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recia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38188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f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Distribución del costo del activo como gasto en los períodos en que presta sus servic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depreciación es consecuencia del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deterior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u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obsolescenci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del ac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depreciación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no es un flujo de efe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isten varios métodos de depreciación. Nosotros estudiaremos tr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reciación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reciación acele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reciación tributaria acele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460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reciación Line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8160" y="1839600"/>
            <a:ext cx="46782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A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 : Costo de Adqui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r: Valor Resi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 : Años de Vida U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5040" y="4141800"/>
            <a:ext cx="3936960" cy="187956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reciación Anual =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3600" y="283068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564984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746200" y="5786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496404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43600" y="3440160"/>
            <a:ext cx="2286000" cy="1523880"/>
          </a:xfrm>
          <a:prstGeom prst="line">
            <a:avLst/>
          </a:prstGeom>
          <a:ln w="50760">
            <a:solidFill>
              <a:srgbClr val="ff8a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46880" y="31971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17920" y="472140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985160" y="5786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29600" y="4964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99160" y="243540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244000" y="4941720"/>
            <a:ext cx="649080" cy="0"/>
          </a:xfrm>
          <a:prstGeom prst="line">
            <a:avLst/>
          </a:prstGeom>
          <a:ln w="50760">
            <a:solidFill>
              <a:srgbClr val="ff8a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90120" y="479520"/>
            <a:ext cx="7637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étodo de los saldos decreci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0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 = Tasa anual de depreci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 = años de vida ú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R = valor res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A = Depreciación acumul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5400" y="4502160"/>
            <a:ext cx="6384960" cy="187956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reciación Tributaria Aceler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ste en depreciar el activo linealmente, considerando una vida útil igual a [1/3] de la vida útil norm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un método aceptado por el SI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ne como objetivo incentivar la inversión en activo fijo, a través de la postergación del impuesto a la re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0480" y="285840"/>
            <a:ext cx="748368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14360" y="278280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78280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0720" y="1254240"/>
            <a:ext cx="79376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tiene un AF por $100.000, vida útil 5 años y Vr =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8360" y="2189160"/>
            <a:ext cx="3171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reciación Line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8280" y="388800"/>
            <a:ext cx="798372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or Presente : Valor del activo es función de los flujos futu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taja: Es una buena estimación del precio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ventaja: Se debe estimar flujos futuros, tasa de descuento y período de madurez del ac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41520" y="234936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34936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1278000" y="1397160"/>
            <a:ext cx="6761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reciación Acelerada (saldos decrecient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45760" y="325080"/>
            <a:ext cx="8140680" cy="61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1887480" y="249228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99640" y="1484280"/>
            <a:ext cx="5212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reciación Tributaria Acelera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5438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 Qué Ocurre con la Utilida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usar depreciación line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7960" y="3100320"/>
            <a:ext cx="8508960" cy="248940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8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3915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 Qué Ocurre con la Utilida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32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usar depreciación tributaria acele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3,4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,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,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,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,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6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os Intangi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activos no físicos que presentan un potencial de servi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registran contablemente sólo cuando son adquiridos de terceros (al costo de adquisi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Amortiz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Proceso a través del cual el valor de adquisición del intangible se convierte parcial y periódicamente en ga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: Línea recta con VR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da Util: Mín {Plazo del Contrato; Plazo estimado razonable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os Intangi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Patent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Concesión del gobierno en favor de un inventor, mediante la cual le otorga el derecho exclusivo para producir y explotar su invent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4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Marcas Comercial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Privilegio obtenido para el uso exclusivo de identificaciones distintivas de un producto o servici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4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Derecho de llav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Exceso de costo de un activo o empresa por sobre el valor comercial de las partes que lo compone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4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Licencia o franquici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Privilegio obtenido por una firma para la comercialización de un producto bajo condiciones específic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os Financier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344080" cy="443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ión en un instrumento constitutivo de una obligación y emitido por un banco, empresa, o institución financi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l como : Bonos, Depósitos a Plazo, Pagarés, accion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. Financieros de corto plazo: Su objetivo es obtener rentabilidad de los excedentes de caj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. Financieros de largo plazo: Inversiones permanentes en otras socie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os Financier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" y="3411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514600" y="2360520"/>
            <a:ext cx="1447920" cy="1371600"/>
          </a:xfrm>
          <a:prstGeom prst="line">
            <a:avLst/>
          </a:prstGeom>
          <a:ln w="50760">
            <a:solidFill>
              <a:srgbClr val="ff8a3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3732120"/>
            <a:ext cx="1523880" cy="1524240"/>
          </a:xfrm>
          <a:prstGeom prst="line">
            <a:avLst/>
          </a:prstGeom>
          <a:ln w="50760">
            <a:solidFill>
              <a:srgbClr val="ff8a3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96440" y="2039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53040" y="493560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44120" y="48528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ósito a Plaz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versión de fondos en bancos e instituciones financieras, a plazo fijo, que devengan intereses a una tasa conocida pagable al vencimiento de la invers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valorizan a su costo más los intereses y reajustes respectivos devengados a la fecha de cierre de los estados financieros correspond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341000"/>
            <a:ext cx="866448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empresa hace un depósito a plazo a 90 días por m$400 al 1.2% mensual. El cierre es a 60 días de hecho el depósi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b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ósito a Plazo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0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os 60 día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ósito a Plazo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400*(1.012)^2-4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sos Financieros (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0*(1.012)^2-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cepto de Valor Presente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una persona invierte una cantidad P a una tasa r durante un período ¿qué cantidad tendrá al término del perío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1 = P (1+r) , que se conoce como el valor fut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Una persona recibirá una cantidad F1 al cabo de un año ¿qué cantidad hoy sería equivalente a F1 dentro de 1 añ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1 = X (1+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X = Valor Presente = VP1 = F1/(1+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8280" y="388800"/>
            <a:ext cx="798372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69644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lores Negoci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86800" cy="472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registran bajo este concepto las inversiones en acciones, bonos, efectos de comercio, fondos mutuos y otros títulos de oferta públ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cció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ítulo que otorga a su poseedor la participación en la propiedad de una sociedad anóni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28600" y="2303280"/>
            <a:ext cx="8686800" cy="39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fectos de Comerci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Idéntico al bono, pero su duración es inferior a 1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uotas de Fondos Mutu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ticipación, a través de la adquisición de cuotas, en las inversiones efectuadas en activos financieros, administradas por una entidad especializada y de giro exclus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9640" y="404640"/>
            <a:ext cx="769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lores Negoc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0120" y="442800"/>
            <a:ext cx="785952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3 Inversión en Ac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51200"/>
            <a:ext cx="8153280" cy="45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debe distinguir si el objetivo de la inversión es de corto o largo plaz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inversión en acciones será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alor Negoc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“Activo Circulante”) s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acción se cotiza en bol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monto invertido representa menos del 10% del capital de la empresa emis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monto invertido representa menos del 5% de los activos del inversionis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480600"/>
            <a:ext cx="7918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3 Inversión en Ac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2011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inversión en acciones será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versión en Empresa Relaciona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“Otros Activos”) s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monto invertido representa más del 10 % del capital de la empresa emis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interesa si la acción tiene o no cotización bursát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inversión en acciones será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versión en Otras Sociedad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“Otros Activos”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se cotiza en bolsa, representa menos del 10% del capital de la emisora y más del 5% de los activos de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bien, si no se cotiza en bolsa y representa menos del 10 % del capital de la Empresa Emis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0720" y="404280"/>
            <a:ext cx="836928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3 Inversión en Ac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298440" y="1916280"/>
            <a:ext cx="8699400" cy="43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Cómo se valoran contablem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Negociable: Mín. {Costo Adquisición.; Valor de Mercado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rsión Empresas Relacionadas: Valor Patrimonial Propor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rsión en Otras Sociedad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se cotiza en bolsa: Mín. {Costo Adquisición; Valor de Mercado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no se cotiza en bolsa: Costo de Adqui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299880"/>
            <a:ext cx="7792920" cy="111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general, la Contabilidad Financiera usa la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valoración al costo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ppio. contabl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gunas veces se usa el valor de mercado (acciones en calidad de valores negociab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otras se usa el valor presente (activos en leasing o inversiones en bon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123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rech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a exigir de un tercero un pago, o la entrega de bienes y servicios, por un cierto monto, a una fecha fut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iene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u origen en la venta de bienes o prestación de servicios a crédito, o en la cesión de un bien del activo a un tercero bajo compromiso de pago a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el balance general normalmente se presentan rebajadas por las estimaciones (provisiones) de deudores incobrables y por los intereses no deveng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lasifican en las siguientes partid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udores por ventas: Provenientes de las operaciones comerciales de la empre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ocumentos por cobrar: Provenientes de las operaciones comerciales y documentadas a través de letras, pagares u ot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udores varios: Las que no provienen de las operaciones comerciales de la empre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ocumentos y cuentas por cobrar a empresas relacion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udores a largo plazo: Vencimiento superior a un a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560" y="1484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a empresa tiene cuentas por cobrar de $50.000. Por quiebra de un cliente no será posible recaudar $6.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669960" y="26370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b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stigo incobrables (G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udores por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l momento de preparar los estados financieros, se estima que $2.000 podrían no recupera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22240" y="5105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b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isión incobrables (G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isiones (CA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cp:keywords/>
  <dc:language>en-US</dc:language>
  <cp:lastModifiedBy>Michael Jorratt De Luis</cp:lastModifiedBy>
  <cp:lastPrinted>1999-03-18T20:54:39Z</cp:lastPrinted>
  <dcterms:modified xsi:type="dcterms:W3CDTF">2007-03-19T03:16:18Z</dcterms:modified>
  <cp:revision>23</cp:revision>
  <dc:subject/>
  <dc:title>Primera Parte: Contabilidad Financiera</dc:title>
</cp:coreProperties>
</file>