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780-3A2F-4937-BC8B-012DF303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F88-1D49-49A8-BDEA-08F8DFDA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39F-14D0-4FA5-B506-58D6FF12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7A0-B487-45D7-B0B6-8921B112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1F9-460A-4E07-99FD-4CF35C99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A8F-2B13-45B7-9209-2A3A0232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236-343F-43D6-A018-FAB2DDE8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BBA-102E-4603-86F3-BFA31F8E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3BC-CFFA-4AE2-A47E-878AAB0D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D53-0AF9-402C-AD52-B5961587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149-0BA1-4802-B57B-F181B5E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2BA-5FAC-42CC-9729-DA2D93CE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24EF-4DF5-4461-B52F-8F3C04C2AA7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060280"/>
            <a:ext cx="7086600" cy="147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7560" y="3716280"/>
            <a:ext cx="699444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4: Ac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1887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40417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Provisiones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Book Antiqua"/>
              </a:rPr>
              <a:t>(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udores por ventas (neto)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4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205560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óngase que se logran recuperar $1.000 de la deuda previamente ca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046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Disponible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Ingresos fuera de la explotación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60" y="500364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Las normas tributarias permiten rebajar como gasto los castigos, pero no las provi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Existencia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8207280" cy="34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IODICO: Se cierra el negocio cada cierto tiempo, se cuentan las unidades físicas y se valoriz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PERPETUO: La cuenta existencias se mantiene permanentemente al d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2864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iódic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974880" y="1989000"/>
            <a:ext cx="69102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ventari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mpras del Período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3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cadería 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nventario Final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800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o de Explotació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2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4408560"/>
            <a:ext cx="809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tiliza una cuenta transitoria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ercaderí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que se carga con el inventario inicial y las compras (al costo) y se abona con la ventas (a precio de ven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se detectan robos ni mermas de mercade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Perpetu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vender mercadería se reduce la cuenta mercadería y se aumenta la cuenta costo de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conoce el Costo de Venta cada vez que ocurre una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ere poder asociar cada venta con la mercad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ha realizado las siguientes compras de mercader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unidades a $10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8.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unidades a $11 cada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10.04 vende dos unidades ¿Cuál es el costo de venta? ¿$20, $22, el promedio ponderado, 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44480" y="1941120"/>
            <a:ext cx="8075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de l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dades Específic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ro Permanente que permite Identificar cuál es el Costo de Adquisición de Cada Unidad Vend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con volúmenes de venta peque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para activos de alto valor unit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5440" y="404640"/>
            <a:ext cx="844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98560" indent="-89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étodos de Contabilización de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99520" y="1483920"/>
            <a:ext cx="866484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o Promedio Ponder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vez que ocurre una compra se calcula un nuevo prome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*10  +5*11)/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0,6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,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*10,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,75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062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Método FIFO (o P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primero entra al inventario es la que primero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más antiguo, y el inventario queda valorado al costo de adquisición más re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+ 5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odo LIFO (o UE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uesto: La mercadería que ingresó al último es la primera que se ve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rcadería vendida se valora al costo de adquisición más reciente, y las existencias se valoran al costo más antigu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*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*11 + 3*10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805360"/>
            <a:ext cx="8064360" cy="824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90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9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de Contabilización de Inventar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de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entas por Cob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s de Valoración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136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iene un Inventario Inicial de 300 unidades a $0,95 c/u. Las compras y ventas del período son las sigu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6360" y="2457360"/>
            <a:ext cx="64087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Fí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2362320"/>
            <a:ext cx="82803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250*1,12+80*1,1 = 3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 = 300*0,95=2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as = 1.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para la venta (DV) = II + Compras = 285 + 1.015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- 368 = 9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730520"/>
            <a:ext cx="7772400" cy="24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= 300*0,95+30*1,0 = 3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s = DV – IF = 1300- 315 = 9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3933720"/>
            <a:ext cx="8136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los precios suben, el costo de ventas con LIFO es mayor que con FIFO. A su vez, el valor de las existencias con LIFO es menor que con FI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2193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0*0,95+10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04 $/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+9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IF = 330*1,04 = 343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V = II + Compras = 1.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Venta = DV – IF = 1300 – 343,2 =  956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iódic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F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2319480"/>
            <a:ext cx="849780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LIF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395440"/>
            <a:ext cx="856908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 Sistema Perpetuo y CP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360" y="2414520"/>
            <a:ext cx="88203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Ve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ario F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ódi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petu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6840" y="29242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1880" y="5589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5840" y="39337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1880" y="659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360" y="475920"/>
            <a:ext cx="80647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jos o de Largo Plaz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Físicos (o tangibles)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s, construcciones y obras de ingeniería, maquinarias y equip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ctivos Intangible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entes, marcas comerciales, derechos de llave, licencias o franquic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42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88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n 3 métodos para valorar ac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ación al Co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Información objetiva y verifi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necesariamente coincide con valo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de Mercado (o de Reemplaz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el Valor Real del A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No siempre es objetivo, no es único y no todos los activos se transan en e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7680" y="404640"/>
            <a:ext cx="792468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ísic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49280" y="1700280"/>
            <a:ext cx="829944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aloración: A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costo de adquisi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que comprende el precio del activo más los gastos conex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astos Conexos: Transporte, instalaciones, comisiones, gastos notarial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activos de bajo valor relativo se registran directamente como gastos (ej: repuestos, materiales de oficina, libr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9348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joras y Repa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: Cambios Estructurales del activo (ampliación a adición de elementos). S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pitaliz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s decir, incrementan en activo fi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s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3400" y="1628280"/>
            <a:ext cx="8599320" cy="472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adquiere una propiedad que costó $50.000.000. Una tasación técnica indica lo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rren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3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alacion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más se incurrió en los siguientes gas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norarios del abog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Transferenci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notaria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0,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Compr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2233080"/>
            <a:ext cx="891540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Total = mm$50 + mm$0.15 = $50.15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iento Con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n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ció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5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on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*0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75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 Venta de Activo Fi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424720" cy="20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ende una máquina en $60.000, cuyo valor contable neto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0.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ne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9000" y="3860640"/>
            <a:ext cx="8775720" cy="265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reciación Acumul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Br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uera de Explot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818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Distribución del costo del activo como gasto en los períodos en que presta sus servic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es consecuencia del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l ac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precia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 es un flujo de ef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isten varios métodos de depreciación. Nosotros estudiaremos tr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46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Line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8160" y="1839600"/>
            <a:ext cx="46782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: Costo de Adqui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r: Valor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 : Años de Vida U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5040" y="4141800"/>
            <a:ext cx="3936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 Anual =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283068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564984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46200" y="5786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496404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3440160"/>
            <a:ext cx="2286000" cy="152388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46880" y="31971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7920" y="472140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85160" y="578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4964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9160" y="243540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44000" y="4941720"/>
            <a:ext cx="649080" cy="0"/>
          </a:xfrm>
          <a:prstGeom prst="line">
            <a:avLst/>
          </a:prstGeom>
          <a:ln w="50760">
            <a:solidFill>
              <a:srgbClr val="ff8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90120" y="479520"/>
            <a:ext cx="7637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étodo de los saldos decrec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 = Tasa anual de depre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 = años de vida ú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R = valor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 = Depreciación acumu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5400" y="4502160"/>
            <a:ext cx="6384960" cy="18795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reciación Tributaria Acele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 en depreciar el activo linealmente, considerando una vida útil igual a [1/3] de la vida útil 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método aceptado por el S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como objetivo incentivar la inversión en activo fijo, a través de la postergación del impuesto a la r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0480" y="285840"/>
            <a:ext cx="748368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14360" y="278280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78280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720" y="1254240"/>
            <a:ext cx="7937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tiene un AF por $100.000, vida útil 5 años y Vr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8360" y="218916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or Presente : Valor del activo es función de los flujos fut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ja: Es una buena estimación del prec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ventaja: Se debe estimar flujos futuros, tasa de descuento y período de madurez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41520" y="234936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34936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78000" y="1397160"/>
            <a:ext cx="676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Acelerada (saldos decrecient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5760" y="325080"/>
            <a:ext cx="814068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7480" y="249228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99640" y="1484280"/>
            <a:ext cx="521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reciación Tributaria Acele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61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line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7960" y="3100320"/>
            <a:ext cx="8508960" cy="24894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1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391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 Qué Ocurre con la Utilida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usar depreciación tributaria acel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3,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0,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activos no físicos que presentan un potencial de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registran contablemente sólo cuando son adquiridos de terceros (al costo de adqui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rtiz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Proceso a través del cual el valor de adquisición del intangible se convierte parcial y periódicamente en ga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: Línea recta con VR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a Util: Mín {Plazo del Contrato; Plazo estimado razonabl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os In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oncesión del gobierno en favor de un inventor, mediante la cual le otorga el derecho exclusivo para producir y explotar su inv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arcas Comercia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ara el uso exclusivo de identificaciones distintivas de un producto o servic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recho de llav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Exceso de costo de un activo o empresa por sobre el valor comercial de las partes que lo compon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Licencia o franquic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Privilegio obtenido por una firma para la comercialización de un producto bajo condiciones específ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44080" cy="44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en un instrumento constitutivo de una obligación y emitido por un banco, empresa, o institución financi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 como : Bonos, Depósitos a Plazo, Pagarés, accion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corto plazo: Su objetivo es obtener rentabilidad de los excedentes de ca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. Financieros de largo plazo: Inversiones permanentes en otras socie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tivos Financier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" y="3411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514600" y="2360520"/>
            <a:ext cx="1447920" cy="137160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3732120"/>
            <a:ext cx="1523880" cy="1524240"/>
          </a:xfrm>
          <a:prstGeom prst="line">
            <a:avLst/>
          </a:prstGeom>
          <a:ln w="50760">
            <a:solidFill>
              <a:srgbClr val="ff8a3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6440" y="2039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53040" y="493560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4120" y="48528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ósito a Plaz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ón de fondos en bancos e instituciones financieras, a plazo fijo, que devengan intereses a una tasa conocida pagable al vencimiento de la inver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valorizan a su costo más los intereses y reajustes respectivos devengados a la fecha de cierre de los estados financieros correspo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empresa hace un depósito a plazo a 90 días por m$400 al 1.2% mensual. El cierre es a 60 días de hecho el depós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60 dí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ósito a Plazo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00*(1.012)^2-4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Financieros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0*(1.012)^2-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cepto de Valor Presente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una persona invierte una cantidad P a una tasa r durante un período ¿qué cantidad tendrá al término del perí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P (1+r) , que se conoce como el valor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persona recibirá una cantidad F1 al cabo de un año ¿qué cantidad hoy sería equivalente a F1 dentro de 1 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1 = X 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X = Valor Presente = VP1 = F1/(1+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280" y="388800"/>
            <a:ext cx="798372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6964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86800" cy="47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gistran bajo este concepto las inversiones en acciones, bonos, efectos de comercio, fondos mutuos y otros títulos de oferta públ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que otorga a su poseedor la participación en la propiedad de una sociedad anón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28600" y="2303280"/>
            <a:ext cx="8686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fectos de Comerc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Idéntico al bono, pero su duración es inferior a 1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uotas de Fondos Mutu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ticipación, a través de la adquisición de cuotas, en las inversiones efectuadas en activos financieros, administradas por una entidad especializada y de giro exclu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40464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ores Negoc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0120" y="442800"/>
            <a:ext cx="785952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5120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ebe distinguir si el objetivo de la inversión es de corto o largo pla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lor Negoc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Activo Circulante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se cotiza en bo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10% del capital de la empresa emis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monto invertido representa menos del 5% de los activos del inversion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48060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011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Empresa Relaciona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“Otros Activos”)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esa si la acción tiene o no cotización bursá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inversión en acciones será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versión en Otras Sociedad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Otros Activos”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0720" y="404280"/>
            <a:ext cx="836928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3 Inversión en Ac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98440" y="1916280"/>
            <a:ext cx="8699400" cy="43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ómo se valoran contable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Negociable: Mín. {Costo Adquisición.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mpresas Relacionadas: Valor Patrimonial Propor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rsión en Otras Sociedad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cotiza en bolsa: Mín. {Costo Adquisición; Valor de Mercado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no se cotiza en bolsa: Costo de Adqui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299880"/>
            <a:ext cx="77929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aloración de A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general, la Contabilidad Financiera usa la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valoración al costo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ppio. contab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as veces se usa el valor de mercado (acciones en calidad de valores negoci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otras se usa el valor presente (activos en leasing o inversiones en bo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82123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rech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a exigir de un tercero un pago, o la entrega de bienes y servicios, por un cierto monto, a una fecha fu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u origen en la venta de bienes o prestación de servicios a crédito, o en la cesión de un bien del activo a un tercero bajo compromiso de pago a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balance general normalmente se presentan rebajadas por las estimaciones (provisiones) de deudores incobrables y por los intereses no deven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lasifican en las siguientes parti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por ventas: Provenientes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por cobrar: Provenientes de las operaciones comerciales y documentadas a través de letras, pagares u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varios: Las que no provienen de las operaciones comerciales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ocumentos y cuentas por cobrar a empresas 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udores a largo plazo: Vencimiento superior a un a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3d5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mpresa tiene cuentas por cobrar de $50.000. Por quiebra de un cliente no será posible recaudar $6.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669960" y="26370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stigo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udore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momento de preparar los estados financieros, se estima que $2.000 podrían no recuper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ón incobrables (G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isiones (C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cp:keywords/>
  <dc:language>en-US</dc:language>
  <cp:lastModifiedBy>Michael Jorratt De Luis</cp:lastModifiedBy>
  <cp:lastPrinted>1999-03-18T20:54:39Z</cp:lastPrinted>
  <dcterms:modified xsi:type="dcterms:W3CDTF">2007-03-19T03:16:18Z</dcterms:modified>
  <cp:revision>23</cp:revision>
  <dc:subject/>
  <dc:title>Primera Parte: Contabilidad Financiera</dc:title>
</cp:coreProperties>
</file>