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5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FD7F-F1E8-4B02-93E8-A6AC87BD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F6A-AB8B-4636-9972-86BA1DD8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48D-4695-4648-813D-03DA807DD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00B4-1F6E-4ED2-B355-9EC77684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B03-F4D9-41AD-BC28-455AD85C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CC1C-5501-48EF-B6C6-94D87541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C7A-1492-4050-9555-92A853EB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E779-F34D-4977-B58A-ABFFC62F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C77-B039-4E83-ADBA-49463B70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689-9977-44E5-9E9B-D8D59E9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53E-1E99-4818-B470-84321BC1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6C3-DD45-4157-8D5D-DB206C7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3EB-3BF3-418B-A97A-BB1BDA64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imera Parte: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ntabilidad Financi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pítulo 3: Sistemas Con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libro que agrupa todas las cuentas que utiliza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imer registro corresponde al saldo del ejercicio anterior, salvo en las cuentas de resultado, cuyo saldo inicial es siempre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25600" y="3147840"/>
          <a:ext cx="8367480" cy="291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3147840"/>
                    <a:ext cx="836748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574000" y="2117880"/>
            <a:ext cx="3615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enta: Dispon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42720"/>
            <a:ext cx="83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65240"/>
            <a:ext cx="798984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Libro Diario es un registro cronológico de las transacciones efectuadas por una organización. Se especifica el carácter y circunstancia de cada una de ell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registro de una transacción en el Libro Diario recibe el nombre de “Asiento Contabl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342720"/>
            <a:ext cx="823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9000"/>
          </a:bodyPr>
          <a:p>
            <a:pPr marL="167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quema de un Libro Dia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400" y="3048120"/>
          <a:ext cx="908820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48120"/>
                    <a:ext cx="90882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4840" y="2097000"/>
            <a:ext cx="83451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stado de todas las cuentas del mayor con los débitos y créditos del período y sus respectivos saldos deudores o acr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8760" y="3819600"/>
            <a:ext cx="8902800" cy="97776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 QUE EL PASO DEL LIBRO DIARIO AL M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CORR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l Ciclo Con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15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in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gistro inicial de las transacciones en el libro d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spaso al libro may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lance de comprob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sientos de ajustes y cierre de cuentas (hoja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paración de los 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1042920"/>
            <a:ext cx="817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rta empresa muestra el siguiente balance al comenzar el ejercicio (en M$)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04920" y="2209680"/>
          <a:ext cx="868680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09680"/>
                    <a:ext cx="868680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urante los dos meses siguientes realiza las siguientes transac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200240"/>
            <a:ext cx="86551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2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de mercadería por un monto de M$ 1.200, pagándose 50% a plazo y el resto al contado. El costo de la mercadería fue de M$ 9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4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lientes pagan M$ 500 que adeudaban a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5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 su vez la empresa paga M$ 400 que adeudaba a sus provee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1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trega el 50% de los bienes pagados por anticipado, obteniendo un margen de ganancia, sobre ingresos, del 4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06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aga M$ 200 por concepto de remuner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52560" indent="-9525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8/02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compran muebles por M$ 100, pagando al con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T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deuda se contrajo a un tasa del 2% mensual (lineal) y se debe pagar al cabo de 1 año junto con los inter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 activo fijo le resta una vida útil de 20 años y su valor residual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seguro tiene una duración de 1 año y fue contratado hace 2 m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 pide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52280" y="1127160"/>
          <a:ext cx="8839440" cy="534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27160"/>
                    <a:ext cx="883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ISTEMA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gistros Con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ibro Diario y Asient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lance de Comprob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clo Con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228600" y="1257480"/>
          <a:ext cx="8686800" cy="485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57480"/>
                    <a:ext cx="8686800" cy="48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80880" y="1424160"/>
          <a:ext cx="8458200" cy="420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24160"/>
                    <a:ext cx="845820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90880" y="304920"/>
            <a:ext cx="31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ase 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33520" y="471600"/>
          <a:ext cx="8229600" cy="602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1600"/>
                    <a:ext cx="8229600" cy="60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981000"/>
          <a:ext cx="830592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81000"/>
                    <a:ext cx="830592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143000" y="1600200"/>
          <a:ext cx="7162920" cy="304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716292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804960" y="304920"/>
            <a:ext cx="39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Aju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50840" y="5172120"/>
            <a:ext cx="748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l paso siguiente sería traspasar estos asientos al libro may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57200" y="2612880"/>
          <a:ext cx="8305920" cy="35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2880"/>
                    <a:ext cx="830592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1066680"/>
            <a:ext cx="816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raspaso de las cuentas de gastos de administración y ventas a una cuenta resumen, denominada gastos de administración y ve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80880" y="1927080"/>
          <a:ext cx="838224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27080"/>
                    <a:ext cx="838224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17680" y="72720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ierre de cuentas: Se efectúan los asientos contrarios en la cuenta Utilidad de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701720"/>
          <a:ext cx="8229600" cy="454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1720"/>
                    <a:ext cx="8229600" cy="45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24880" y="928800"/>
            <a:ext cx="39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GENERAL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720" y="3333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14400" y="1120680"/>
          <a:ext cx="7467480" cy="471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20680"/>
                    <a:ext cx="746748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empresas pueden tener cientos o miles de transacciones diarias, por lo cual no es posible registrar las transacciones directamente en el balance, como lo hemos hecho hasta ah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“Cuenta” es un registro asociado a un ítem o rubro del balance, en el cual se registran todas las variaciones que afectan a dicho rub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980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381400"/>
            <a:ext cx="864072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31000" cy="465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Debe se llama: Adeudar, cargar o deb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otar una cantidad al Haber se llama: Abonar o acredi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sándonos en la igualdad del inventario existirá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Patrimo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entas de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Cue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6944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lan de Cue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esponde al conjunto de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ent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utilizadas en un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mpres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o mínimo son las del Balance General y las del estado de resul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mpresa elegirá el nivel de desagregación en función de sus requerimientos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4d2d4"/>
            </a:gs>
            <a:gs pos="100000">
              <a:srgbClr val="e6f6f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3:04:30Z</dcterms:created>
  <dc:creator>Soporte Técnico</dc:creator>
  <dc:description/>
  <dc:language>en-US</dc:language>
  <cp:lastModifiedBy>Michel</cp:lastModifiedBy>
  <dcterms:modified xsi:type="dcterms:W3CDTF">2007-08-02T06:06:19Z</dcterms:modified>
  <cp:revision>10</cp:revision>
  <dc:subject/>
  <dc:title>Contabilidad y Control</dc:title>
</cp:coreProperties>
</file>