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867-4780-4A73-8C2E-69540EE5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25F-89BB-462E-9E8F-2E0A2FCC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645-45B5-408C-B224-DCB5FB9E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23F-4A46-4EA8-9F2B-75302E8F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9F5-ECAC-4B76-88C4-F866FB65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31E1-D9B1-47DA-9AFF-92BFA20D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DE8-FF15-4983-AEB4-906E9EA1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080-5E94-4D95-9026-F5CCAFDE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706-5025-42AF-AA0B-0519A8F1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DA2-CA7C-43A3-9AAD-770369B5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3B7C-EAE8-467D-BB4F-4AB1F921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2AB-0159-44D3-9EC7-5CF2F042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6798-24E7-4827-A026-FC9C3935A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mera Parte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dad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ítulo 2: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SIVOS DE LARGO PL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357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bancos e institucione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el publico (bo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reedores v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isione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989000"/>
            <a:ext cx="8424720" cy="180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quellas obligaciones de la empresa que serán pagadas o amortizadas en plazos superiores a un año a contar de la fecha de los estados Financi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ital apor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dades (pérdidas) acumu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dades (pérdidas) del 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nos los dividendo o retiros de 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ADOS DE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21938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un informe contable que permite conocer cómo se ha generado el resultado de la empresa durante el ejercicio con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un resumen de los ingresos y gastos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ADO DE RESUL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960" y="1987560"/>
            <a:ext cx="7302600" cy="43308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412640"/>
            <a:ext cx="845820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relativos a la operación o giro del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852640"/>
            <a:ext cx="7937280" cy="349272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 DE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GEN DE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 DE ADMINISTRACION Y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429840"/>
            <a:ext cx="8064360" cy="13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15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acionados con la operación o giro del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3141720"/>
            <a:ext cx="7848360" cy="31878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FUERA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GRESOS FUERA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CCIO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 Corrección Moneta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8240" y="1987560"/>
            <a:ext cx="7683480" cy="4406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LA DIFERENCIA ENTRE LA REVALORIZ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OS ACTIVOS SUJETOS A CORREC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TARIA Y LA REVALORIZACION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IVOS Y DEL PATRIMONIO 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ALORIZACIONES QUE SE APLICAN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Y GA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JUSTES A LOS ESTADOS CO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7920" y="2122560"/>
            <a:ext cx="859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acciones implícitas agregadas al balance y al estado de resul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formación Parcial de un Activo en Ga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umulación de Ingresos y Gastos no Registrados anterior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nsformación Parcial de Activo en Gas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7280" y="2276640"/>
            <a:ext cx="257796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3840" y="2276640"/>
            <a:ext cx="166392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10360" y="2276640"/>
            <a:ext cx="120672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18040" y="2879640"/>
            <a:ext cx="2057400" cy="0"/>
          </a:xfrm>
          <a:prstGeom prst="line">
            <a:avLst/>
          </a:prstGeom>
          <a:ln w="76320">
            <a:solidFill>
              <a:srgbClr val="cc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9720" y="23302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3933720"/>
            <a:ext cx="80643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curre por el consumo o uso del activo, o por un imprevi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: Depreciación, gastos pagados por anticipa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rtización de activos intangibles, casti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prov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15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orme contable que muestra la situación económico-financiera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de carácter estático, muestra sólo un in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lado izquierdo muestra los activos y al derecho los pasivos y el patrimo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0280" y="981000"/>
            <a:ext cx="8362800" cy="1008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 de noviembre se compra mobiliario en M$600, cuya vida útil es de 5 años y su valor residual c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2089080"/>
            <a:ext cx="8280360" cy="1033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7560" y="3284640"/>
            <a:ext cx="8345520" cy="934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JUSTE AL 31/12, para reconocer el desgaste de los muebles. Dos op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8280360" cy="1033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41440" y="5608800"/>
            <a:ext cx="8278560" cy="10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91520" cy="1008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/10 se arriendan oficinas pagando 5 meses por adelantado, por un monto de $1000,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0560" y="3986280"/>
            <a:ext cx="822816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el consumo de dos meses de arri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33440" y="2565360"/>
            <a:ext cx="8459640" cy="98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5445000"/>
            <a:ext cx="842472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144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tiene un saldo de deudas por cobrar de M$600. El deudor quebró y se tiene la certeza de que no cancel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360" y="4540320"/>
            <a:ext cx="8405640" cy="1049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7840" y="304956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para reconocer la irrecuperabilidad de las cuentas por cob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324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tiene un saldo de deudas por cobrar de M$800. La empresa estima que por diversas razones no se recaudará el 10% de 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8332920" cy="1716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8360" y="3282840"/>
            <a:ext cx="835164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la probabilidad de no recaudar una parte de las cuentas por cob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alización de Ingresos Difer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18920"/>
            <a:ext cx="85341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51640" cy="936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0/9 el Teatro Municipal vende abonos por M$50.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2408400"/>
            <a:ext cx="833112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7840" y="369720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el ingreso por la realización del 80% de los ev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4968720"/>
            <a:ext cx="856944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umulación de Ingresos y Gastos no Registr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que ocurren día a día, en forma contin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eses banc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tas de inversione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s prestados por el pers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965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/10 se pide un préstamo por M$100, al 3% mensual (interés simp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7840" y="355284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los intereses devengados sobre la deu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6720" y="2314440"/>
            <a:ext cx="8496360" cy="1040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84963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362800" cy="1468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paga salarios semanales por M$100. El último pago lo efectuó el 28/12 correspondiente a la semana del 21-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8477280" cy="1746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7840" y="3049560"/>
            <a:ext cx="837216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JUSTE AL 31/12, para reconocer el salario devengado entre el 28 y el 31 de diciembre (4/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en sí estados financieros, pero forman parte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 ECONOM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 FINANC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1536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iterios Contables Usado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se de conversión transacciones a M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para depreciar activo fi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para valorizar existenc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rrección Monetaria Principales Part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osición Exis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talle Provisiones y Casti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sivos : Fechas de Vencimiento, Instituciones Acreed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ICTAMEN AUDITORES EXTER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21225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sociedades anónimas abiertas tienen la obligación de someter sus Estados Financieros a la revisión de Auditores Externos, quienes emiten un dict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Salvedad (Posi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Salvedad (Neg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ructura de los Estados Financieros de las S.A. abiert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tamen de Auditores Ext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bligatoriedad de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80680" y="1915920"/>
            <a:ext cx="8094600" cy="43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hile, están legalmente obligadas a preparar y presentar estados financieros sólo las empresas sometidas a la fiscalización de las superintendencias, tales como: sociedades anónimas abiertas, sociedades emisoras de valores de oferta pública, compañías de seguro, administradoras de fondos, bancos, AFP e Isap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sto de las empresas sólo tienen obligaciones respecto de la contabilidad tributa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351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080" y="109224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49280" y="1125360"/>
            <a:ext cx="829944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080" y="26028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ide el registro de las transacciones, ajustes, Balance General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do de Resultados al cabo de dos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380880"/>
            <a:ext cx="8763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281800" cy="1032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82818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353440" cy="1042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323064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828036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2376360"/>
            <a:ext cx="828036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RUCTURA DEL BA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88920" y="2031840"/>
          <a:ext cx="6997680" cy="43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2031840"/>
                    <a:ext cx="6997680" cy="43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8610480" y="2036880"/>
            <a:ext cx="0" cy="4495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189160"/>
            <a:ext cx="0" cy="3962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9720" y="209880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800" y="54514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" y="240192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15200" y="62118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45720" y="171612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03688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03688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53280" y="211284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03688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8749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63039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440" y="1506600"/>
            <a:ext cx="8134200" cy="101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34290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9640" y="4557600"/>
            <a:ext cx="828036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just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41440" y="1844640"/>
            <a:ext cx="8207280" cy="1023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55680" y="1004760"/>
            <a:ext cx="45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preciación del activo fi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5002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terese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4087800"/>
            <a:ext cx="813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mortización del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1717560"/>
            <a:ext cx="83516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UMEN DE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417680"/>
            <a:ext cx="8785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1473120"/>
          <a:ext cx="82296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3120"/>
                    <a:ext cx="82296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24880" y="40644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GENERAL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14400" y="1120680"/>
          <a:ext cx="7467480" cy="47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20680"/>
                    <a:ext cx="746748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QUI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un activo para convertirse en efe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IG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laciona con el tiempo faltante para el vencimiento de las oblig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O CIRCU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3573000"/>
            <a:ext cx="431964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ósitos a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por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cob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v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is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8920" y="3499920"/>
            <a:ext cx="4095720" cy="29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por recu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astos pagados por anticip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1989000"/>
            <a:ext cx="7777080" cy="1373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o recursos de la empresa que serán vendidos, realizados o consumidos dentro de un año desde la fecha del estado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O FI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560" y="3212640"/>
            <a:ext cx="798372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renos (no depreciables), yacimientos, bos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trucciones y obras de infraestruc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plantas frutales, viñed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quinaria y equ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reciación acumulada (men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1916280"/>
            <a:ext cx="7777440" cy="1373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ienes adquiridos para usarlos en la explotación social y sin el propósito de vender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TROS ACTIV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1960" y="321264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empresas relacion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otras soci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angibles (patentes, marc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rtizaciones (m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038320"/>
            <a:ext cx="7653240" cy="947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demás activos que no puedan ser clasificados en las categorías a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SIVO CIRCU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3298680"/>
            <a:ext cx="463572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bancos a corto plaz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te de las obligaciones a largo plazo que vencen antes de 1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el público a cort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3284280"/>
            <a:ext cx="4244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enta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gresos percibidos por anticip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120" y="1413000"/>
            <a:ext cx="8084880" cy="180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quellas obligaciones contraídas por la empresa que serán canceladas dentro del plazo de un año a contar de la fecha de los estados Financi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7-07-31T01:56:22Z</dcterms:modified>
  <cp:revision>8</cp:revision>
  <dc:subject/>
  <dc:title>Contabilidad y Control</dc:title>
</cp:coreProperties>
</file>