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90A-DAE2-4759-B24E-AFEDE7D0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2E74-1BE2-4C64-ACEE-33E21600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4DE-B3D3-4C1D-82C8-D1FF70D40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160-EA11-4F3F-8906-4915E150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30E-9E4B-431D-9AD2-0389E4F5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2F9-B48B-4B7C-A0B9-34B7AA12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A61E-F36D-4AA7-AF3F-88419AFC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060-C21C-4662-B2F3-3FD81415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C8D-6D7C-441F-A001-D0C93B50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178A-1C28-4CED-9F5F-080F35BD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4C1-BA41-4CE0-A7E1-DF5D630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D5EE-3790-4BBD-8B15-47594713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A2E2-A8BE-4845-BACA-08F79107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2: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S DE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3573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e instituc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ublico (bo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ree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1989000"/>
            <a:ext cx="842472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de la empresa que serán pagadas o amortizadas en plazos superiores a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ital a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acumul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dades (pérdidas) del Ejerc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nos los dividendo o retiros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S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55640" y="21938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informe contable que permite conocer cómo se ha generado el resultado de la empresa durante el ejercicio con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un resumen de los ingresos y gastos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ADO D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960" y="1987560"/>
            <a:ext cx="7302600" cy="4330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845820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relativos a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852640"/>
            <a:ext cx="7937280" cy="349272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GEN DE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ON Y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43720" cy="45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429840"/>
            <a:ext cx="8064360" cy="134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15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acionados con la operación o giro del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3141720"/>
            <a:ext cx="7848360" cy="31878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GRESOS FUERA DE LA EXPLO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CCION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 Corrección Monetar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8240" y="1987560"/>
            <a:ext cx="7683480" cy="4406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LA DIFERENCIA ENTRE LA REVALORIZ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OS ACTIVOS SUJETOS A CORREC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A Y LA REVALORIZACIO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IVOS Y DEL PATRIMONIO 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ALORIZACIONES QUE SE APLICAN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GRESOS Y GA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JUSTES A LOS ESTADOS CON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67920" y="2122560"/>
            <a:ext cx="859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acciones implícitas agregadas al balance y al estado de resul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formación Parcial de un Activo en G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11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umulación de Ingresos y Gastos no Registrados anterior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nsformación Parcial de Activo en Gas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7280" y="2276640"/>
            <a:ext cx="257796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3840" y="2276640"/>
            <a:ext cx="16639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10360" y="2276640"/>
            <a:ext cx="1206720" cy="12063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18040" y="2879640"/>
            <a:ext cx="2057400" cy="0"/>
          </a:xfrm>
          <a:prstGeom prst="line">
            <a:avLst/>
          </a:prstGeom>
          <a:ln w="76320">
            <a:solidFill>
              <a:srgbClr val="cc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9720" y="2330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3933720"/>
            <a:ext cx="806436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curre por el consumo o uso del activo, o por un imprevis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: Depreciación, gastos pagados por anticipad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ón de activos intangibles, cast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provi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5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orme contable que muestra la situación económico-financier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de carácter estático, muestra sólo un inst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lado izquierdo muestra los activos y al derecho los pasivos y el patrimo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0280" y="981000"/>
            <a:ext cx="8362800" cy="1008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 de noviembre se compra mobiliario en M$600, cuya vida útil es de 5 años y su valor residual c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2089080"/>
            <a:ext cx="8280360" cy="1033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7560" y="3284640"/>
            <a:ext cx="8345520" cy="9349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JUSTE AL 31/12, para reconocer el desgaste de los muebles. Dos op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8280360" cy="1033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1440" y="5608800"/>
            <a:ext cx="827856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91520" cy="10083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arriendan oficinas pagando 5 meses por adelantado, por un monto de $1000,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0560" y="3986280"/>
            <a:ext cx="8228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consumo de dos meses de arrie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3440" y="2565360"/>
            <a:ext cx="8459640" cy="98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8424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91520" cy="144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600. El deudor quebró y se tiene la certeza de que no cancel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14360" y="4540320"/>
            <a:ext cx="8405640" cy="1049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47840" y="304956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para reconocer la irrecuperabilidad de las cuentas por cobr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324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tiene un saldo de deudas por cobrar de M$800. La empresa estima que por diversas razones no se recaudará el 10% de 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8332920" cy="1716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68360" y="3282840"/>
            <a:ext cx="835164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a probabilidad de no recaudar una parte de las cuenta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Realización de Ingresos Difer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18920"/>
            <a:ext cx="8534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351640" cy="936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0/9 el Teatro Municipal vende abonos por M$50.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2408400"/>
            <a:ext cx="8331120" cy="1038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7840" y="369720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el ingreso por la realización del 80% de los ev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4968720"/>
            <a:ext cx="8569440" cy="17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umulación de Ingresos y Gastos no Registr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gresos y gastos que ocurren día a día, en forma contin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reses banc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tas de inversione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s prestados por el pers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8435880" cy="965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31/10 se pide un préstamo por M$100, al 3% mensual (interés simp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7840" y="3552840"/>
            <a:ext cx="830088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JUSTE AL 31/12, para reconocer los intereses devengados sobre la deu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6720" y="2314440"/>
            <a:ext cx="8496360" cy="1040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84963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39480"/>
            <a:ext cx="8362800" cy="14684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empresa paga salarios semanales por M$100. El último pago lo efectuó el 28/12 correspondiente a la semana del 21-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77280" cy="1746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7840" y="3049560"/>
            <a:ext cx="8372160" cy="94716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JUSTE AL 31/12, para reconocer el salario devengado entre el 28 y el 31 de diciembre (4/5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6292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en sí estados financieros, pero forman parte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ECONOM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 FINANCI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1536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riterios Contables Usad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ase de conversión transacciones a M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depreciar activo fi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para valorizar existenc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rrección Monetaria Principales Parti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posición 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talle Provisiones y Cast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sivos : Fechas de Vencimiento, Instituciones Acreedo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ICTAMEN AUDITORES EXTER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122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sociedades anónimas abiertas tienen la obligación de someter sus Estados Financieros a la revisión de Auditores Externos, quienes emiten un dicta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Salvedad (Posi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Salvedad (Neg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 los Estados Financieros de las S.A. abiert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ctamen de Auditores Exter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bligatoriedad de los Estados Financi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80680" y="1915920"/>
            <a:ext cx="8094600" cy="43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hile, están legalmente obligadas a preparar y presentar estados financieros sólo las empresas sometidas a la fiscalización de las superintendencias, tales como: sociedades anónimas abiertas, sociedades emisoras de valores de oferta pública, compañías de seguro, administradoras de fondos, bancos, AFP e Isap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sto de las empresas sólo tienen obligaciones respecto de la contabilidad tributa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351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109224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49280" y="1125360"/>
            <a:ext cx="829944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9080" y="260280"/>
            <a:ext cx="855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83822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ide el registro de las transacciones, ajustes, Balance General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Estado de Resultados al cabo de dos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38088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281800" cy="1032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828180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53440" cy="1042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0880" y="3230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828036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2376360"/>
            <a:ext cx="82803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STRUCTURA DEL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88920" y="2031840"/>
          <a:ext cx="6997680" cy="43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031840"/>
                    <a:ext cx="6997680" cy="43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610480" y="2036880"/>
            <a:ext cx="0" cy="4495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189160"/>
            <a:ext cx="0" cy="3962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9720" y="209880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800" y="54514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" y="240192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5200" y="62118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145720" y="171612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03688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53280" y="211284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36880"/>
            <a:ext cx="739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874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630396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440" y="1506600"/>
            <a:ext cx="8134200" cy="1014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80880" y="34290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384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9640" y="4557600"/>
            <a:ext cx="828036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just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41440" y="1844640"/>
            <a:ext cx="8207280" cy="1023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5680" y="1004760"/>
            <a:ext cx="45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preciación del activo fi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350028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teres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11280" y="4087800"/>
            <a:ext cx="813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mortización del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1717560"/>
            <a:ext cx="835164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SUMEN DE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79280" y="1417680"/>
            <a:ext cx="878544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57200" y="14731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31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524880" y="40644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LANCE GE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QU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acidad de un activo para convertirse en efe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G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laciona con el tiempo faltante para el vencimiento de las oblig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3573000"/>
            <a:ext cx="431964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ósitos a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por 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cob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v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is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58920" y="3499920"/>
            <a:ext cx="409572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recu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stos paga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1989000"/>
            <a:ext cx="777708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o recursos de la empresa que serán vendidos, realizados o consumidos dentro de un año desde la fecha del estado financi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O FI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3212640"/>
            <a:ext cx="798372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rrenos (no depreciables), yacimientos, bos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ones y obras de infraestruc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plantas frutales, viñed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quinaria y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preciación acumulada (men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916280"/>
            <a:ext cx="7777440" cy="1373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ienes adquiridos para usarlos en la explotación social y sin el propósito de vender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TROS ACTIV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1960" y="321264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empresas relacion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versiones en otras socie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udore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 a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angibles (patentes, marc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5320" indent="-56808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mortizaciones (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2038320"/>
            <a:ext cx="7653240" cy="947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demás activos que no puedan ser clasificados en las categorías a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ASIVO CIRCUL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3298680"/>
            <a:ext cx="4635720" cy="30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bancos a corto plaz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te de las obligaciones a largo plazo que vencen antes de 1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ligaciones con el público a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3284280"/>
            <a:ext cx="4244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enta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ocumen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gresos percibidos por anticip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por pa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uestos difer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5120" y="1413000"/>
            <a:ext cx="8084880" cy="1800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quellas obligaciones contraídas por la empresa que serán canceladas dentro del plazo de un año a contar de la fecha de los estados Financi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7-31T01:56:22Z</dcterms:modified>
  <cp:revision>8</cp:revision>
  <dc:subject/>
  <dc:title>Contabilidad y Control</dc:title>
</cp:coreProperties>
</file>