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E6B-5CB7-4ED0-A49F-03EB0A9C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220-997A-4E89-AA04-87BD8FAC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C2B-2506-4C0C-9653-0FF83E6E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B3B-6789-4EAE-9E18-793420BE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455-FCDC-4CDB-B81B-E235E2FF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39B-D6AC-4740-AFC7-2069782B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40B-12EE-4485-A24C-03C62DEE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D42-5EE4-4E48-ABE6-78A9AD61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36D-22CE-46A9-BC4C-F35CF358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AB9-520E-40A5-9047-B499292B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82A-B897-4FC2-8086-069D6FCB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BB6-291E-41FA-BC84-E08FBF34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EB42-DBED-4C60-9CF7-69E1B3B39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2: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S DE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357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ublico (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ree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989000"/>
            <a:ext cx="842472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de la empresa que serán pagadas o amortizadas en plazos superiores a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 apor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acumu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del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nos los dividendo o retiros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S DE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21938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informe contable que permite conocer cómo se ha generado el resultado de la empresa durante el ejercicio con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resumen de los ingresos y gastos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 DE RESUL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960" y="1987560"/>
            <a:ext cx="7302600" cy="4330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845820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relativos a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937280" cy="349272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GEN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 DE ADMINISTRACION Y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429840"/>
            <a:ext cx="8064360" cy="13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15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acionados con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3141720"/>
            <a:ext cx="7848360" cy="3187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CCIO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 Corrección Moneta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8240" y="1987560"/>
            <a:ext cx="7683480" cy="4406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DIFERENCIA ENTRE LA REVALOR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OS ACTIVOS SUJETOS A CORREC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TARIA Y LA REVALORIZACIO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IVOS Y DEL PATRIMONIO 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ALORIZACIONES QUE SE APLICAN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Y GA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JUSTES A LOS ESTADOS CO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7920" y="2122560"/>
            <a:ext cx="85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acciones implícitas agregadas al balance y al estado de resul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formación Parcial de un Activo en G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umulación de Ingresos y Gastos no Registrados anterior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nsformación Parcial de Activo en Gas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7280" y="2276640"/>
            <a:ext cx="257796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3840" y="2276640"/>
            <a:ext cx="16639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10360" y="2276640"/>
            <a:ext cx="12067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18040" y="2879640"/>
            <a:ext cx="2057400" cy="0"/>
          </a:xfrm>
          <a:prstGeom prst="line">
            <a:avLst/>
          </a:prstGeom>
          <a:ln w="76320">
            <a:solidFill>
              <a:srgbClr val="cc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9720" y="2330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933720"/>
            <a:ext cx="80643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curre por el consumo o uso del activo, o por un imprevi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Depreciación, gastos pagados por anticip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ón de activos intangibles, cast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prov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5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orme contable que muestra la situación económico-financiera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de carácter estático, muestra sólo un in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lado izquierdo muestra los activos y al derecho los pasivos y el patrim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0280" y="981000"/>
            <a:ext cx="8362800" cy="1008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 de noviembre se compra mobiliario en M$600, cuya vida útil es de 5 años y su valor residual c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2089080"/>
            <a:ext cx="8280360" cy="1033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7560" y="3284640"/>
            <a:ext cx="8345520" cy="934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JUSTE AL 31/12, para reconocer el desgaste de los muebles. Dos op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8280360" cy="103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1440" y="5608800"/>
            <a:ext cx="8278560" cy="10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100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arriendan oficinas pagando 5 meses por adelantado, por un monto de $1000,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560" y="3986280"/>
            <a:ext cx="8228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consumo de dos meses de arr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3440" y="2565360"/>
            <a:ext cx="8459640" cy="98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8424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144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600. El deudor quebró y se tiene la certeza de que no cancel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360" y="4540320"/>
            <a:ext cx="8405640" cy="1049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7840" y="304956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para reconocer la irrecuperabilidad de las cuentas por cob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800. La empresa estima que por diversas razones no se recaudará el 10% de 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8332920" cy="171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3282840"/>
            <a:ext cx="835164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a probabilidad de no recaudar una parte de las cuenta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18920"/>
            <a:ext cx="85341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936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0/9 el Teatro Municipal vende abonos por M$50.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408400"/>
            <a:ext cx="833112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7840" y="369720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ingreso por la realización del 80% de los ev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4968720"/>
            <a:ext cx="856944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umulación de Ingresos y Gastos no Regist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que ocurren día a día, en forma contin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es banc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tas de invers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prestados por el pers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965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pide un préstamo por M$100, al 3% mensual (interés simp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840" y="355284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os intereses devengados sobre la deu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6720" y="2314440"/>
            <a:ext cx="849636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8496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362800" cy="1468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paga salarios semanales por M$100. El último pago lo efectuó el 28/12 correspondiente a la semana del 21-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77280" cy="1746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7840" y="3049560"/>
            <a:ext cx="8372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JUSTE AL 31/12, para reconocer el salario devengado entre el 28 y el 31 de diciembre (4/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en sí estados financieros, pero forman parte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ECONOM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FINANC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1536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iterios Contables Usad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se de conversión transacciones a M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depreciar activo fi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valorizar existenc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rrección Monetaria Principales Part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osición 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alle Provisiones y Cast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ivos : Fechas de Vencimiento, Instituciones Acreed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ICTAMEN AUDITORES EXTER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21225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ociedades anónimas abiertas tienen la obligación de someter sus Estados Financieros a la revisión de Auditores Externos, quienes emiten un dict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Salvedad (Posi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Salvedad (Neg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 los Estados Financieros de las S.A. abiert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tamen de Auditores Ex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bligatoriedad de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0680" y="1915920"/>
            <a:ext cx="809460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hile, están legalmente obligadas a preparar y presentar estados financieros sólo las empresas sometidas a la fiscalización de las superintendencias, tales como: sociedades anónimas abiertas, sociedades emisoras de valores de oferta pública, compañías de seguro, administradoras de fondos, bancos, AFP e Isap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sto de las empresas sólo tienen obligaciones respecto de la contabilidad tribut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351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109224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49280" y="1125360"/>
            <a:ext cx="829944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080" y="26028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ide el registro de las transacciones, ajustes, Balance General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do de Resultados al cabo de dos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380880"/>
            <a:ext cx="8763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81800" cy="1032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82818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53440" cy="1042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323064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828036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2376360"/>
            <a:ext cx="82803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L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88920" y="2031840"/>
          <a:ext cx="6997680" cy="43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031840"/>
                    <a:ext cx="699768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610480" y="2036880"/>
            <a:ext cx="0" cy="4495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189160"/>
            <a:ext cx="0" cy="3962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9720" y="209880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800" y="5451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" y="24019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5200" y="62118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45720" y="171612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53280" y="211284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0368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874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303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440" y="1506600"/>
            <a:ext cx="8134200" cy="101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3429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4557600"/>
            <a:ext cx="82803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just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1440" y="1844640"/>
            <a:ext cx="8207280" cy="1023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5680" y="100476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reciación del activ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5002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eres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4087800"/>
            <a:ext cx="813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mortización del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717560"/>
            <a:ext cx="83516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UMEN DE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417680"/>
            <a:ext cx="8785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14731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31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24880" y="40644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QUI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un activo para convertirse en efe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G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laciona con el tiempo faltante para el vencimiento de las oblig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3573000"/>
            <a:ext cx="431964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ósitos a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por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920" y="3499920"/>
            <a:ext cx="4095720" cy="29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recu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stos paga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989000"/>
            <a:ext cx="777708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o recursos de la empresa que serán vendidos, realizados o consumidos dentro de un año desde la fecha del estado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FI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560" y="3212640"/>
            <a:ext cx="798372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renos (no depreciables), yacimientos, bos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ones y obras de infraestruc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plantas frutales, viñed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quinaria y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reciación acumulada (men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916280"/>
            <a:ext cx="777744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es adquiridos para usarlos en la explotación social y sin el propósito de vender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TROS ACT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1960" y="321264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empresas relacion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otras soci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angibles (patentes, marc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ones (m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038320"/>
            <a:ext cx="7653240" cy="94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demás activos que no puedan ser clasificados en las categorías a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3298680"/>
            <a:ext cx="463572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a corto plaz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e de las obligaciones a largo plazo que vencen antes de 1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úblico a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3284280"/>
            <a:ext cx="4244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enta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resos percibi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120" y="1413000"/>
            <a:ext cx="808488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contraídas por la empresa que serán canceladas dentro del plazo de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7-31T01:56:22Z</dcterms:modified>
  <cp:revision>8</cp:revision>
  <dc:subject/>
  <dc:title>Contabilidad y Control</dc:title>
</cp:coreProperties>
</file>