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FA44-F696-436A-94D5-483971AD1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B97E-DB29-4408-A647-4B4634A2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2497-AAC8-41B4-87B5-D585B9E72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3CC9-DF6B-4167-B7EE-6534D9FFC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C8F7-F76A-41AD-BB96-B3A4BB33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26F8-1657-4DCC-8BC6-709A020E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C529-6A82-468E-9E56-996E65F1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A046-6E8D-4B84-8402-A66F4F99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9C42-6AD7-4892-9E1D-C70C6CE1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C007-5A50-4F61-90BD-910BC8D1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ADFB-C656-4CFC-8D9C-D0F80C7F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BAA2-43EB-49FB-8361-89749857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E86A-FE28-45AA-8793-EFED3989D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2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imera Parte: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tabilidad Financi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pítulo 2: Estad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PASIVOS DE LARGO PLAZ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640" y="357300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ligaciones con bancos e instituciones financie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ligaciones con el publico (bon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ocumentos por pa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creedores v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visiones a larg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uestos diferidos a larg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1989000"/>
            <a:ext cx="8424720" cy="18003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quellas obligaciones de la empresa que serán pagadas o amortizadas en plazos superiores a un año a contar de la fecha de los estados Financie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PATRIMON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84440"/>
            <a:ext cx="8229600" cy="444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1360" indent="-44136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pital aport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tilidades (pérdidas) acumul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tilidades (pérdidas) del Ejerci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nos los dividendo o retiros de Util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STADOS DE RESULT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55640" y="219384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 un informe contable que permite conocer cómo se ha generado el resultado de la empresa durante el ejercicio con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 un resumen de los ingresos y gastos de la empr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STADO DE RESULT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5960" y="1987560"/>
            <a:ext cx="7302600" cy="433080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UESTO A LA R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ULT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RESULTADO OPERA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412640"/>
            <a:ext cx="8458200" cy="11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gresos y gastos relativos a la operación o giro del negoc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2852640"/>
            <a:ext cx="7937280" cy="349272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GRESO DE LA EXPLO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STO DE EXPLO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RGEN DE EXPLO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STOS DE ADMINISTRACION Y V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RESULTADO OPERA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343720" cy="457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greso de la Explotación: Valor de las ventas de bienes y servicios del giro de la empr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stos de la Explotación: Costo de los productos vendidos o de los servicios pres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astos de administración y ventas: Todos los demás gastos relacionados con el giro del nego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280" y="429840"/>
            <a:ext cx="8064360" cy="134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RESULTADO NO OPERA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1536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gresos y gastos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lacionados con la operación o giro del negoc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3141720"/>
            <a:ext cx="7848360" cy="318780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GRESOS FUERA DE LA EXPLO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GRESOS FUERA DE LA EXPLO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RECCION MONE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 Corrección Monetari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8240" y="1987560"/>
            <a:ext cx="7683480" cy="440676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LA DIFERENCIA ENTRE LA REVALORIZ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LOS ACTIVOS SUJETOS A CORRECC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NETARIA Y LA REVALORIZACION DE 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SIVOS Y DEL PATRIMONIO Y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VALORIZACIONES QUE SE APLICAN SO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GRESOS Y GA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AJUSTES A LOS ESTADOS CO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67920" y="2122560"/>
            <a:ext cx="8596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nsacciones implícitas agregadas al balance y al estado de result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1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nsformación Parcial de un Activo en Ga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1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alización de Ingresos Difer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1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cumulación de Ingresos y Gastos no Registrados anterior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ransformación Parcial de Activo en Gast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7280" y="2276640"/>
            <a:ext cx="2577960" cy="120636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33840" y="2276640"/>
            <a:ext cx="1663920" cy="120636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10360" y="2276640"/>
            <a:ext cx="1206720" cy="120636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18040" y="2879640"/>
            <a:ext cx="2057400" cy="0"/>
          </a:xfrm>
          <a:prstGeom prst="line">
            <a:avLst/>
          </a:prstGeom>
          <a:ln w="76320">
            <a:solidFill>
              <a:srgbClr val="cc33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29720" y="2330280"/>
            <a:ext cx="135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3933720"/>
            <a:ext cx="806436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curre por el consumo o uso del activo, o por un imprevis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: Depreciación, gastos pagados por anticipad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mortización de activos intangibles, casti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 provis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BALANCE GENE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15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forme contable que muestra la situación económico-financiera de la empr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de carácter estático, muestra sólo un inst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 lado izquierdo muestra los activos y al derecho los pasivos y el patrimon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0280" y="981000"/>
            <a:ext cx="8362800" cy="1008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31 de noviembre se compra mobiliario en M$600, cuya vida útil es de 5 años y su valor residual cer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9640" y="2089080"/>
            <a:ext cx="8280360" cy="1033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7560" y="3284640"/>
            <a:ext cx="8345520" cy="9349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JUSTE AL 31/12, para reconocer el desgaste de los muebles. Dos op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39640" y="4365720"/>
            <a:ext cx="8280360" cy="1033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41440" y="5608800"/>
            <a:ext cx="8278560" cy="103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91520" cy="10083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31/10 se arriendan oficinas pagando 5 meses por adelantado, por un monto de $1000, al cont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0560" y="3986280"/>
            <a:ext cx="8228160" cy="9471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JUSTE AL 31/12, para reconocer el consumo de dos meses de arrien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33440" y="2565360"/>
            <a:ext cx="8459640" cy="988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68360" y="5445000"/>
            <a:ext cx="8424720" cy="9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91520" cy="1440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empresa tiene un saldo de deudas por cobrar de M$600. El deudor quebró y se tiene la certeza de que no cancelar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14360" y="4540320"/>
            <a:ext cx="8405640" cy="1049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47840" y="3049560"/>
            <a:ext cx="8300880" cy="9471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JUSTE para reconocer la irrecuperabilidad de las cuentas por cobr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13240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empresa tiene un saldo de deudas por cobrar de M$800. La empresa estima que por diversas razones no se recaudará el 10% de es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9640" y="4653000"/>
            <a:ext cx="8332920" cy="1716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68360" y="3282840"/>
            <a:ext cx="8351640" cy="9471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JUSTE AL 31/12, para reconocer la probabilidad de no recaudar una parte de las cuentas por cob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Realización de Ingresos Difer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618920"/>
            <a:ext cx="8534160" cy="47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ando se percibe una recaudación en forma anticipada a la entrega de los bienes o a la prestación de los servicios, la transacción se debe registrar como un pas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 momento de preparar los estados financieros se debe realizar un ajuste para reconocer la parte del ingreso devengado durante el perío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351640" cy="936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30/9 el Teatro Municipal vende abonos por M$50.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8360" y="2408400"/>
            <a:ext cx="8331120" cy="1038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47840" y="3697200"/>
            <a:ext cx="8300880" cy="9471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JUSTE AL 31/12, para reconocer el ingreso por la realización del 80% de los ev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5280" y="4968720"/>
            <a:ext cx="8569440" cy="17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Acumulación de Ingresos y Gastos no Registr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gresos y gastos que ocurren día a día, en forma continu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eses banc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ntas de inversiones financie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rvicios prestados por el perso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8435880" cy="9651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31/10 se pide un préstamo por M$100, al 3% mensual (interés simpl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7840" y="3552840"/>
            <a:ext cx="8300880" cy="9471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JUSTE AL 31/12, para reconocer los intereses devengados sobre la deud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96720" y="2314440"/>
            <a:ext cx="8496360" cy="1040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8360" y="4797360"/>
            <a:ext cx="849636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362800" cy="14684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empresa paga salarios semanales por M$100. El último pago lo efectuó el 28/12 correspondiente a la semana del 21-2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4508640"/>
            <a:ext cx="8477280" cy="1746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47840" y="3049560"/>
            <a:ext cx="8372160" cy="9471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JUSTE AL 31/12, para reconocer el salario devengado entre el 28 y el 31 de diciembre (4/5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NOTAS A LOS ESTADOS FINANCIE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6292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presentan la divulgación de la  Información que no está directamente en los estados financie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tas explicativas que permiten una mejor comprensión de las cifras contenidas en los estados financie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son en sí estados financieros, pero forman parte de el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s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BALANCE GENE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TUACION ECONOM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pacidad de la empresa, o grado de eficiencia, para generar utilidades en un determinado perío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TUACION FINANCI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pacidad de la empresa para pagar sus deudas. Es lo que se tiene v/s lo que se de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NOTAS A LOS ESTADOS FINANCIE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415360" cy="482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riterios Contables Usado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ase de conversión transacciones a M.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s para depreciar activo fi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s para valorizar existenci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rrección Monetaria Principales Part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posición Exist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talle Provisiones y Castig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sivos : Fechas de Vencimiento, Instituciones Acreedo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ICTAMEN AUDITORES EXTERN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21225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s sociedades anónimas abiertas tienen la obligación de someter sus Estados Financieros a la revisión de Auditores Externos, quienes emiten un dicta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n Salvedad (Posit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 Salvedad (Negat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structura de los Estados Financieros de las S.A. abierta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ado de Resul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ado de Flujo de Efec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ctamen de Auditores Exter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Obligatoriedad de los Estados Financie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80680" y="1915920"/>
            <a:ext cx="8094600" cy="43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Chile, están legalmente obligadas a preparar y presentar estados financieros sólo las empresas sometidas a la fiscalización de las superintendencias, tales como: sociedades anónimas abiertas, sociedades emisoras de valores de oferta pública, compañías de seguro, administradoras de fondos, bancos, AFP e Isap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resto de las empresas sólo tienen obligaciones respecto de la contabilidad tributa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228240"/>
            <a:ext cx="8351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mplo de Estados Financie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9080" y="1092240"/>
            <a:ext cx="855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erta empresa muestra el siguiente balance al comenzar el ejercicio (en M$)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04920" y="2209680"/>
          <a:ext cx="868680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09680"/>
                    <a:ext cx="86868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49280" y="1125360"/>
            <a:ext cx="829944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ende mercadería por un monto de M$ 1.200, pagándose 50% a plazo y el resto al contado. El costo de la mercadería fue de M$ 9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lientes pagan M$ 500 que adeudaban a l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 su vez la empresa paga M$ 400 que adeudaba a sus provee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trega el 50% de los bienes pagados por anticipado, obteniendo un margen de ganancia, sobre ingresos, del 4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ga M$ 200 por concepto de remuner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compran muebles por M$ 100, pagando al cont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9080" y="260280"/>
            <a:ext cx="855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urante los dos meses siguientes realiza las siguientes transac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3822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OT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deuda se contrajo a un tasa del 2% mensual (lineal) y se debe pagar al cabo de 1 año junto con los inter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l activo fijo le resta una vida útil de 20 años y su valor residual es c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seguro tiene una duración de 1 año y fue contratado hace 2 m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pide el registro de las transacciones, ajustes, Balance General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Estado de Resultados al cabo de dos m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" y="380880"/>
            <a:ext cx="8763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ende mercadería por un monto de M$ 1.200, pagándose 50% a plazo y el resto al contado. El costo de la mercadería fue de M$ 9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8281800" cy="10321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611280" y="3500280"/>
            <a:ext cx="828180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lientes pagan M$ 500 que adeudaban a l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353440" cy="1042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0880" y="323064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 su vez la empresa paga M$ 400 que adeudaba a sus provee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39640" y="4508640"/>
            <a:ext cx="828036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trega el 50% de los bienes pagados por anticipado, obteniendo un margen de ganancia, sobre ingresos, del 4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39640" y="2376360"/>
            <a:ext cx="828036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STRUCTURA DEL BAL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88920" y="2031840"/>
          <a:ext cx="6997680" cy="434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2031840"/>
                    <a:ext cx="6997680" cy="43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8610480" y="2036880"/>
            <a:ext cx="0" cy="4495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2189160"/>
            <a:ext cx="0" cy="3962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9720" y="209880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2800" y="545148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760" y="2401920"/>
            <a:ext cx="42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142120" y="11271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215200" y="62118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145720" y="1716120"/>
            <a:ext cx="4075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203688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03688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153280" y="211284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2036880"/>
            <a:ext cx="739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287496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630396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ga M$ 200 por concepto de remuner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41440" y="1506600"/>
            <a:ext cx="8134200" cy="10144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80880" y="342900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84120" indent="-384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compran muebles por M$ 100, pagando al contado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39640" y="4557600"/>
            <a:ext cx="828036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just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41440" y="1844640"/>
            <a:ext cx="8207280" cy="10238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55680" y="1004760"/>
            <a:ext cx="45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preciación del activo fi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350028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terese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11280" y="4087800"/>
            <a:ext cx="81374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mortización del seg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68360" y="1717560"/>
            <a:ext cx="8351640" cy="10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SUMEN DE TRANSAC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9280" y="1417680"/>
            <a:ext cx="878544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457200" y="1473120"/>
          <a:ext cx="8229600" cy="454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73120"/>
                    <a:ext cx="8229600" cy="45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524880" y="406440"/>
            <a:ext cx="39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LANCE GENERAL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914400" y="1120680"/>
          <a:ext cx="7467480" cy="471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20680"/>
                    <a:ext cx="746748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BALANCE GENE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IQUIDE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pacidad de un activo para convertirse en efec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IGI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relaciona con el tiempo faltante para el vencimiento de las oblig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ACTIVO CIRCUL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280" y="3573000"/>
            <a:ext cx="4319640" cy="30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pon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pósitos a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udores por v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ocumentos por cob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udores v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xist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58920" y="3499920"/>
            <a:ext cx="4095720" cy="29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uestos por recupe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alores negoc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astos pagados por anticip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uestos difer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5640" y="1989000"/>
            <a:ext cx="7777080" cy="1373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os o recursos de la empresa que serán vendidos, realizados o consumidos dentro de un año desde la fecha del estado financi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ACTIVO FIJ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6560" y="3212640"/>
            <a:ext cx="7983720" cy="32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1360" indent="-4413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rrenos (no depreciables), yacimientos, bos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strucciones y obras de infraestructu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versiones en plantas frutales, viñedo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quinaria y equip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preciación acumulada (men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6920" y="1916280"/>
            <a:ext cx="7777440" cy="1373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Bienes adquiridos para usarlos en la explotación social y sin el propósito de vender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OTROS ACTIV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1960" y="3212640"/>
            <a:ext cx="7772400" cy="32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25320" indent="-568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versiones en empresas relacionad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5320" indent="-568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versiones en otras socie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5320" indent="-568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udores a larg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5320" indent="-568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uestos diferidos a larg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5320" indent="-568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angibles (patentes, marca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5320" indent="-568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mortizaciones (men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2038320"/>
            <a:ext cx="7653240" cy="947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os demás activos que no puedan ser clasificados en las categorías anteri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PASIVO CIRCUL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1920" y="3298680"/>
            <a:ext cx="4635720" cy="308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51192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ligaciones con bancos a corto plaz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te de las obligaciones a largo plazo que vencen antes de 1 a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ligaciones con el público a cort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3284280"/>
            <a:ext cx="424476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entas por pa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ocumentos por pa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vi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gresos percibidos por anticip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uestos por pa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uestos difer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5120" y="1413000"/>
            <a:ext cx="8084880" cy="18003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quellas obligaciones contraídas por la empresa que serán canceladas dentro del plazo de un año a contar de la fecha de los estados Financie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03:04:30Z</dcterms:created>
  <dc:creator>Soporte Técnico</dc:creator>
  <dc:description/>
  <dc:language>en-US</dc:language>
  <cp:lastModifiedBy>Michel</cp:lastModifiedBy>
  <dcterms:modified xsi:type="dcterms:W3CDTF">2007-07-31T01:56:22Z</dcterms:modified>
  <cp:revision>8</cp:revision>
  <dc:subject/>
  <dc:title>Contabilidad y Control</dc:title>
</cp:coreProperties>
</file>