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B2DD-BC7A-46A8-844E-B846D1C6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F56E-8BEF-4FEA-9AD5-37DF1CFF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1699-0C6F-4D47-803B-AD66B821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9B5D-FF9A-4DD5-9DDC-5DF47505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8DC7-A4E0-47E7-9706-91ACA971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8E18-3CB6-45AD-95AE-C73F30F0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D1B7-C820-46A9-A2A1-F991D47C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8785-78C2-440B-B704-4899F91A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A485-3DCD-4970-95F4-527C5C4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89F-401C-498F-A394-66319C6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3D84-C166-4B8E-BA60-0F2E9D9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8348-35DD-47D4-BD42-BE37DDAF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9A8-B959-4419-8669-B81FFD1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0F01-BB83-4B65-BD0A-24254B9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68C3-AE84-4599-9AAF-40788A4F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2D55-FC5A-4159-A476-51A0B5F1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84A9-AE59-4FC4-BA86-D354CDA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2DE3-47DA-4E6D-AF8E-E5B26B96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5F66-9BB7-4F9B-89DD-D04B077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5EAF-AA3E-4481-A0BE-3F84C1B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3078-ED22-4593-B61C-DA71FBA0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7A41-A29A-4365-A48B-2ABFF4F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5BEE-92C1-4C06-AE6E-408E048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2229-E784-4782-A2F7-C8C15AE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3DAD-EE38-4EF5-8856-753F84CB8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B6B9-51C7-4129-A36C-A9F0A3D1D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mula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44A – Investigación Ope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istian Araya 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Cr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628640"/>
          <a:ext cx="4359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4359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acceder a la configuración de un elemento “Create”, hacer doble click en el elemento depositado en el área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” permite seleccionar el tipo de distrib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rámetros de la distribución se ingresan dentro del paréntesis (en el ejemplo, reemplazar “mean” por la med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unidades correc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roce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d: Determinar el tipo de recurso: uno o un set de recursos. Para usar un set, se debe crear pri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est remain capacity”: Una cola donde las entidades que llegan deben esperar su turno, para luego ser atendidas por el recurso correspond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 los recursos?: En general los participantes de los procesos o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703520"/>
          <a:ext cx="4027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3520"/>
                    <a:ext cx="402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c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1880" y="1773360"/>
          <a:ext cx="40388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3360"/>
                    <a:ext cx="40388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permite separar por probabilidad o por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mplea probabilidad, se debe definir qué representarán “true” y “false” para el modelo a simular (ejemplo: “true” los aprobados y “false” los rechaza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4149720"/>
          <a:ext cx="403848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149720"/>
                    <a:ext cx="40384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s-CL" sz="3000" spc="-1" strike="noStrike">
                <a:solidFill>
                  <a:srgbClr val="00007d"/>
                </a:solidFill>
                <a:latin typeface="Arial"/>
              </a:rPr>
              <a:t>Set, resource, entity, que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2060640"/>
            <a:ext cx="55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ando sobre cada categoría se puede definir cada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“queue” pueden ver las colas existentes en su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r que en primer lugar se debe definir un “set”. Luego puede emplearse en un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12956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1295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Instrucciones f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7920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simular, presionar botón de “Go”. Leer con detención los reportes y obtener la información relevante para el desarrollo de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todas las entradas al sistema, identificando todas las posibles con un nombre diferente. Emplear las distribuciones obtenidas en la “Tarea n°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grupos “set” contienen en su interior las unidades de recurso. Por ejemplo, un set de “cajeros” puede tener rows “cajero 1”, “cajero 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olvidar agregar los recursos a los procesos. Escoger “Largest remain capacity”, puesto que además, en el caso de varios servidores, indicará a las entidades ocupar el primer servidor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oger la generación de estadísticas en cada salida del sistema (doble click sobre elemento de “dispose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repetir nombres entre los elementos del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Defini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7840" y="202860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 en realizar una representación de un proceso o fenómeno observado. Se diseña un modelo, mediante apoyo computacional, que permita realizar experimentos, sobre esta representación, para así poder entender cómo se comporta el sistema en el mund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definitiva, permite experimentar diversas posibilidades y estimar medidas de desempeño para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serv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ntrega un resultado óptimo, sólo es posible encontrar mínimos locales al experimentar diversos e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¿Cuándo simula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es muy costoso (en términos de tiempo o precio) simular una situación directamente sobre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hay variables aleatorias involucradas, de modo que no se puede efectuar una descripción precisa de las respuestas de las entidades particip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" y="313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Pasos a segu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4429080"/>
            <a:ext cx="82296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el sistema real que se desea simular (“Tarea n°2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un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r sobre 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r l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polar la solución al sistema real e implemen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squema del proces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421000"/>
            <a:ext cx="151272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21000"/>
            <a:ext cx="1513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941720"/>
            <a:ext cx="151272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941720"/>
            <a:ext cx="1513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43828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29392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565360"/>
            <a:ext cx="2232000" cy="35892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118560" y="3825000"/>
            <a:ext cx="1008360" cy="35892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3203640" y="5229360"/>
            <a:ext cx="2232000" cy="35856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510200" y="3824640"/>
            <a:ext cx="1008360" cy="3585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198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61080" y="3573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e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744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Medición del desempeñ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 de espera: en cola y al ser ate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ción de l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s de ciclo: por proceso y total en 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as de producción y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centaje de clientes fug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lementos para discut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égimen transiente importan las condiciones iniciales y la simulación tiene una duración acotada. Por otro lado, simular en régimen estacionario requiere que las pasadas sean largas para aproximarse al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rsión estudiante del software “Arena” entrega la misma semilla para el random, por ende las simulaciones entregarán los mism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ólo permite simular 150 entidades en cola. Se deben extrapolar valores obtenidos de tiempos co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a complejidad del software permite representar el sistema real con distintos grados de fidelidad. Trade-off: dificultad versus representa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Ejemplo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1773360"/>
          <a:ext cx="8317080" cy="46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17080" cy="4636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scrip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ramienta para modelar y simular sistemas. Se utiliza en operaciones de negocios, servicios, sector manufacturero y sistemas que involucren flujos e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284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fin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14180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dades: Son los objetos que se mueven a travé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: Son todos los participantes del proceso (por ejemplo cajeros, servidores automátic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recursos: Son conjuntos de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ara sim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844640"/>
          <a:ext cx="36734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3673440" cy="201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00720" y="22035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reat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rea las entidades. Se le asigna un nombre, tasa de llegada, número de entidades por llegada y capacidad máxima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005360"/>
            <a:ext cx="81374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ispos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alidas del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roceso. Se le asigna un nombre, acción a ejecutar, recursos que posee (por ejemplo un cajero) y la distribución de tie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ci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para en 2 flujos (o más) por probabilidad 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cord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uenta las ent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21:42:33Z</dcterms:created>
  <dc:creator>Christian Araya</dc:creator>
  <dc:description/>
  <dc:language>en-US</dc:language>
  <cp:lastModifiedBy>Christian Araya</cp:lastModifiedBy>
  <dcterms:modified xsi:type="dcterms:W3CDTF">2007-11-01T23:41:36Z</dcterms:modified>
  <cp:revision>17</cp:revision>
  <dc:subject/>
  <dc:title>Simulaciones</dc:title>
</cp:coreProperties>
</file>