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FD84-6966-4235-A230-C80C373F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AB39-1F63-4F7C-B73D-8813449D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E95B-5BC3-4984-A722-DB9FF18B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4C71-61A9-4BE8-87FF-F616F044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18CA-CE91-4A59-A71F-A4A800D4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AFD3-64CB-4ADE-B0CB-0569300D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9E67-ED81-4E25-B26A-FC55B00E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3132-7CA6-4D34-A607-0DDE0DF9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6703-C546-4BB2-A3DE-8024C237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4421-7DAF-4188-BD05-5AC08DD3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E0FC-5267-4B99-BF23-9D9DD80E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4920-41B6-4ABB-A0DD-7B812CF2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850F-2B1F-4CF2-89C9-0D99B499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80D4-D636-443B-BD29-8974D25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FDB8-847A-428C-85B5-F84E7C29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F56F-2844-4FCF-842E-24415876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EA3D-5C89-4A83-BFCB-5BE7AA7C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C56C-F4F4-4122-BE72-21ABEB7C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3996-4018-4BB9-A733-913185C3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DC62-DF9B-49BD-B269-52354E69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C550-F755-4B1B-B1E6-0D34D2DE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DFFB-59A6-496A-999D-2B5674F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42F3-78DC-49AA-99A1-BC49B28E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C68A-F4DA-419E-8027-AA0CE53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E9FA-4CF1-420E-8974-639A0B684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39D0-AE3E-4D72-A939-3D9A3AE90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mulaci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44A – Investigación Ope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istian Araya 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Cr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628640"/>
          <a:ext cx="43592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43592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acceder a la configuración de un elemento “Create”, hacer doble click en el elemento depositado en el área 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” permite seleccionar el tipo de distrib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arámetros de la distribución se ingresan dentro del paréntesis (en el ejemplo, reemplazar “mean” por la med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unidades correct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Proce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d: Determinar el tipo de recurso: uno o un set de recursos. Para usar un set, se debe crear prim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rgest remain capacity”: Una cola donde las entidades que llegan deben esperar su turno, para luego ser atendidas por el recurso correspond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son los recursos?: En general los participantes de los procesos o empl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703520"/>
          <a:ext cx="4027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3520"/>
                    <a:ext cx="4027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c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1880" y="1773360"/>
          <a:ext cx="40388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73360"/>
                    <a:ext cx="40388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permite separar por probabilidad o por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emplea probabilidad, se debe definir qué representarán “true” y “false” para el modelo a simular (ejemplo: “true” los aprobados y “false” los rechaza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4149720"/>
          <a:ext cx="403848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149720"/>
                    <a:ext cx="40384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s-CL" sz="3000" spc="-1" strike="noStrike">
                <a:solidFill>
                  <a:srgbClr val="00007d"/>
                </a:solidFill>
                <a:latin typeface="Arial"/>
              </a:rPr>
              <a:t>Set, resource, entity, que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2060640"/>
            <a:ext cx="55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chando sobre cada categoría se puede definir cada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“queue” pueden ver las colas existentes en su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ar que en primer lugar se debe definir un “set”. Luego puede emplearse en un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73360"/>
          <a:ext cx="12956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1295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Instrucciones fi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7920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simular, presionar botón de “Go”. Leer con detención los reportes y obtener la información relevante para el desarrollo de la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todas las entradas al sistema, identificando todas las posibles con un nombre diferente. Emplear las distribuciones obtenidas en la “Tarea n°2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grupos “set” contienen en su interior las unidades de recurso. Por ejemplo, un set de “cajeros” puede tener rows “cajero 1”, “cajero 2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olvidar agregar los recursos a los procesos. Escoger “Largest remain capacity”, puesto que además, en el caso de varios servidores, indicará a las entidades ocupar el primer servidor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oger la generación de estadísticas en cada salida del sistema (doble click sobre elemento de “dispose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repetir nombres entre los elementos del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Defini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7840" y="202860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 en realizar una representación de un proceso o fenómeno observado. Se diseña un modelo, mediante apoyo computacional, que permita realizar experimentos, sobre esta representación, para así poder entender cómo se comporta el sistema en el mundo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definitiva, permite experimentar diversas posibilidades y estimar medidas de desempeño para el sistema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serv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entrega un resultado óptimo, sólo es posible encontrar mínimos locales al experimentar diversos escen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¿Cuándo simula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es muy costoso (en términos de tiempo o precio) simular una situación directamente sobre el sistema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hay variables aleatorias involucradas, de modo que no se puede efectuar una descripción precisa de las respuestas de las entidades participante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6040" y="313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Pasos a segu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4429080"/>
            <a:ext cx="82296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el sistema real que se desea simular (“Tarea n°2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ir un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r sobre 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r l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polar la solución al sistema real e implement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Esquema del proces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421000"/>
            <a:ext cx="151272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421000"/>
            <a:ext cx="15130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941720"/>
            <a:ext cx="151272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941720"/>
            <a:ext cx="1513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43828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ist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29392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501336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501336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olu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2565360"/>
            <a:ext cx="2232000" cy="35892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118560" y="3825000"/>
            <a:ext cx="1008360" cy="35892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3203640" y="5229360"/>
            <a:ext cx="2232000" cy="35856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510200" y="3824640"/>
            <a:ext cx="1008360" cy="3585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1985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61080" y="3573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e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744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Medición del desempeñ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 de espera: en cola y al ser aten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ción de los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s de ciclo: por proceso y total en 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as de producción y at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centaje de clientes fug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Elementos para discut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égimen transiente importan las condiciones iniciales y la simulación tiene una duración acotada. Por otro lado, simular en régimen estacionario requiere que las pasadas sean largas para aproximarse al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rsión estudiante del software “Arena” entrega la misma semilla para el random, por ende las simulaciones entregarán los mism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ólo permite simular 150 entidades en cola. Se deben extrapolar valores obtenidos de tiempos co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a complejidad del software permite representar el sistema real con distintos grados de fidelidad. Trade-off: dificultad versus representa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Ejemplo 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5280" y="1773360"/>
          <a:ext cx="8317080" cy="46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317080" cy="4636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scrip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229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ramienta para modelar y simular sistemas. Se utiliza en operaciones de negocios, servicios, sector manufacturero y sistemas que involucren flujos e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040" y="2849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fin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141800"/>
            <a:ext cx="8229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dades: Son los objetos que se mueven a travé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: Son todos los participantes del proceso (por ejemplo cajeros, servidores automátic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recursos: Son conjuntos de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Para sim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844640"/>
          <a:ext cx="36734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3673440" cy="201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00720" y="22035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reat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rea las entidades. Se le asigna un nombre, tasa de llegada, número de entidades por llegada y capacidad máxima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005360"/>
            <a:ext cx="81374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ispos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alidas del sis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roceso. Se le asigna un nombre, acción a ejecutar, recursos que posee (por ejemplo un cajero) y la distribución de tie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cid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para en 2 flujos (o más) por probabilidad 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cord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uenta las ent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21:42:33Z</dcterms:created>
  <dc:creator>Christian Araya</dc:creator>
  <dc:description/>
  <dc:language>en-US</dc:language>
  <cp:lastModifiedBy>Christian Araya</cp:lastModifiedBy>
  <dcterms:modified xsi:type="dcterms:W3CDTF">2007-11-01T23:41:36Z</dcterms:modified>
  <cp:revision>17</cp:revision>
  <dc:subject/>
  <dc:title>Simulaciones</dc:title>
</cp:coreProperties>
</file>