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88EB-0133-4EE4-8670-DD44175D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AB4A-72BF-497F-96CD-F6524887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B9395-FAA1-41CB-9600-E3267DA1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4FC5C-B7DC-4B2F-B735-75148D73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E87E-CDD2-40F7-9BF8-F054B9BA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5361-16B3-4E0C-BC60-D7BE126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782-0740-4F08-8297-C9E74A82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298-B8F3-4171-B43D-6AE44DB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6F7F-2205-4400-B1A1-549C3D9C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E3A2-2561-44CC-9024-73C76F7D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5219-EC21-46D5-BA95-180BFCE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018A-382D-4B02-B8F1-8C53E105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605D-7D2B-496B-AE43-6DCF21CA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AF63-B18E-457A-9476-B9833A11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E64D-462A-47FF-94B6-98B4524B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735-C584-4C80-8BA3-47564E0D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9522-3737-444B-AC49-75515914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087A-0206-4678-8550-46B7D749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9FEE-5C40-496B-BB9A-5D536CD1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B82AE-B0D6-4A43-81E2-728CCFBD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69ABE-7F92-4432-A753-562F6AC0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E0A8-3B44-4B82-ACBB-CA414B0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4666F-3877-494F-91B9-731193E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8AD9-C7ED-46E9-8FFD-ABE360BE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B1F1-5D95-4782-A9B6-222F1C60E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927A-1D8D-4EBC-9D01-600DD5CF4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imulaci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44A – Investigación Ope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ristian Araya 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Cr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628640"/>
          <a:ext cx="4359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4359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acceder a la configuración de un elemento “Create”, hacer doble click en el elemento depositado en el área de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ion” permite seleccionar el tipo de distrib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arámetros de la distribución se ingresan dentro del paréntesis (en el ejemplo, reemplazar “mean” por la med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unidades correct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d: Determinar el tipo de recurso: uno o un set de recursos. Para usar un set, se debe crear prim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est remain capacity”: Una cola donde las entidades que llegan deben esperar su turno, para luego ser atendidas por el recurso correspond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 los recursos?: En general los participantes de los procesos o emple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703520"/>
          <a:ext cx="402732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03520"/>
                    <a:ext cx="402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1880" y="1773360"/>
          <a:ext cx="403884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773360"/>
                    <a:ext cx="403884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76840" y="17733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permite separar por probabilidad o por cond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mplea probabilidad, se debe definir qué representarán “true” y “false” para el modelo a simular (ejemplo: “true” los aprobados y “false” los rechaz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4149720"/>
          <a:ext cx="403848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149720"/>
                    <a:ext cx="40384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s-CL" sz="3000" spc="-1" strike="noStrike">
                <a:solidFill>
                  <a:srgbClr val="00007d"/>
                </a:solidFill>
                <a:latin typeface="Arial"/>
              </a:rPr>
              <a:t>Set, resource, entity, que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2060640"/>
            <a:ext cx="554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ando sobre cada categoría se puede definir cada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“queue” pueden ver las colas existentes en su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ar que en primer lugar se debe definir un “set”. Luego puede emplearse en un proc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39640" y="1773360"/>
          <a:ext cx="129564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1295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Instrucciones fi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1773360"/>
            <a:ext cx="7920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simular, presionar botón de “Go”. Leer con detención los reportes y obtener la información relevante para el desarrollo de la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r todas las entradas al sistema, identificando todas las posibles con un nombre diferente. Emplear las distribuciones obtenidas en la “Tarea n°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grupos “set” contienen en su interior las unidades de recurso. Por ejemplo, un set de “cajeros” puede tener rows “cajero 1”, “cajero 2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olvidar agregar los recursos a los procesos. Escoger “Largest remain capacity”, puesto que además, en el caso de varios servidores, indicará a las entidades ocupar el primer servidor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oger la generación de estadísticas en cada salida del sistema (doble click sobre elemento de “dispose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repetir nombres entre los elementos del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Definic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7840" y="2028600"/>
            <a:ext cx="80010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 en realizar una representación de un proceso o fenómeno observado. Se diseña un modelo, mediante apoyo computacional, que permita realizar experimentos, sobre esta representación, para así poder entender cómo se comporta el sistema en el mundo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definitiva, permite experimentar diversas posibilidades y estimar medidas de desempeño para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bserv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entrega un resultado óptimo, sólo es posible encontrar mínimos locales al experimentar diversos e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¿Cuándo simula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es muy costoso (en términos de tiempo o precio) simular una situación directamente sobre el sistema re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ando hay variables aleatorias involucradas, de modo que no se puede efectuar una descripción precisa de las respuestas de las entidades participante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3137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Pasos a segu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4429080"/>
            <a:ext cx="822960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ocer el sistema real que se desea simular (“Tarea n°2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ir un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sobre el mod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r l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polar la solución al sistema real e implement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squema del proces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2421000"/>
            <a:ext cx="151272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421000"/>
            <a:ext cx="15130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4941720"/>
            <a:ext cx="151272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941720"/>
            <a:ext cx="15130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43828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iste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29392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6360" y="5013360"/>
            <a:ext cx="1079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Solu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3640" y="2565360"/>
            <a:ext cx="2232000" cy="35892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118560" y="3825000"/>
            <a:ext cx="1008360" cy="35892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3203640" y="5229360"/>
            <a:ext cx="2232000" cy="358560"/>
          </a:xfrm>
          <a:custGeom>
            <a:avLst/>
            <a:gdLst>
              <a:gd name="textAreaLeft" fmla="*/ 348480 w 2232000"/>
              <a:gd name="textAreaRight" fmla="*/ 1953000 w 223200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510200" y="3824640"/>
            <a:ext cx="1008360" cy="35856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1985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od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61080" y="357336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d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744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terpre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Medición del desempeñ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 de espera: en cola y al ser atend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ción de l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mpos de ciclo: por proceso y total en 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as de producción y ate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centaje de clientes fu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7d"/>
                </a:solidFill>
                <a:latin typeface="Arial"/>
              </a:rPr>
              <a:t>Elementos para discuti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égimen transiente importan las condiciones iniciales y la simulación tiene una duración acotada. Por otro lado, simular en régimen estacionario requiere que las pasadas sean largas para aproximarse al largo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rsión estudiante del software “Arena” entrega la misma semilla para el random, por ende las simulaciones entregarán los mismos resul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ólo permite simular 150 entidades en cola. Se deben extrapolar valores obtenidos de tiempos co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a complejidad del software permite representar el sistema real con distintos grados de fidelidad. Trade-off: dificultad versus representa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Ejemplo Lay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5280" y="1773360"/>
          <a:ext cx="8317080" cy="46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317080" cy="4636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scrip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98108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amienta para modelar y simular sistemas. Se utiliza en operaciones de negocios, servicios, sector manufacturero y sistemas que involucren flujos en ge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284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Defin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141800"/>
            <a:ext cx="8229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dades: Son los objetos que se mueven a travé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os: Son todos los participantes del proceso (por ejemplo cajeros, servidores automátic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junto de recursos: Son conjuntos de empl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7d"/>
                </a:solidFill>
                <a:uFillTx/>
                <a:latin typeface="Arial"/>
              </a:rPr>
              <a:t>Arena </a:t>
            </a:r>
            <a:br>
              <a:rPr sz="3500"/>
            </a:br>
            <a:r>
              <a:rPr b="0" lang="en-US" sz="3000" spc="-1" strike="noStrike">
                <a:solidFill>
                  <a:srgbClr val="00007d"/>
                </a:solidFill>
                <a:latin typeface="Arial"/>
              </a:rPr>
              <a:t>Para simul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1280" y="1844640"/>
          <a:ext cx="36734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3673440" cy="2016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00720" y="2203560"/>
            <a:ext cx="3682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reat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rea las entidades. Se le asigna un nombre, tasa de llegada, número de entidades por llegada y capacidad máxima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005360"/>
            <a:ext cx="81374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ispos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alidas del sist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rocess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. Se le asigna un nombre, acción a ejecutar, recursos que posee (por ejemplo un cajero) y la distribución de tiem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cide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para en 2 flujos (o más) por probabilidad o t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Record: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uenta las ent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21:42:33Z</dcterms:created>
  <dc:creator>Christian Araya</dc:creator>
  <dc:description/>
  <dc:language>en-US</dc:language>
  <cp:lastModifiedBy>Christian Araya</cp:lastModifiedBy>
  <dcterms:modified xsi:type="dcterms:W3CDTF">2007-11-01T23:41:36Z</dcterms:modified>
  <cp:revision>17</cp:revision>
  <dc:subject/>
  <dc:title>Simulaciones</dc:title>
</cp:coreProperties>
</file>