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6C90-6070-4D9C-92DF-8347EE2E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54BA-D467-4F4D-87DC-83CD8DF6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838D-2B04-49B7-B13E-997A84BB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1385-BE37-4444-99FB-E857585A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5A55-C889-42BF-AA31-9BDEE7EA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559A-C605-44E5-81F1-65F3B9C8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5EEF-22D7-4926-83AF-D7F46CC4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78DA-9200-4948-9633-341C82E2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7B38-DB20-493F-87ED-5FE2D0AF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6F48-F22F-4DC8-8E26-723D796D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F06A-624E-4722-B022-737AA615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3D1B-97A0-4776-9EE4-26C49607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E072-D0C0-4E6A-838B-F16C27A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EC2A-B681-49A9-9DFB-3B88EE10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3D24-3E9F-4E4E-AF93-3BEA23D5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ACEB-0995-4FD3-A361-6C811E88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BC0-6DAB-4DC0-A838-A73159B2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A152-4F40-4E4E-B095-80277A60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E2AF-CA94-4EB3-9139-9F2718D7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E9A3-0697-4CAC-B6B5-1071797A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C4B7-310E-40B7-BD17-B5E1471E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6E3F-7FDE-482C-9457-9CFCD25E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7039-E5B8-4591-8C06-B0553EF0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FF5E-6DB8-4F2C-9FBA-6A1CEBF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9E7B-6C5E-4BFC-8FCA-76D8B276B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843F-D2A3-4B55-955B-5560151CB5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mulaci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44A – Investigación Ope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istian Araya 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Cr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628640"/>
          <a:ext cx="435924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435924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acceder a la configuración de un elemento “Create”, hacer doble click en el elemento depositado en el área 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” permite seleccionar el tipo de distrib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arámetros de la distribución se ingresan dentro del paréntesis (en el ejemplo, reemplazar “mean” por la med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unidades correct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Proce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d: Determinar el tipo de recurso: uno o un set de recursos. Para usar un set, se debe crear prim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rgest remain capacity”: Una cola donde las entidades que llegan deben esperar su turno, para luego ser atendidas por el recurso correspond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son los recursos?: En general los participantes de los procesos o empl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1703520"/>
          <a:ext cx="4027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3520"/>
                    <a:ext cx="4027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c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1880" y="1773360"/>
          <a:ext cx="40388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773360"/>
                    <a:ext cx="40388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permite separar por probabilidad o por cond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emplea probabilidad, se debe definir qué representarán “true” y “false” para el modelo a simular (ejemplo: “true” los aprobados y “false” los rechaza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4149720"/>
          <a:ext cx="403848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149720"/>
                    <a:ext cx="40384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s-CL" sz="3000" spc="-1" strike="noStrike">
                <a:solidFill>
                  <a:srgbClr val="00007d"/>
                </a:solidFill>
                <a:latin typeface="Arial"/>
              </a:rPr>
              <a:t>Set, resource, entity, que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2060640"/>
            <a:ext cx="55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chando sobre cada categoría se puede definir cada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“queue” pueden ver las colas existentes en su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ar que en primer lugar se debe definir un “set”. Luego puede emplearse en un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773360"/>
          <a:ext cx="129564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12956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Instrucciones fi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7920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simular, presionar botón de “Go”. Leer con detención los reportes y obtener la información relevante para el desarrollo de la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todas las entradas al sistema, identificando todas las posibles con un nombre diferente. Emplear las distribuciones obtenidas en la “Tarea n°2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grupos “set” contienen en su interior las unidades de recurso. Por ejemplo, un set de “cajeros” puede tener rows “cajero 1”, “cajero 2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olvidar agregar los recursos a los procesos. Escoger “Largest remain capacity”, puesto que además, en el caso de varios servidores, indicará a las entidades ocupar el primer servidor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oger la generación de estadísticas en cada salida del sistema (doble click sobre elemento de “dispose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repetir nombres entre los elementos del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Defini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7840" y="202860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 en realizar una representación de un proceso o fenómeno observado. Se diseña un modelo, mediante apoyo computacional, que permita realizar experimentos, sobre esta representación, para así poder entender cómo se comporta el sistema en el mundo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definitiva, permite experimentar diversas posibilidades y estimar medidas de desempeño para el sistema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serv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entrega un resultado óptimo, sólo es posible encontrar mínimos locales al experimentar diversos escen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¿Cuándo simula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es muy costoso (en términos de tiempo o precio) simular una situación directamente sobre el sistema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hay variables aleatorias involucradas, de modo que no se puede efectuar una descripción precisa de las respuestas de las entidades participante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6040" y="313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Pasos a segu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6040" y="4429080"/>
            <a:ext cx="82296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el sistema real que se desea simular (“Tarea n°2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ir un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r sobre 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r lo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polar la solución al sistema real e implement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Esquema del proces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421000"/>
            <a:ext cx="151272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421000"/>
            <a:ext cx="15130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4941720"/>
            <a:ext cx="151272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941720"/>
            <a:ext cx="1513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43828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ist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29392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501336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501336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olu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2565360"/>
            <a:ext cx="2232000" cy="35892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6118560" y="3825000"/>
            <a:ext cx="1008360" cy="35892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3203640" y="5229360"/>
            <a:ext cx="2232000" cy="35856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510200" y="3824640"/>
            <a:ext cx="1008360" cy="35856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1985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61080" y="357336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e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744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Medición del desempeñ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mpo de espera: en cola y al ser aten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ción de los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mpos de ciclo: por proceso y total en 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as de producción y at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centaje de clientes fug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Elementos para discut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égimen transiente importan las condiciones iniciales y la simulación tiene una duración acotada. Por otro lado, simular en régimen estacionario requiere que las pasadas sean largas para aproximarse al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rsión estudiante del software “Arena” entrega la misma semilla para el random, por ende las simulaciones entregarán los mismo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ólo permite simular 150 entidades en cola. Se deben extrapolar valores obtenidos de tiempos co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a complejidad del software permite representar el sistema real con distintos grados de fidelidad. Trade-off: dificultad versus representa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Ejemplo L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5280" y="1773360"/>
          <a:ext cx="8317080" cy="46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317080" cy="4636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scrip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81080"/>
            <a:ext cx="8229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ramienta para modelar y simular sistemas. Se utiliza en operaciones de negocios, servicios, sector manufacturero y sistemas que involucren flujos en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040" y="2849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fin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141800"/>
            <a:ext cx="8229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dades: Son los objetos que se mueven a travé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: Son todos los participantes del proceso (por ejemplo cajeros, servidores automátic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recursos: Son conjuntos de 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Para sim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844640"/>
          <a:ext cx="36734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3673440" cy="201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00720" y="22035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reat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rea las entidades. Se le asigna un nombre, tasa de llegada, número de entidades por llegada y capacidad máxima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005360"/>
            <a:ext cx="81374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ispos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alidas del sis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roceso. Se le asigna un nombre, acción a ejecutar, recursos que posee (por ejemplo un cajero) y la distribución de tie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cid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para en 2 flujos (o más) por probabilidad 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cord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uenta las ent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21:42:33Z</dcterms:created>
  <dc:creator>Christian Araya</dc:creator>
  <dc:description/>
  <dc:language>en-US</dc:language>
  <cp:lastModifiedBy>Christian Araya</cp:lastModifiedBy>
  <dcterms:modified xsi:type="dcterms:W3CDTF">2007-11-01T23:41:36Z</dcterms:modified>
  <cp:revision>17</cp:revision>
  <dc:subject/>
  <dc:title>Simulaciones</dc:title>
</cp:coreProperties>
</file>