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18B-DFB4-4FEE-A349-1651A020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A75-B981-487E-B09E-6B60C292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68A-6FAC-49F5-B8E3-63DC80A0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9BC-B11B-4D55-8288-91CEC473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D594-B902-421B-BE5F-A30BCCD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DBE5-8882-4881-B17C-364DE699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1237-1764-4A5F-9018-6B3E83B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44D2-21AD-4F3E-8401-754ED0B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DC81-84FE-49DE-9FA1-8381142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02A-DF26-45C8-9E46-00585E4A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AC3C-C40C-4D63-91E0-382C9DE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6DC-F844-4BD5-90F2-7CCC5E94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B80B-38C0-4691-84E3-41744D2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3837-06CC-4B34-BCE6-CA93B21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1D0C-A157-41B1-9963-CA6841E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0A6-8E57-4D84-8A0A-B1AC734A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2D9B-E9F9-4484-8D9F-59D71D79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082-9877-44CD-9E50-BDBC954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621-69F8-40CC-8E65-87D9BCD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3FD-2DDB-45F8-8DB8-3464AD12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603-BBB7-4C19-93C8-6A21DB11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206-8FF5-4C4C-A4BB-8B770C3A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157-153E-4C45-B187-4E56E75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FBF-1955-4730-B9FF-C4D11FD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4C5-B771-4FBB-8B11-9AFF52D8AEB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06A8-D31B-4064-8FD0-73606678D57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55F-5A38-40F4-8D07-F7D99DC5B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EB9-E287-44FB-848A-125535A6BD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8DF-8F3C-4987-B371-93F3155E6A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DE4-0CAF-4CC1-A82C-AAB52589B9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01D-C3A6-4AF0-B126-42BC5DBB6B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BF0-C81C-43CD-8ACF-39F08F6FA2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265-B316-412E-9209-8C1774F161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90A-5B6B-4A0E-BB08-8816262C7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A53-A228-41AD-B643-B5C272D82D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8B7-7B12-428E-B711-DABF0402B7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8C9-852E-4936-9678-B9A740C4BE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DF6-EF0C-4DA2-A069-07790E5369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B3D-9C60-421A-AE75-6FF1F1F541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B02-0305-49B4-8E90-7C1AC3AB51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F69-4DD9-406C-A70A-5C959F4FAC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916-7C33-4A8F-AF1E-473204FB4E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BAB-0971-4FC4-A778-69C4AF2134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95F-AA4C-4718-8BB1-A7916C28AE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E73-2249-4228-BD62-F99F577C64B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034-7BB9-4EA7-931F-0E5FB598613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220-EE95-45B7-B822-78EEBA36033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46A-52CE-4949-9F9F-589595634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8C0-4F4A-4239-A7A5-2EF65A18A5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402-5282-4D80-BDB2-E1B951115EC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145-6567-4A99-A8CF-A460089F935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9CB-586C-4666-A432-3E9B4A7C40F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38C-ADD8-45BD-9C77-3458E39FC2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393-CDC7-4436-9705-F379414A74B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FF9-A8AE-486B-8170-DE6D14E1B97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0E8-5EE4-47A4-AFE0-0BEE6E30797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D22-09F4-457F-86C7-4AFB29102F1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12D-BC08-4BE1-9EC5-276497347B4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1FC-E7F6-40D9-8776-69720DBB8E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B8A-E662-4856-B8F7-2B9090DF9280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7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EEC-14C2-43B6-84DE-B2ECD3EA4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≥ 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0A7-42FA-446B-A63A-FF7E7181B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7FF-4FB8-42C7-8F0D-3319ACD1A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CDD-2EC3-4206-AC94-2CF4FFE8B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wbaeza</cp:lastModifiedBy>
  <cp:lastPrinted>2002-11-13T13:47:55Z</cp:lastPrinted>
  <dcterms:modified xsi:type="dcterms:W3CDTF">2007-07-23T17:31:57Z</dcterms:modified>
  <cp:revision>343</cp:revision>
  <dc:subject/>
  <dc:title>Formulación de Proyectos</dc:title>
</cp:coreProperties>
</file>