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050-CB7C-496F-BA46-84F3F0D9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EA4-A1A9-4743-B408-B2F334C9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C31-262C-475F-A201-18020BBF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8EA-8831-41BC-8052-C5E5DD83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7D10-22C0-43F2-A89A-1EDD7FB2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D3FB-023E-4091-8532-45C3D7C1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5F70-9D73-4055-BD45-EB07EE53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F8CB-B08D-4AB1-A25A-5B12DFF2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AC0F-8E34-46A8-B538-9A1158E4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548E-9D09-4BE2-A97D-40B5552E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80B9-C27E-48E7-A3F2-D549FFD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F66-86C1-402B-9A27-E8810844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FE9F-6188-45CD-AC70-53E38084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243C-AC58-4E34-8384-5D5791F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E171-3AA2-4C0E-943B-C73836D7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839D-E12B-4833-8E70-4DB05553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73B4-083D-41A8-85A2-1247E5D5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E5C-6BEC-4B93-9FEE-C5CAE19A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FDA-314E-4880-BF5E-1E1A7C7D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210-A4B3-48A8-A278-9F3BBACE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B7B-E147-4E11-AD65-39932EA5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3FE-E33B-4FDD-9408-851468ED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123-3082-40D8-A59C-DB7B44E5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2DA-625E-48E9-AD18-21F3D210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2683-4E36-44F3-8568-94128973536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17D7-05D6-49FB-BD08-2CBA6F19900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707-42A0-4C8E-BAA0-D6F076CC83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A30-5297-4405-B8BC-958008D73F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5B0-8A24-4557-9AD3-C87408F536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937-0B1E-4188-86BC-48085E87DC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6FC-71A9-4E41-95DC-6D48980B1B4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3A6-F4A1-4F77-9370-5305B272979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F41-805B-4973-8BAB-0DEC16890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6E4-A3C8-40A7-8539-97FB2DA97D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380-A69C-484D-98FC-49953BCC51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C75-F53C-49F5-91DC-5DECD6B21E8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77F-6516-46E3-A8C0-1C6DEF4A81F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8D4-98FE-4736-AD4C-8E228AEDAF9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A38-3B06-4DA8-96AC-326949779D6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8FA-B47A-4F6D-B425-F0989D59E8B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551-D9EE-4BB5-AAF6-C83288A734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DEC-D379-4386-BCF0-A2AAB36004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1ED-07F7-4F07-BD3F-75913D312AF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317-9AFC-48BD-B08A-D091C78595E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41D-3AD9-4F6A-A3C1-1731A236D68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DB3-7E83-43CF-B0C3-30CCABD7E60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FDA-FC4A-452B-AA4A-C87E0A33E78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303-8911-40F1-91F3-47B12B9CFA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9B6-628A-4C2E-816B-03C3B13F077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F38-F9FE-478B-AF3A-24411FB8677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B88-1991-434F-81B8-DEC166FD1D6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334-F333-4401-81F0-B66C2FD508C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979-2278-4E6D-88D6-1DA04461123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F0B-BD90-43A5-BEDD-99638DC3ACE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E8E-4285-4F8B-ACB4-9CC0BF6B39F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837-F4FF-4C80-BAB2-2434997EE3F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139-FFF1-4079-BA90-8D2555C1AAE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998-D7D8-4647-9092-C8EA16EE064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940-5333-4A22-8DEB-C84C24B5DB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C0E-DE03-42C1-B572-A702943FBC46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7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17C-C410-455D-97F6-6AAF62993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≥ 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225-3481-42C0-A4D8-59EE6F78F9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C27-8F23-4DE2-8AD1-0483BAB7A5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266-810D-4018-832D-6381D5A4E6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wbaeza</cp:lastModifiedBy>
  <cp:lastPrinted>2002-11-13T13:47:55Z</cp:lastPrinted>
  <dcterms:modified xsi:type="dcterms:W3CDTF">2007-07-23T17:31:57Z</dcterms:modified>
  <cp:revision>343</cp:revision>
  <dc:subject/>
  <dc:title>Formulación de Proyectos</dc:title>
</cp:coreProperties>
</file>