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42A8-4355-48B6-9A84-E01936A4C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5C65-CA57-4853-90D3-E818F50C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7167-1FC4-4608-8CF9-F0CD3330F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2D80-7F33-4953-ACC7-B4E85029C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C4CA-D217-410E-A4B8-529CE7DA2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9F15-F30A-4B17-8C3B-75B26C94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EFD4-DA7F-40C0-83E5-E0321525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540F-1F5A-4F65-B752-2411EB54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11AA-0B97-452D-A297-84AE8709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56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0A30-923E-4A4B-BD41-EF0FDF0B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8370-2CBB-4650-B642-2F2D0D74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B117-E4EB-42EE-A484-0F40ED6B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4624-7F15-41C1-B9AD-8D7B94B3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5BC8-EE85-4271-9545-73A51929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6C3D-1494-4EEC-87C2-F882F427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2749-A7D5-4379-8586-EAE952445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ED91-9C48-4401-8136-E394094F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DF94-2689-4817-B1E0-F6740BB3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DC94-684D-4F08-8C6F-EB389F69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1BDF-83CF-4B9F-8660-A210E0C0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56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ABFC-8A85-4CDD-BA81-F9FF058E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8C1A-0920-467A-986E-847A6C34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94D8-DBB2-40E4-AB9B-0A93F8B5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6C0A-7276-4A6A-BA18-5055C585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D7E4-5825-45B9-9A8F-EA66A7C23C3C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1098720" cy="10987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50920" y="141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666699"/>
                </a:solidFill>
                <a:latin typeface="Arial Black"/>
              </a:rPr>
              <a:t>IN42A</a:t>
            </a:r>
            <a:endParaRPr b="0" lang="en-US" sz="18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195640" y="1557360"/>
            <a:ext cx="6553080" cy="0"/>
          </a:xfrm>
          <a:prstGeom prst="line">
            <a:avLst/>
          </a:prstGeom>
          <a:ln w="3816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6699"/>
                </a:solidFill>
                <a:latin typeface="AardvarkBold"/>
              </a:rPr>
              <a:t>Click to edit the title text format</a:t>
            </a:r>
            <a:endParaRPr b="1" i="1" lang="en-US" sz="4400" spc="-1" strike="noStrike">
              <a:solidFill>
                <a:srgbClr val="666699"/>
              </a:solidFill>
              <a:latin typeface="Aardvark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7C6B-C697-49FD-9660-B1BE4DBCA031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1280" y="1413000"/>
            <a:ext cx="1692360" cy="1692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58560" y="1628280"/>
            <a:ext cx="69850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666699"/>
                </a:solidFill>
                <a:latin typeface="AardvarkBold"/>
              </a:rPr>
              <a:t>IN42A</a:t>
            </a:r>
            <a:br>
              <a:rPr sz="4000"/>
            </a:br>
            <a:r>
              <a:rPr b="1" i="1" lang="es-ES_tradnl" sz="3600" spc="-1" strike="noStrike">
                <a:solidFill>
                  <a:srgbClr val="666699"/>
                </a:solidFill>
                <a:latin typeface="AardvarkBold"/>
              </a:rPr>
              <a:t>Evaluación de Proyectos</a:t>
            </a:r>
            <a:endParaRPr b="1" i="1" lang="en-US" sz="3600" spc="-1" strike="noStrike">
              <a:solidFill>
                <a:srgbClr val="666699"/>
              </a:solidFill>
              <a:latin typeface="AardvarkBol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3160" y="1980720"/>
            <a:ext cx="830556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eparación y Evaluación de Proyectos.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3a. ed.,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apag Nassir y Reinaldo Sapag. Capítulo 1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Bibliografía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3944-12EB-4699-8405-E387DF9E0C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2500" spc="-1" strike="noStrike">
                <a:solidFill>
                  <a:srgbClr val="000000"/>
                </a:solidFill>
                <a:latin typeface="Arial"/>
              </a:rPr>
              <a:t>Un proyecto no es más ni menos que la búsqueda de una solución inteligente al planteamiento de un problema que tiende a resolver, entre tantas, una necesidad humana”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(Preparación y Evaluación de proyectos, Sapag y Sapag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Proyecto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D864-64A9-4513-BE3A-68F1336E51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17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_tradnl" sz="2600" spc="-1" strike="noStrike">
                <a:solidFill>
                  <a:srgbClr val="0000ff"/>
                </a:solidFill>
                <a:latin typeface="Arial"/>
              </a:rPr>
              <a:t>Es una idea de asignación de recursos que sigue un objetivo y que genera beneficios y costos, cualitativos y cuantitativos, tanto al realizador del proyecto como a terceros.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emplazo de una tecnología obsol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ntación y tala de un bosque de pi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nzar un nuevo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joramiento de una carret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Proyecto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9477-7F61-405B-8FF1-A1ABE18CB5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4000" y="609480"/>
            <a:ext cx="8591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l proyecto como un proceso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334120"/>
            <a:ext cx="1752840" cy="71892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Tahoma"/>
              </a:rPr>
              <a:t>Operac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5410080"/>
            <a:ext cx="581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66"/>
                </a:solidFill>
                <a:latin typeface="Tahoma"/>
              </a:rPr>
              <a:t>Se pone en marcha el proyecto y se concretan los beneficios netos que fueron estimados previamente.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2971800"/>
            <a:ext cx="1881000" cy="719280"/>
          </a:xfrm>
          <a:prstGeom prst="flowChartAlternateProcess">
            <a:avLst/>
          </a:prstGeom>
          <a:solidFill>
            <a:srgbClr val="ffcc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Preinvers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666880"/>
            <a:ext cx="5868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Se prepara y evalúa el proyecto de manera de obtener de él, el máximo excedente económico  a lo largo de su vida útil, realizando para esto estudios de mercado, técnicos, económicos, financieros y otros.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3657600"/>
            <a:ext cx="573120" cy="609480"/>
          </a:xfrm>
          <a:prstGeom prst="downArrow">
            <a:avLst>
              <a:gd name="adj1" fmla="val 50000"/>
              <a:gd name="adj2" fmla="val 26586"/>
            </a:avLst>
          </a:prstGeom>
          <a:solidFill>
            <a:srgbClr val="a50021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4191120"/>
            <a:ext cx="1752480" cy="71892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Tahoma"/>
              </a:rPr>
              <a:t>Invers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267080"/>
            <a:ext cx="5867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66"/>
                </a:solidFill>
                <a:latin typeface="Tahoma"/>
              </a:rPr>
              <a:t>Se diseña y se materializa físicamente la inversión requerida por el proyecto de acuerdo a lo especificado en la etapa anterior.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4800600"/>
            <a:ext cx="533520" cy="609480"/>
          </a:xfrm>
          <a:prstGeom prst="downArrow">
            <a:avLst>
              <a:gd name="adj1" fmla="val 50000"/>
              <a:gd name="adj2" fmla="val 28559"/>
            </a:avLst>
          </a:prstGeom>
          <a:solidFill>
            <a:srgbClr val="a50021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2438280"/>
            <a:ext cx="573120" cy="609840"/>
          </a:xfrm>
          <a:prstGeom prst="downArrow">
            <a:avLst>
              <a:gd name="adj1" fmla="val 50000"/>
              <a:gd name="adj2" fmla="val 26602"/>
            </a:avLst>
          </a:prstGeom>
          <a:solidFill>
            <a:srgbClr val="a50021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752480"/>
            <a:ext cx="175284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Tahoma"/>
              </a:rPr>
              <a:t>Idea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1676520"/>
            <a:ext cx="58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66"/>
                </a:solidFill>
                <a:latin typeface="Tahoma"/>
              </a:rPr>
              <a:t>Identificar problemas que puedan resolverse y oportunidades de negocio que puedan aprovecharse.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F539-AB92-4D10-AAF5-F8BAF530B9D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609480"/>
            <a:ext cx="7239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Ciclo de Vida de un Proyecto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1828800"/>
            <a:ext cx="175248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Idea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2819520"/>
            <a:ext cx="1752480" cy="71892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Perfil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3809880"/>
            <a:ext cx="175248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Prefactibilidad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4724280"/>
            <a:ext cx="175248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Factibilidad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4120" y="5715000"/>
            <a:ext cx="175248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Diseño y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ejecución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25146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54100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44956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350532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9436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0000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5562720"/>
            <a:ext cx="7391160" cy="0"/>
          </a:xfrm>
          <a:prstGeom prst="line">
            <a:avLst/>
          </a:prstGeom>
          <a:ln w="381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48520" y="2133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b2b2b2"/>
                </a:solidFill>
                <a:latin typeface="Arial Narrow"/>
              </a:rPr>
              <a:t>Plano de las ideas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56386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b2b2b2"/>
                </a:solidFill>
                <a:latin typeface="Arial Narrow"/>
              </a:rPr>
              <a:t>Plano de las acciones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2895480"/>
            <a:ext cx="381240" cy="2438640"/>
          </a:xfrm>
          <a:custGeom>
            <a:avLst/>
            <a:gdLst>
              <a:gd name="textAreaLeft" fmla="*/ 0 w 381240"/>
              <a:gd name="textAreaRight" fmla="*/ 137520 w 38124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91520" y="5734080"/>
            <a:ext cx="152388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Operación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29400" y="3886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Preinvers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5867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Invers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563868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7962480" y="5143680"/>
            <a:ext cx="304920" cy="990360"/>
          </a:xfrm>
          <a:custGeom>
            <a:avLst/>
            <a:gdLst>
              <a:gd name="textAreaLeft" fmla="*/ 194760 w 304920"/>
              <a:gd name="textAreaRight" fmla="*/ 305280 w 30492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411"/>
                </a:lnTo>
                <a:cubicBezTo>
                  <a:pt x="10800" y="9311"/>
                  <a:pt x="5400" y="10211"/>
                  <a:pt x="0" y="10211"/>
                </a:cubicBezTo>
                <a:cubicBezTo>
                  <a:pt x="5400" y="10211"/>
                  <a:pt x="10800" y="11111"/>
                  <a:pt x="10800" y="1201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15200" y="5105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Operac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71800" y="1676520"/>
            <a:ext cx="380880" cy="990360"/>
          </a:xfrm>
          <a:custGeom>
            <a:avLst/>
            <a:gdLst>
              <a:gd name="textAreaLeft" fmla="*/ 0 w 380880"/>
              <a:gd name="textAreaRight" fmla="*/ 137520 w 3808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29000" y="1905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Idea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5589-D9C6-45DC-9791-DD81B92DC12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95280" y="177300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8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da una de ellas busca reproducir el ciclo de vida del proyecto, de manera que a medida que se avanza en las etapas, los estudios van tomando mayor profundidad y se va reduciendo la incertidumbre, respecto a los beneficios netos esperados del mism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a secuencia iterativa tiene por justificación evitar los elevados costos de los estudios y poder desechar en las primeras etapas los proyectos que no son adecuad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da etapa se presenta en la forma de un informe, cuyo objetivo fundamental es presentar los elementos que intervienen orientados claramente a la toma de decisiones de abandonar o proseguir la ide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380880"/>
            <a:ext cx="76010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Ciclo de Vida de un Proyecto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285E-7844-43DC-9F9B-A3F532282C2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1657440" y="514440"/>
            <a:ext cx="0" cy="28764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333600"/>
            <a:ext cx="638172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638360" y="2666880"/>
            <a:ext cx="304704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124080" y="1771560"/>
            <a:ext cx="304776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743360" y="914400"/>
            <a:ext cx="304776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400800" y="57240"/>
            <a:ext cx="3047040" cy="159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304920"/>
            <a:ext cx="1581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Costos/ tiempo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981920" y="3581280"/>
            <a:ext cx="93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Tiempo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695600" y="3733560"/>
            <a:ext cx="0" cy="260964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14680" y="6362640"/>
            <a:ext cx="655308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3429000"/>
            <a:ext cx="201924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Grado de Incertidumbre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05000" y="1162080"/>
            <a:ext cx="0" cy="56959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1047600"/>
            <a:ext cx="38160" cy="58104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05400" y="762120"/>
            <a:ext cx="0" cy="60958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62000" y="2266920"/>
            <a:ext cx="1009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Idea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33600" y="1486080"/>
            <a:ext cx="99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Perfil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81520" y="628560"/>
            <a:ext cx="135252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Prefactibilidad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38920" y="781200"/>
            <a:ext cx="1790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Factibilidad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76520" y="4133880"/>
            <a:ext cx="6781680" cy="0"/>
          </a:xfrm>
          <a:prstGeom prst="line">
            <a:avLst/>
          </a:prstGeom>
          <a:ln w="9360">
            <a:solidFill>
              <a:srgbClr val="33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71640" y="4057560"/>
            <a:ext cx="66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imes New Roman"/>
              </a:rPr>
              <a:t>100%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28880" y="4971960"/>
            <a:ext cx="590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imes New Roman"/>
              </a:rPr>
              <a:t>50%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04840" y="6058080"/>
            <a:ext cx="590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imes New Roman"/>
              </a:rPr>
              <a:t>0%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5640" y="4133880"/>
            <a:ext cx="28180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14680" y="4686480"/>
            <a:ext cx="28188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8480" y="5295960"/>
            <a:ext cx="3237840" cy="110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95680" y="5867280"/>
            <a:ext cx="361944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77040" y="5581800"/>
            <a:ext cx="1638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Umbral de lo previsible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77320" y="6324480"/>
            <a:ext cx="93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Tiempo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8ED4-0FC7-47CB-A2F3-AE7CD1EE99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2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borda en forma explícita el problema de la asignación de recursos escasos en forma ópt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2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comienda al tomador de decisiones, a través de distintas metodologías, para determinar la conveniencia relativa de una acción o un proyecto, pero no es la única alternativa a consider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2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dentifica, mide y valoriza, cuantitativa y cualitativamente, los beneficios y costos para la(s) persona(s) o instituciones relev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838080"/>
            <a:ext cx="762012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valuación de Proyectos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ACA4-2B8C-4592-BEE2-8415F4D680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3640" y="1699920"/>
            <a:ext cx="80010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roceso iterativo, etapas de idea y preinvers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752480" y="2637000"/>
            <a:ext cx="5802480" cy="2542320"/>
            <a:chOff x="1752480" y="2637000"/>
            <a:chExt cx="5802480" cy="2542320"/>
          </a:xfrm>
        </p:grpSpPr>
        <p:grpSp>
          <p:nvGrpSpPr>
            <p:cNvPr id="180" name=""/>
            <p:cNvGrpSpPr/>
            <p:nvPr/>
          </p:nvGrpSpPr>
          <p:grpSpPr>
            <a:xfrm>
              <a:off x="1763640" y="2637000"/>
              <a:ext cx="5791320" cy="685080"/>
              <a:chOff x="1763640" y="2637000"/>
              <a:chExt cx="5791320" cy="685080"/>
            </a:xfrm>
          </p:grpSpPr>
          <p:sp>
            <p:nvSpPr>
              <p:cNvPr id="181" name=""/>
              <p:cNvSpPr/>
              <p:nvPr/>
            </p:nvSpPr>
            <p:spPr>
              <a:xfrm>
                <a:off x="1763640" y="2637000"/>
                <a:ext cx="5791320" cy="456840"/>
              </a:xfrm>
              <a:prstGeom prst="flowChartAlternateProcess">
                <a:avLst/>
              </a:prstGeom>
              <a:noFill/>
              <a:ln w="12600">
                <a:solidFill>
                  <a:srgbClr val="33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336666"/>
                    </a:solidFill>
                    <a:latin typeface="Tahoma"/>
                  </a:rPr>
                  <a:t>Generación y Análisis de la idea del proyecto</a:t>
                </a:r>
                <a:endParaRPr b="0" lang="en-US" sz="20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354560" y="3093840"/>
                <a:ext cx="380880" cy="22824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a50021"/>
              </a:solidFill>
              <a:ln w="12600">
                <a:solidFill>
                  <a:srgbClr val="33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1752480" y="3351240"/>
              <a:ext cx="5791320" cy="1828080"/>
              <a:chOff x="1752480" y="3351240"/>
              <a:chExt cx="5791320" cy="182808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1752480" y="3351240"/>
                <a:ext cx="5791320" cy="685080"/>
                <a:chOff x="1752480" y="3351240"/>
                <a:chExt cx="5791320" cy="6850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1752480" y="3351240"/>
                  <a:ext cx="5791320" cy="456840"/>
                </a:xfrm>
                <a:prstGeom prst="flowChartAlternateProcess">
                  <a:avLst/>
                </a:prstGeom>
                <a:noFill/>
                <a:ln w="12600">
                  <a:solidFill>
                    <a:srgbClr val="33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336666"/>
                      </a:solidFill>
                      <a:latin typeface="Tahoma"/>
                    </a:rPr>
                    <a:t>Estudio en el Nivel de Perfil</a:t>
                  </a:r>
                  <a:endParaRPr b="0" lang="en-US" sz="2000" spc="-1" strike="noStrike">
                    <a:solidFill>
                      <a:srgbClr val="336666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343400" y="3808080"/>
                  <a:ext cx="380880" cy="2282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a50021"/>
                </a:solidFill>
                <a:ln w="12600">
                  <a:solidFill>
                    <a:srgbClr val="33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66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" name=""/>
              <p:cNvSpPr/>
              <p:nvPr/>
            </p:nvSpPr>
            <p:spPr>
              <a:xfrm>
                <a:off x="1752480" y="4722480"/>
                <a:ext cx="5791320" cy="456840"/>
              </a:xfrm>
              <a:prstGeom prst="flowChartAlternateProcess">
                <a:avLst/>
              </a:prstGeom>
              <a:noFill/>
              <a:ln w="12600">
                <a:solidFill>
                  <a:srgbClr val="33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336666"/>
                    </a:solidFill>
                    <a:latin typeface="Tahoma"/>
                  </a:rPr>
                  <a:t>Estudio de Factibilidad</a:t>
                </a:r>
                <a:endParaRPr b="0" lang="en-US" sz="20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  <p:grpSp>
            <p:nvGrpSpPr>
              <p:cNvPr id="188" name=""/>
              <p:cNvGrpSpPr/>
              <p:nvPr/>
            </p:nvGrpSpPr>
            <p:grpSpPr>
              <a:xfrm>
                <a:off x="1752480" y="4036680"/>
                <a:ext cx="5791320" cy="685080"/>
                <a:chOff x="1752480" y="4036680"/>
                <a:chExt cx="5791320" cy="6850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1752480" y="4036680"/>
                  <a:ext cx="5791320" cy="456840"/>
                </a:xfrm>
                <a:prstGeom prst="flowChartAlternateProcess">
                  <a:avLst/>
                </a:prstGeom>
                <a:noFill/>
                <a:ln w="12600">
                  <a:solidFill>
                    <a:srgbClr val="33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336666"/>
                      </a:solidFill>
                      <a:latin typeface="Tahoma"/>
                    </a:rPr>
                    <a:t>Estudio de Prefactibilidad</a:t>
                  </a:r>
                  <a:endParaRPr b="0" lang="en-US" sz="2000" spc="-1" strike="noStrike">
                    <a:solidFill>
                      <a:srgbClr val="336666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93520"/>
                  <a:ext cx="380880" cy="2282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a50021"/>
                </a:solidFill>
                <a:ln w="12600">
                  <a:solidFill>
                    <a:srgbClr val="33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6666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91" name=""/>
          <p:cNvSpPr/>
          <p:nvPr/>
        </p:nvSpPr>
        <p:spPr>
          <a:xfrm>
            <a:off x="914400" y="974880"/>
            <a:ext cx="762012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tapas de la Evaluación de Proyectos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0516200">
            <a:off x="826200" y="2852640"/>
            <a:ext cx="505080" cy="2160720"/>
          </a:xfrm>
          <a:custGeom>
            <a:avLst/>
            <a:gdLst>
              <a:gd name="textAreaLeft" fmla="*/ 67680 w 505080"/>
              <a:gd name="textAreaRight" fmla="*/ 437400 w 505080"/>
              <a:gd name="textAreaTop" fmla="*/ 378000 h 2160720"/>
              <a:gd name="textAreaBottom" fmla="*/ 156672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C39F-D164-4405-AE31-88DB18E6EE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533520" y="19047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01480" indent="-501480">
              <a:lnSpc>
                <a:spcPct val="90000"/>
              </a:lnSpc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s fundamental contar con un buen diagnóstic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a idea debe surgir de necesidades insatisfechas, de objetivos y/o políticas generales de la organización, de un plan de desarrollo, et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 debe establecer su magnitud, a quienes afecta y la confiabilidad de la información utilizada. Así como también las alternativas disponibl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Del análisis surgirá la especificación precisa del bien que se desea construir o el servicio que se pretende dar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doptar la decisión de abandonar, postergar o profundizar la idea de proyec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0"/>
            <a:ext cx="76006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Generación y Análisis de la Idea de Proyecto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00C3-A5D9-45A8-B436-76CE3FD33C4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4920" y="1844280"/>
            <a:ext cx="8497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Al finalizar el curso los alumnos serán capaces d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000000"/>
                </a:solidFill>
                <a:latin typeface="Arial"/>
              </a:rPr>
              <a:t>Estimar beneficios y costos relevantes en un proyect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000000"/>
                </a:solidFill>
                <a:latin typeface="Arial"/>
              </a:rPr>
              <a:t>Formular, preparar y evaluar proyectos de inversión y nuevos negocios en el marco de una economía de mercado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000000"/>
                </a:solidFill>
                <a:latin typeface="Arial"/>
              </a:rPr>
              <a:t>Elaborar recomendaciones fundadas sobre los proyectos que evalúen, apoyando la toma de decisiones de inversió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Objetivo General del Curso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201E-A607-455E-B896-45622F2A7A8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914400" y="533520"/>
            <a:ext cx="760104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studio en el Nivel de Perfil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262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buscan los antecedentes que permiten establecer un juicio respecto de la conveniencia y factibilidad técnico-económica de la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idea de proyect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debe identificar los beneficios y costos pertinentes respecto de la situación base (situación actual optimizada), sin incurrir en mayores costos para medirlos y valorar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be incluir un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análisis prelimina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de los aspectos técnicos, estudios de mercado y los de evalu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utilizan estimaciones gruesas de los beneficios y costos, generalmente basadas en información existente, juicio común y experi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6699"/>
                </a:solidFill>
                <a:latin typeface="Arial"/>
              </a:rPr>
              <a:t>Se decide abandonar, postergar o profundizar el 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AD75-BC98-4C1B-96A1-05D09B4E981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289080"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 examinan con mayor detalle las alternativas viables desde el punto de vista técnico y económico que fueron determinadas en la etapa anterior, y se descartan las menos atractiv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l énfasis de esta etapa es medir los beneficios y costos identificados en la etapa de perfi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 basa en información de fuentes secundari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or lo anterior, conviene sensibilizar los resultados de la evaluación a cambios en las variables más important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666699"/>
                </a:solidFill>
                <a:latin typeface="Arial"/>
              </a:rPr>
              <a:t>Se decide realizar el proyecto, postergar o profundizar la evalua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14400" y="304920"/>
            <a:ext cx="760104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studio de Prefactibilidad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6490-922F-4CD1-84B4-FD88FB274C0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28600" y="17521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289080" algn="just">
              <a:lnSpc>
                <a:spcPct val="8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Se analizan en detalle los siguientes aspecto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estudio de mercad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s la base para estimar los ingresos, e incluirá un estudio de la oferta y demanda, así como de los precios de comercial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análisis tecnológic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ncluye equipos, materias primas y procesos, que permiten determinar los costos del proye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tamaño y localizació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l proyecto debe considerar el tamaño de planta, la identificación y localización de los centros de abastecimiento de insumos, canales de distribución y consum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análisis de los aspectos administrativ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ermite determinar algunas componentes de costo fijo y la organización de los recursos humanos, físicos y financie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análisis de los aspectos legal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ermite conocer las restricciones de ese tipo que limitan al proyecto (tributación, permisos, contaminación ambiental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0" algn="just">
              <a:lnSpc>
                <a:spcPct val="75000"/>
              </a:lnSpc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2400" y="330120"/>
            <a:ext cx="76006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studio de Prefactibilidad 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E023-F3FE-4F58-A753-A0E32A6115A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845820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enfoca a un análisis detallado y preciso de la alternativa que se ha considerado más viable en la etapa anter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énfasis está en medir y valorar en la forma más precisa posible sus beneficios y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ada la cantidad de recursos destinados a esta etapa, sólo llegarán a ella los proyectos para los que no hay duda de su rentabilidad positiva, es decir, que se van a llevar a cab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ello, toma más importancia los flujos financieros y la programación de ob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vez definido y caracterizado el proyecto, debe ser optimizado en tamaño, localización, momento óptimo de la inversió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03320" y="304920"/>
            <a:ext cx="76010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studio de Factibilidad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ED50-EBC0-4894-81D8-49BE31436C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04920" y="1712520"/>
            <a:ext cx="853416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 debe coordinar la organización, puesta en marcha y operación del proyecto. Determinar el calendario de desembolsos para la inversión, disponibilidad de equipos y sus plazos, anteproyecto de ingeniería, selección y entrenamiento del personal de administración, operación y manteni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uentes, condiciones y plazos de financia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sta etapa es la conclusión del proceso de aproximaciones sucesivas en la formulación y preparación de un proyecto y constituye la base de la decisión respecto a su ejecu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a evaluación no sólo es útil para la persona(s)/organización que es dueña del proyecto, sino que también a quienes la financian o a las autoridades pertinent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 algn="just">
              <a:lnSpc>
                <a:spcPct val="80000"/>
              </a:lnSpc>
              <a:spcAft>
                <a:spcPts val="13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74600" y="304920"/>
            <a:ext cx="76010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studio de Factibilidad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F4E2-C444-4975-B4F6-A23C4AB0764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116000" y="404640"/>
            <a:ext cx="76010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Tipos de Evaluación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762120" y="1828800"/>
            <a:ext cx="795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</a:rPr>
              <a:t>1. Según para quien se evalú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os proyectos afectan de diferente manera a los agentes involucrados, quienes tienen, por lo general, diferentes objetivos e intereses. Por ejempl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royecto de vertedero para las comunas del centro-sur de Santiag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version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unicipa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cinos de municipa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cinos del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í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2B52-83AA-4113-814B-184C9136C0B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838080" y="1828800"/>
            <a:ext cx="795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0000"/>
                </a:solidFill>
                <a:latin typeface="Arial"/>
              </a:rPr>
              <a:t>Evaluación Privad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: se realiza desde la perspectiva de un agente económico privado o individual (persona, empresa, grupo, etc.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edir la rentabilidad del proyecto, con independencia de quien provee los fon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edir la rentabilidad de los recursos propios invertidos (dueño del proyec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edir la capacidad del proyecto para enfrentar compromisos de pago de las deudas (bancos, acreedo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0000"/>
                </a:solidFill>
                <a:latin typeface="Arial"/>
              </a:rPr>
              <a:t>Evaluación Social: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e realiza desde la perspectiva del conjunto del país (sociedad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16000" y="404640"/>
            <a:ext cx="76010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Tipos de Evaluación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C965-FBE9-4335-9DA8-37FEA9F7DBA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</a:rPr>
              <a:t>2. Según el momento en que se realic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Ex Ante: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se realiza en el período de preinversión, entrega una recomendación sobre la conveniencia de realizar el proyec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Ex Post: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se realiza una vez ejecutado el proyecto, sirve para estimar los verdaderos beneficios del proyecto, encontrar las fuentes de error y generar aprendizaj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16000" y="404640"/>
            <a:ext cx="76010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Tipos de Evaluación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493C-2EB2-4A4B-97E2-5BBF422CF7E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</a:rPr>
              <a:t>3. Según la finalidad de la inversió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Proyectos que buscan crear nuevos negocios o empres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Proyectos que buscan evaluar un cambio, mejora o modernización en una empresa existen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6000" y="404640"/>
            <a:ext cx="76010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Tipos de Evaluación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02BE-33FE-4BBA-AF30-9774509FBF0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</a:rPr>
              <a:t>4. Según la forma de evaluar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6480" indent="-280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Tradicional o monocriterio: un solo objetivo, generalmente riqueza. Requiere que cada beneficio y costo sea identificado, medido y valor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6480" indent="-280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Multicriterio: tiene más de un objetivo, riqueza, distribución del ingreso, salud de los habitantes…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EJM: ¿cuánto vale el beneficio por menor pérdida de vidas humanas asociado a poner un semáforo en un cruce peligroso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- Valor de la Vida Humana?, infinito?, algunos valen más que otros?..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- semáforo: 5 millon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Multicriterio: accidentes disminuyen de 15 por año a 2 por año: 5 millones/13 vidas human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No sirve para ver conveniencia, sino para comparar alternativa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16000" y="404640"/>
            <a:ext cx="76010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Tipos de Evaluación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3DB2-936D-43AC-BC3E-EC4DBE2C900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847880"/>
            <a:ext cx="830592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Formulación de Proyecto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atemáticas Financier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laboración del Flujo de Caja Priv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Indicadores de Evaluación de Proyec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ptimización de Proyec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valuación de Proyectos bajo Incertidumb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valuación Social de Proyec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Contenidos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8E2F-56CD-4B48-A55F-F833A73042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34920" y="475920"/>
            <a:ext cx="70102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400" spc="-1" strike="noStrike">
                <a:solidFill>
                  <a:srgbClr val="666699"/>
                </a:solidFill>
                <a:latin typeface="Arial"/>
              </a:rPr>
              <a:t>Dos etapas en la Evaluación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794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ualquiera sea la profundidad con que se evalúe un proyecto, se distinguen dos etap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 u="sng">
                <a:solidFill>
                  <a:srgbClr val="000000"/>
                </a:solidFill>
                <a:uFillTx/>
                <a:latin typeface="Arial"/>
              </a:rPr>
              <a:t>Formulación y preparación: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Identificar los beneficios y costos del proyecto y calcular su magnitu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pilar (crear) información (estudios de mercado, técnico,  legal, organizacio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strucción del flujo de ca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 u="sng">
                <a:solidFill>
                  <a:srgbClr val="000000"/>
                </a:solidFill>
                <a:uFillTx/>
                <a:latin typeface="Arial"/>
              </a:rPr>
              <a:t>Evaluación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: a partir del flujo de caja, medir la rentabilidad de la inversión en el proyec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5EE7-C611-47CC-A822-BBB41946B38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5800" y="228600"/>
            <a:ext cx="76010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jemplo: Presentación de un proyecto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Resumen Ejecut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Diagnóst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Metodología de Evalu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Análisis de prefactibi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Evaluación económ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Resumen y conclus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Anex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3894-1CD3-4240-8BC4-301083F4DB83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04560" y="1828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) Antecedentes genera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Ámbito o sector productivo del 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bicación de la zona geográfica del estudio y sus características (culturales, económicas, políticas, etc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dentificación de segmentos producto -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racterísticas generales de los gestores del proyecto (aspectos organizacionales, marco legal, cultura organizativa, etc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tras informaciones  relevantes 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revistas con expertos en el 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copilación bibliográ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1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06C8-579C-4BDB-B22A-0C969239FCC8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04560" y="19047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Estudio de Mercado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Ofert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pecificación de los productos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ofertado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ferta histórica y sus factores de incid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líticas y métodos de tarificación y pre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ferta actual y proye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calización y concentración de la ofer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bertura geográf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stricciones de disponibilidad de recur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2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4C46-7852-474D-B2B9-F5B7A4FBB7E5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304560" y="1904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manda histórica y factores de incid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manda actual y proye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gmentación de la dema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calización de la dema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centración de la demanda (por áreas geográficas, por segmentos, por ingreso, etc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ipo de consumo (residencial, comercial, industri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lnSpc>
                <a:spcPct val="9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ste punto debe ser desarrollado con una visión más global y sistemática utilizando un enfoque de planificación estratégica. Este permite abordar el proyecto desde una perspectiva estratégica en lugar de una perspectiva táctica - operativ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3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B8A0-4C90-41DE-B8BE-0FCBC1EB08F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) Diagnóstic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ntecedentes generales + estudio de mercado  </a:t>
            </a:r>
            <a:r>
              <a:rPr b="0" lang="es-CL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definición de situación sin proyecto.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jemplos diagnóstico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: (1)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emanda insatisfech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; (2)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ala calidad de los servici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d) Optimización de la situación actu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os beneficios netos de se obtienen comparando la situación con proyecto con la sin proyecto optimizada (situación base), evitando que se asignen al proyecto beneficios que no  correspond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jemplo de optimizaciones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Rediseño de procesos y reingenierí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; (2)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ejoras en la gestión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; (3)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odificaciones que impliquen inversiones margin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4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8097-0259-4940-860B-DAB47D81A7D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e debe considerar como parte de la situación base aquellos proyectos sustitutos y/o complementarios sobre los que se haya decidido su ejecución, y que se estime razonablemente que serán implementados (también se les debe considerar en la situación con proyecto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e)  Generación de alternativas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s alternativas generadas deben 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ermitir solucionar y/o aprovechar las oportunidades identificadas en el diagnósti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 técnicamente facti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 económicamente facti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 fundamentalmente distintas entre s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 comparables en términos de result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5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40D6-1E0F-4D91-895C-B32B12F2B3C9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6840" y="2133720"/>
            <a:ext cx="8381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f) Selección (preselección) de alternativ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e deberá analizar la conveniencia de las distintas alternativas comparándolas entre sí de acuerdo a criterios técnicos y económic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ara la alternativa seleccionada se debe analizar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amaño óptimo del proye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calización ópti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omento óptimo para realizar el proye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ediseño (obras civiles, equipamiento, insum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6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91BE-CF91-4E81-9F68-9762957D3321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52280" y="17524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a) Estimación de beneficios y cos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 estimación de beneficios y costos es un proceso de tres pasos sucesivos: Identificación / Medición / Valor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epende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del agente que hace la estimació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iv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irectos, indirec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uantificables (valorables), no cuantific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o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irectos, indirec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uantificables, no cuantificab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xternali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80880"/>
            <a:ext cx="88390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valuación del Proyecto(1/3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89CB-B0DA-41BC-8B83-36BFF6C32F31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beneficios y costos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cuantificables deben ser estimados según algún numerario común (normalmente $ de hoy), los no cuantificables deben ser identificados y medidos en las unidades que resulte pertinen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jemplo : beneficio no (o menos) cuantificable de un proyecto de semaforización : disminución de acciden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b) Cálculo de indicador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Valor presente neto (VPN o VA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Tasa interna de retorno (TI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eríodo de recuperación del capital (PRC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380880"/>
            <a:ext cx="88390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valuación del Proyecto(2/3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C8B1-3754-486B-AAD0-FDDF6983BA15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Docente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 clases de cátedra semanales (asistencia y particip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se realizarán clases auxiliares; las aplicaciones se verán durante las clases de cáted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horario de clase auxiliar se realizarán los contr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Trabajo Persona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cturas y estudio clase a cl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ar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Actividades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F6C6-C973-4C18-9FCF-929FA4227D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) Financiamient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nálisis de las distintas alternativas, se deberá analizar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rcentajes de capital propio vs. Deud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olicitud de préstam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misión de bon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misión de a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80880"/>
            <a:ext cx="88390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valuación del Proyecto(3/3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78CE-BEE6-4E89-AE3D-855293289A10}" type="slidenum">
              <a:t>40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130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ota Control (40%): 2 controles y un exam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130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ota Tareas (30%): 3 tareas durante el semest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130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ota Controles de Lectura (30%): se realizarán 7 controles de lectura cortos y se elimina una no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IMPORTANTE: CADA NOTA DEBE SER MAYOR O AL MENOS IGUAL A 4.0 PARA APROB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valuación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34B9-F53E-4506-A836-5EB9431589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225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Nota Control ≥ 5,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225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Nota Tareas ≥ 5,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225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Nota Controles de Lectura ≥ 5,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ximición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A22D-4D06-45C0-A6AA-96851C80B7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55560" y="1626840"/>
            <a:ext cx="5770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666699"/>
                </a:solidFill>
                <a:latin typeface="AardvarkBold"/>
              </a:rPr>
              <a:t>I. Formulación de Proyectos</a:t>
            </a:r>
            <a:endParaRPr b="1" i="1" lang="en-US" sz="4400" spc="-1" strike="noStrike">
              <a:solidFill>
                <a:srgbClr val="666699"/>
              </a:solidFill>
              <a:latin typeface="AardvarkBol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3160" y="1980720"/>
            <a:ext cx="830556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prender a identificar y definir proyectos,  organizando secuencialmente el proceso de evaluación de un proyecto de invers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Objetivo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E887-CE62-4A9F-A6EE-AC0FEF0354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3160" y="1980720"/>
            <a:ext cx="830556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Concepto de Proyecto, contexto de mercad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La formulación y evaluación de proyectos: ciclo de vida de un proyecto, niveles de evaluación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Tipos de evaluació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Tipos de proyect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Presentación de proyect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Contenidos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DE73-6EDC-449B-8A0B-A761F69170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wbaeza</cp:lastModifiedBy>
  <cp:lastPrinted>2002-11-13T13:47:55Z</cp:lastPrinted>
  <dcterms:modified xsi:type="dcterms:W3CDTF">2007-07-23T17:31:57Z</dcterms:modified>
  <cp:revision>343</cp:revision>
  <dc:subject/>
  <dc:title>Formulación de Proyectos</dc:title>
</cp:coreProperties>
</file>