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B01-729E-4BC7-A8F2-D4555B08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FB3-02F4-41FE-8541-236F09D7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9D1-6686-4AEA-AF38-BAA70C3D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9D4-FA27-45B6-9CC2-B33C6F25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B88D-2CA0-4DFA-BBDE-BF4C1619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71A7-5C5D-4BD9-9DED-93CB7F5D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6A59-2F97-453E-A912-F0623F7C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1F75-66DA-4A58-BC77-89D5B4D1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22D0-2FF1-4F9C-8666-4141D322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1512-85AE-4E76-AA9B-39E0B13D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D7BD-9905-4F8C-B5BD-8AE82143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6DF-D912-4A2A-B3D2-99C6E9CB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88A9-04BD-4CA4-9B80-50191845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A056-D22D-40BC-8816-65979002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4E08-1C82-423A-B819-18D05216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7291-DFEA-4DDF-987D-DEFA03D8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A8ED-1B73-4F90-9688-3E8AEBF6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2886-558E-4BB2-8E21-591981FF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B9A-F019-405D-8CF6-CAF35361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F81-30A1-4942-A634-A514D1F7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93E-C4D6-4D70-8CDE-92E65E4A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52F6-509B-4F44-96E7-59813204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33D-2F8B-421A-A3CC-51712266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0D5-EC05-49FD-BF81-08B11FFE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CC1C-CC89-4E5F-8ACD-B25DDE60D393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98720" cy="1098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6699"/>
                </a:solidFill>
                <a:latin typeface="Arial Black"/>
              </a:rPr>
              <a:t>IN42A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195640" y="1557360"/>
            <a:ext cx="6553080" cy="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AardvarkBold"/>
              </a:rPr>
              <a:t>Click to edit the title text format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A276-0D6A-4841-B534-3A07F3186CCF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80" y="1413000"/>
            <a:ext cx="1692360" cy="1692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8560" y="1628280"/>
            <a:ext cx="6985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666699"/>
                </a:solidFill>
                <a:latin typeface="AardvarkBold"/>
              </a:rPr>
              <a:t>IN42A</a:t>
            </a:r>
            <a:br>
              <a:rPr sz="4000"/>
            </a:br>
            <a:r>
              <a:rPr b="1" i="1" lang="es-ES_tradnl" sz="3600" spc="-1" strike="noStrike">
                <a:solidFill>
                  <a:srgbClr val="666699"/>
                </a:solidFill>
                <a:latin typeface="AardvarkBold"/>
              </a:rPr>
              <a:t>Evaluación de Proyectos</a:t>
            </a:r>
            <a:endParaRPr b="1" i="1" lang="en-US" sz="36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eparación y Evaluación de Proyectos.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a. ed.,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apag Nassir y Reinaldo Sapag. Capítulo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Bibliografía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C87-8090-47E3-8225-E3040E3D9E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(Preparación y Evaluación de proyectos, Sapag y Sapa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6069-9A2A-44D8-B049-4D839E67E6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17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_tradnl" sz="2600" spc="-1" strike="noStrike">
                <a:solidFill>
                  <a:srgbClr val="0000ff"/>
                </a:solidFill>
                <a:latin typeface="Arial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mplazo de una tecnología obso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tación y tala de un bosque de p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nzar un nuevo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amiento de una carre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8DD-88BE-491F-BE0E-3379206C0C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609480"/>
            <a:ext cx="8591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l proyecto como un proces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34120"/>
            <a:ext cx="175284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971800"/>
            <a:ext cx="188100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66688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65760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1911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26708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800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438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7524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67652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ACC7-F49D-43B6-B015-DB8B7AD57AC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6094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8288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8195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8098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7242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571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514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5410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5562720"/>
            <a:ext cx="739116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638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95480"/>
            <a:ext cx="381240" cy="2438640"/>
          </a:xfrm>
          <a:custGeom>
            <a:avLst/>
            <a:gdLst>
              <a:gd name="textAreaLeft" fmla="*/ 0 w 381240"/>
              <a:gd name="textAreaRight" fmla="*/ 137520 w 38124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5734080"/>
            <a:ext cx="15238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7962480" y="5143680"/>
            <a:ext cx="304920" cy="990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11"/>
                </a:lnTo>
                <a:cubicBezTo>
                  <a:pt x="10800" y="9311"/>
                  <a:pt x="5400" y="10211"/>
                  <a:pt x="0" y="10211"/>
                </a:cubicBezTo>
                <a:cubicBezTo>
                  <a:pt x="5400" y="10211"/>
                  <a:pt x="10800" y="11111"/>
                  <a:pt x="10800" y="1201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1676520"/>
            <a:ext cx="380880" cy="990360"/>
          </a:xfrm>
          <a:custGeom>
            <a:avLst/>
            <a:gdLst>
              <a:gd name="textAreaLeft" fmla="*/ 0 w 380880"/>
              <a:gd name="textAreaRight" fmla="*/ 13752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6001-DB35-4072-9C1A-B6A4A7E894B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80880"/>
            <a:ext cx="76010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BFA-2410-4137-AAFE-24CCE77548D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38360" y="2666880"/>
            <a:ext cx="304704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743360" y="91440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400800" y="57240"/>
            <a:ext cx="304704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215-701D-4BC4-B8E6-DE8867A75D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orda en forma explícita el problema de la asignación de recursos escasos en forma ópt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, mide y valoriza, cuantitativa y cualitativamente, los beneficios y costos para la(s)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838080"/>
            <a:ext cx="76201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9D1-EE7E-45B1-996C-AA8D4809A2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ceso iterativo, etapas de idea y preinver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52480" y="2637000"/>
            <a:ext cx="5802480" cy="2542320"/>
            <a:chOff x="1752480" y="2637000"/>
            <a:chExt cx="5802480" cy="2542320"/>
          </a:xfrm>
        </p:grpSpPr>
        <p:grpSp>
          <p:nvGrpSpPr>
            <p:cNvPr id="180" name=""/>
            <p:cNvGrpSpPr/>
            <p:nvPr/>
          </p:nvGrpSpPr>
          <p:grpSpPr>
            <a:xfrm>
              <a:off x="1763640" y="2637000"/>
              <a:ext cx="5791320" cy="685080"/>
              <a:chOff x="1763640" y="2637000"/>
              <a:chExt cx="5791320" cy="685080"/>
            </a:xfrm>
          </p:grpSpPr>
          <p:sp>
            <p:nvSpPr>
              <p:cNvPr id="181" name=""/>
              <p:cNvSpPr/>
              <p:nvPr/>
            </p:nvSpPr>
            <p:spPr>
              <a:xfrm>
                <a:off x="1763640" y="263700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Generación y Análisis de la idea del proyecto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54560" y="3093840"/>
                <a:ext cx="380880" cy="228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50021"/>
              </a:solidFill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752480" y="3351240"/>
              <a:ext cx="5791320" cy="1828080"/>
              <a:chOff x="1752480" y="3351240"/>
              <a:chExt cx="5791320" cy="18280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752480" y="3351240"/>
                <a:ext cx="5791320" cy="685080"/>
                <a:chOff x="1752480" y="3351240"/>
                <a:chExt cx="5791320" cy="685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52480" y="335124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en el Nivel de Perfil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43400" y="380808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1752480" y="472248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Estudio de Factibilidad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752480" y="4036680"/>
                <a:ext cx="5791320" cy="685080"/>
                <a:chOff x="1752480" y="4036680"/>
                <a:chExt cx="5791320" cy="685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752480" y="403668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de Prefactibilidad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9352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1" name=""/>
          <p:cNvSpPr/>
          <p:nvPr/>
        </p:nvSpPr>
        <p:spPr>
          <a:xfrm>
            <a:off x="914400" y="974880"/>
            <a:ext cx="7620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tapas de la 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0516200">
            <a:off x="826200" y="2852640"/>
            <a:ext cx="505080" cy="2160720"/>
          </a:xfrm>
          <a:custGeom>
            <a:avLst/>
            <a:gdLst>
              <a:gd name="textAreaLeft" fmla="*/ 67680 w 505080"/>
              <a:gd name="textAreaRight" fmla="*/ 437400 w 50508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2F7-B115-4395-AA38-21565E245BF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 fundamental contar con un buen diagnóst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idea debe surgir de necesidades insatisfechas, de objetivos y/o políticas generales de la organización, de un plan de desarrollo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establecer su magnitud, a quienes afecta y la confiabilidad de la información utilizada. Así como también las alternativas disponib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l análisis surgirá la especificación precisa del bien que se desea construir o el servicio que se pretende d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doptar la decisión de abandonar, postergar o profundizar la idea de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0"/>
            <a:ext cx="76006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Generación y Análisis de la Idea de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CC4-0CE5-4541-B8FB-68761002969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l finalizar el curso los alumnos serán capaces d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stimar beneficios y costos relevantes en un proyec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 General del Curs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383-AAC1-461A-BA67-E67A288C610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14400" y="533520"/>
            <a:ext cx="76010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en el Nivel de Perfil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62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buscan los antecedentes que permiten establecer un juicio respecto de la conveniencia y factibilidad técnico-económica de la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idea de proyec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 incluir u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análisis prelimin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utilizan estimaciones gruesas de los beneficios y costos, generalmente basadas en información existente, juicio común y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6699"/>
                </a:solidFill>
                <a:latin typeface="Arial"/>
              </a:rPr>
              <a:t>Se decide abandonar, postergar o profundizar 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75B4-CE17-40F5-8D05-912545E477C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 énfasis de esta etapa es medir los beneficios y costos identificados en la etapa de perfi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basa en información de fuentes secundari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r lo anterior, conviene sensibilizar los resultados de la evaluación a cambios en las variables más importa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666699"/>
                </a:solidFill>
                <a:latin typeface="Arial"/>
              </a:rPr>
              <a:t>Se decide realizar el proyecto, postergar o profundizar la evalu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04920"/>
            <a:ext cx="76010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E856-AE30-4500-89BE-B9BF96490B7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analizan en detalle los siguientes aspec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studio de merc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la base para estimar los ingresos, e incluirá un estudio de la oferta y demanda, así como de los precios de comerci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tecnológ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cluye equipos, materias primas y procesos, que permiten determinar los costos d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tamaño y localiz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administrativ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determinar algunas componentes de costo fijo y la organización de los recursos humanos, físicos y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leg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conocer las restricciones de ese tipo que limitan al proyecto (tributación, permisos, contaminación ambienta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 algn="just">
              <a:lnSpc>
                <a:spcPct val="75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2400" y="330120"/>
            <a:ext cx="76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 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B6C2-CE4A-44A8-A536-476228B541C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0332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49F-61CC-465C-A630-B1FDCFFDC3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712520"/>
            <a:ext cx="853416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uentes, condiciones y plazos de financia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460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301-F09C-41E8-97F8-A0DEB63BC8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1. Según para quien se evalú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os proyectos afectan de diferente manera a los agentes involucrados, quienes tienen, por lo general, diferentes objetivos e intereses. Por ejempl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yecto de vertedero para las comunas del centro-sur de Santiag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on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 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D2C-78DA-4016-80F4-B7A93AB1054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Privad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se realiza desde la perspectiva de un agente económico privado o individual (persona, empresa, grupo, etc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l proyecto, con independencia de quien provee los fo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 los recursos propios invertidos (dueño del proyec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capacidad del proyecto para enfrentar compromisos de pago de las deudas (bancos, acree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Social: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realiza desde la perspectiva del conjunto del país (sociedad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93A-0DFD-4EC2-A8C3-8687DE71346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2. Según el momento en que se reali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Ante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en el período de preinversión, entrega una recomendación sobre la conveniencia de realizar el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Post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una vez ejecutado el proyecto, sirve para estimar los verdaderos beneficios del proyecto, encontrar las fuentes de error y generar aprendiza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ACF-2934-471B-993D-14D33E81D15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3. Según la finalidad de la invers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crear nuevos negocios o empres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evaluar un cambio, mejora o modernización en una empresa exis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349E-99C9-4D8D-9B1B-5B7547601CE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4. Según la forma de evalu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Tradicional o monocriterio: un solo objetivo, generalmente riqueza. Requiere que cada beneficio y costo sea identificado, medido y valo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criterio: tiene más de un objetivo, riqueza, distribución del ingreso, salud de los habitantes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semáforo: 5 mill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No sirve para ver conveniencia, sino para comparar alternativ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D074-BC36-47C0-A460-4AFA9C8E4FF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84788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ormulación de Proyect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aboración del Flujo de Caja Priv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ndicadores de Evalu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ptimiz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de Proyectos bajo Incertidu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Social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B8B-7228-4BBB-B96C-B4D5CF9C38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70102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400" spc="-1" strike="noStrike">
                <a:solidFill>
                  <a:srgbClr val="666699"/>
                </a:solidFill>
                <a:latin typeface="Arial"/>
              </a:rPr>
              <a:t>Dos etapas en la 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ualquiera sea la profundidad con que se evalúe un proyecto, se distinguen dos etap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Formulación y preparación: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Identificar los beneficios y costos del proyecto y calcular su magnitu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pilar (crear) información (estudios de mercado, técnico,  legal, organiza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ucción del flujo de c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: a partir del flujo de caja, medir la rentabilidad de la inversión en el proyec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2F3-C8DF-4994-AC48-334978258FE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22860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jemplo: Presentación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Ejecu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Metodología de Evalu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álisis de prefacti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valuación económ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E29-8F9D-4775-A334-660FBC4DE43A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) Antecedentes gener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Ámbito o sector productivo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bicación de la zona geográfica del estudio y sus características (culturales, económicas, política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generales de los gestores del proyecto (aspectos organizacionales, marco legal, cultura organizativa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vistas con expertos en el 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pilación bibliográ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1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2DC6-9809-43B1-ACFB-3097F1217F3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studio de Mercad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fert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pecificación de los producto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ofert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histórica y sus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s y métodos de tarificación y pre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y concentración de la ofer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bertura geográ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tricciones de disponibilidad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2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1EE-4FA5-4CCA-B3BD-23CBAE735E3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histórica y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gment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centración de la demanda (por áreas geográficas, por segmentos, por ingreso, etc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po de consumo (residencial, comercial, industr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3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895-F09E-4B62-8941-82E7577113E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Diagnóst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tecedentes generales + estudio de mercado  </a:t>
            </a:r>
            <a:r>
              <a:rPr b="0" lang="es-C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finición de situación sin proyecto.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iagnóstico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 insatisfech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la calidad de los servic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) Optimización de la situación actu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 de optimizaciones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diseño de procesos y reingenierí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joras en la gestión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3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odificaciones que impliquen inversiones margin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4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8FE-2C1F-4CBB-9248-386322F2579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)  Generación de alternativas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s alternativas generadas deben 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técn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económ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fundamentalmente distintas entre s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comparables en términos de resul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5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6A8-52E1-4C0C-97BD-EAE353B1571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) Selección (preselección) de alternativ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a la alternativa seleccionada se debe analiz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año óptimo d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óp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mento óptimo para realizar 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diseño (obras civiles, equipamiento, insum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6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003-D240-4E3B-95CB-9DE4BFFA9DF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) Estimación de beneficios y cos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pende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l agente que hace la estim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v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 (valorables), no cuantific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, no cuantifi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1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A91-086C-40A0-8902-0180E5D8773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beneficios y costos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jemplo : beneficio no (o menos) cuantificable de un proyecto de semaforización : disminución de accid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b) Cálculo de indicado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Valor presente neto (VPN o VA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asa interna de retorno (TI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eríodo de recuperación del capital (PR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2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E17-ADBF-4A37-A6AE-8B97DC62AB3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Docente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clases de cátedra semanales (asistencia y particip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realizarán clases auxiliares; las aplicaciones se verán durante las clases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horario de clase auxiliar se realizarán los cont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Trabajo Person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y estudio clase 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Actividade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F254-5E86-4FC2-95C1-279B02362C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Financiami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centajes de capital propio vs. Deu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licitud de prést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b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3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A19-640F-4783-9CFD-1F45E15DB143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 (40%): 2 controles y un exam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Tareas (30%): 3 tareas durante el semest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es de Lectura (30%): se realizarán 7 controles de lectura cortos y se elimina una no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2EA3-BCA9-4550-81B8-B82AEE7121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 ≥ 5,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Tareas ≥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es de Lectura ≥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ximi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FC09-2E7E-4925-8E2A-D93820AD87C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55560" y="1626840"/>
            <a:ext cx="5770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666699"/>
                </a:solidFill>
                <a:latin typeface="AardvarkBold"/>
              </a:rPr>
              <a:t>I. Formulación de Proyectos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render a identificar y definir proyectos,  organizando secuencialmente el proceso de evaluación de un proyecto de inver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92A-273A-44F8-831E-798DD3FCB3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ncepto de Proyecto, contexto de merc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a formulación y evaluación de proyectos: ciclo de vida de un proyecto, niveles de evaluació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evaluació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resentación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9E1-4798-4AE8-9A99-5B3AACA89F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wbaeza</cp:lastModifiedBy>
  <cp:lastPrinted>2002-11-13T13:47:55Z</cp:lastPrinted>
  <dcterms:modified xsi:type="dcterms:W3CDTF">2007-07-23T17:31:57Z</dcterms:modified>
  <cp:revision>343</cp:revision>
  <dc:subject/>
  <dc:title>Formulación de Proyectos</dc:title>
</cp:coreProperties>
</file>