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1D7-0484-47A7-AF8B-76D2B934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75C-FD60-489D-B1EB-86493196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984-ABF0-4D61-BE5F-1F0FB40E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18AE-D462-4435-AC76-D0A96560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A684-0960-4CDC-9468-E40296BE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2A9D-4E00-4790-9F4E-548999A9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355D-8C16-4AFD-B949-E6665632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BCFD-556A-4413-8194-BCBBB4EB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00598-D72C-4A62-AC23-0CB992E7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280A-B15C-4F89-96B2-4F4FEC54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9989-FB82-4727-9FBE-3406ADA3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D17-8AC3-4AC0-B6AF-EB96BD56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0AFC-CF09-4CD2-BAE1-8B2ED565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A16F-8F2B-4038-91E7-F720F80C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F877-3FA1-4FDB-A1D0-E89171D7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75707-B75E-4CCB-BEA1-5DFD3F46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9AC5-A7EB-47F9-8598-7C72A84F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BC40-3D4E-48EE-8851-50360823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665-D450-4E8A-B920-B9A7F7F6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910-BEC5-4CC1-99CF-D5CEC879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566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7C1-BB73-426B-ADB5-49347172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863-F62E-4D11-8C66-3A0001A6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ED3-32AF-4574-9E4F-B5A8F889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BA9-FC46-47A1-BD56-7832DF87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i="1" lang="en-US" sz="3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7980-8B70-447A-830F-9D974E766163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1098720" cy="1098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5092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666699"/>
                </a:solidFill>
                <a:latin typeface="Arial Black"/>
              </a:rPr>
              <a:t>IN42A</a:t>
            </a:r>
            <a:endParaRPr b="0" lang="en-US" sz="18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195640" y="1557360"/>
            <a:ext cx="6553080" cy="0"/>
          </a:xfrm>
          <a:prstGeom prst="line">
            <a:avLst/>
          </a:prstGeom>
          <a:ln w="38160">
            <a:solidFill>
              <a:srgbClr val="6666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6699"/>
                </a:solidFill>
                <a:latin typeface="AardvarkBold"/>
              </a:rPr>
              <a:t>Click to edit the title text format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1743C-37AD-4570-9151-E6526CB76146}" type="slidenum">
              <a:rPr b="0" lang="es-ES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1280" y="1413000"/>
            <a:ext cx="1692360" cy="169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8560" y="1628280"/>
            <a:ext cx="6985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666699"/>
                </a:solidFill>
                <a:latin typeface="AardvarkBold"/>
              </a:rPr>
              <a:t>IN42A</a:t>
            </a:r>
            <a:br>
              <a:rPr sz="4000"/>
            </a:br>
            <a:r>
              <a:rPr b="1" i="1" lang="es-ES_tradnl" sz="3600" spc="-1" strike="noStrike">
                <a:solidFill>
                  <a:srgbClr val="666699"/>
                </a:solidFill>
                <a:latin typeface="AardvarkBold"/>
              </a:rPr>
              <a:t>Evaluación de Proyectos</a:t>
            </a:r>
            <a:endParaRPr b="1" i="1" lang="en-US" sz="36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eparación y Evaluación de Proyectos.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a. ed.,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apag Nassir y Reinaldo Sapag. Capítulo 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Bibliografía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54A-2A5D-478B-92CE-EC5FE4E7138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2500" spc="-1" strike="noStrike">
                <a:solidFill>
                  <a:srgbClr val="000000"/>
                </a:solidFill>
                <a:latin typeface="Arial"/>
              </a:rPr>
              <a:t>Un proyecto no es más ni menos que la búsqueda de una solución inteligente al planteamiento de un problema que tiende a resolver, entre tantas, una necesidad humana”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(Preparación y Evaluación de proyectos, Sapag y Sapag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FF33-E795-4BF6-A59D-FE4ACBB933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17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_tradnl" sz="2600" spc="-1" strike="noStrike">
                <a:solidFill>
                  <a:srgbClr val="0000ff"/>
                </a:solidFill>
                <a:latin typeface="Arial"/>
              </a:rPr>
              <a:t>Es una idea de asignación de recursos que sigue un objetivo y que genera beneficios y costos, cualitativos y cuantitativos, tanto al realizador del proyecto como a terceros.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emplazo de una tecnología obsol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lantación y tala de un bosque de p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nzar un nuevo 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joramiento de una carret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Proyect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0B02-F318-4875-ACE4-6E14BD2E13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24000" y="609480"/>
            <a:ext cx="8591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l proyecto como un proces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34120"/>
            <a:ext cx="175284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410080"/>
            <a:ext cx="581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pone en marcha el proyecto y se concretan los beneficios netos que fueron estimados previament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971800"/>
            <a:ext cx="1881000" cy="719280"/>
          </a:xfrm>
          <a:prstGeom prst="flowChartAlternateProcess">
            <a:avLst/>
          </a:prstGeom>
          <a:solidFill>
            <a:srgbClr val="ffcc00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ahoma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666880"/>
            <a:ext cx="5868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ahoma"/>
              </a:rPr>
              <a:t>Se prepara y evalúa el proyecto de manera de obtener de él, el máximo excedente económico  a lo largo de su vida útil, realizando para esto estudios de mercado, técnicos, económicos, financieros y otros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657600"/>
            <a:ext cx="573120" cy="609480"/>
          </a:xfrm>
          <a:prstGeom prst="downArrow">
            <a:avLst>
              <a:gd name="adj1" fmla="val 50000"/>
              <a:gd name="adj2" fmla="val 26586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1911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267080"/>
            <a:ext cx="586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Se diseña y se materializa físicamente la inversión requerida por el proyecto de acuerdo a lo especificado en la etapa anterior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4800600"/>
            <a:ext cx="533520" cy="609480"/>
          </a:xfrm>
          <a:prstGeom prst="downArrow">
            <a:avLst>
              <a:gd name="adj1" fmla="val 50000"/>
              <a:gd name="adj2" fmla="val 28559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2438280"/>
            <a:ext cx="573120" cy="609840"/>
          </a:xfrm>
          <a:prstGeom prst="downArrow">
            <a:avLst>
              <a:gd name="adj1" fmla="val 50000"/>
              <a:gd name="adj2" fmla="val 26602"/>
            </a:avLst>
          </a:prstGeom>
          <a:solidFill>
            <a:srgbClr val="a50021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752480"/>
            <a:ext cx="175284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67652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6666"/>
                </a:solidFill>
                <a:latin typeface="Tahoma"/>
              </a:rPr>
              <a:t>Identificar problemas que puedan resolverse y oportunidades de negocio que puedan aprovecharse.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407-E83C-4A6E-AA9D-EF8F692D572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1430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6094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8288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2819520"/>
            <a:ext cx="1752480" cy="71892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38098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19720" y="472428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4120" y="5715000"/>
            <a:ext cx="17524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Diseño y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ejecu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25146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5410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4495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505320"/>
            <a:ext cx="30492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943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0000"/>
          </a:solidFill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47920" y="5562720"/>
            <a:ext cx="7391160" cy="0"/>
          </a:xfrm>
          <a:prstGeom prst="line">
            <a:avLst/>
          </a:prstGeom>
          <a:ln w="381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48520" y="2133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idea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6386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b2b2b2"/>
                </a:solidFill>
                <a:latin typeface="Arial Narrow"/>
              </a:rPr>
              <a:t>Plano de las acciones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95480"/>
            <a:ext cx="381240" cy="2438640"/>
          </a:xfrm>
          <a:custGeom>
            <a:avLst/>
            <a:gdLst>
              <a:gd name="textAreaLeft" fmla="*/ 0 w 381240"/>
              <a:gd name="textAreaRight" fmla="*/ 137520 w 381240"/>
              <a:gd name="textAreaTop" fmla="*/ 63360 h 2438640"/>
              <a:gd name="textAreaBottom" fmla="*/ 2375280 h 2438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91520" y="5734080"/>
            <a:ext cx="1523880" cy="719280"/>
          </a:xfrm>
          <a:prstGeom prst="flowChartAlternateProcess">
            <a:avLst/>
          </a:prstGeom>
          <a:noFill/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6666"/>
                </a:solidFill>
                <a:latin typeface="Tahoma"/>
              </a:rPr>
              <a:t>Operación</a:t>
            </a: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29400" y="3886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Pre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nvers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5638680"/>
            <a:ext cx="76320" cy="762120"/>
          </a:xfrm>
          <a:custGeom>
            <a:avLst/>
            <a:gdLst>
              <a:gd name="textAreaLeft" fmla="*/ 48960 w 76320"/>
              <a:gd name="textAreaRight" fmla="*/ 76320 w 7632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7962480" y="5143680"/>
            <a:ext cx="304920" cy="990360"/>
          </a:xfrm>
          <a:custGeom>
            <a:avLst/>
            <a:gdLst>
              <a:gd name="textAreaLeft" fmla="*/ 194760 w 304920"/>
              <a:gd name="textAreaRight" fmla="*/ 305280 w 3049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411"/>
                </a:lnTo>
                <a:cubicBezTo>
                  <a:pt x="10800" y="9311"/>
                  <a:pt x="5400" y="10211"/>
                  <a:pt x="0" y="10211"/>
                </a:cubicBezTo>
                <a:cubicBezTo>
                  <a:pt x="5400" y="10211"/>
                  <a:pt x="10800" y="11111"/>
                  <a:pt x="10800" y="1201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5105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Operación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71800" y="1676520"/>
            <a:ext cx="380880" cy="990360"/>
          </a:xfrm>
          <a:custGeom>
            <a:avLst/>
            <a:gdLst>
              <a:gd name="textAreaLeft" fmla="*/ 0 w 380880"/>
              <a:gd name="textAreaRight" fmla="*/ 137520 w 38088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1905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8000"/>
                </a:solidFill>
                <a:latin typeface="Arial Narrow"/>
              </a:rPr>
              <a:t>Idea</a:t>
            </a:r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B57-BBBE-471C-B3D6-1EBD12470A5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95280" y="177300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una de ellas busca reproducir el ciclo de vida del proyecto, de manera que a medida que se avanza en las etapas, los estudios van tomando mayor profundidad y se va reduciendo la incertidumbre, respecto a los beneficios netos esperados del mism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secuencia iterativa tiene por justificación evitar los elevados costos de los estudios y poder desechar en las primeras etapas los proyectos que no son adecua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da etapa se presenta en la forma de un informe, cuyo objetivo fundamental es presentar los elementos que intervienen orientados claramente a la toma de decisiones de abandonar o proseguir la ide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380880"/>
            <a:ext cx="76010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iclo de Vida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AFE-A4FD-465D-BB5C-A7FB7ECA96B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1657440" y="514440"/>
            <a:ext cx="0" cy="287640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76520" y="3333600"/>
            <a:ext cx="638172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638360" y="2666880"/>
            <a:ext cx="304704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124080" y="177156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743360" y="914400"/>
            <a:ext cx="3047760" cy="160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6400800" y="57240"/>
            <a:ext cx="3047040" cy="159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920" y="304920"/>
            <a:ext cx="15811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Costos/ 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981920" y="35812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695600" y="3733560"/>
            <a:ext cx="0" cy="260964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14680" y="6362640"/>
            <a:ext cx="6553080" cy="0"/>
          </a:xfrm>
          <a:prstGeom prst="line">
            <a:avLst/>
          </a:prstGeom>
          <a:ln w="93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429000"/>
            <a:ext cx="201924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Grado de Incertidumbr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05000" y="1162080"/>
            <a:ext cx="0" cy="569592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1047600"/>
            <a:ext cx="38160" cy="581040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05400" y="762120"/>
            <a:ext cx="0" cy="6095880"/>
          </a:xfrm>
          <a:prstGeom prst="line">
            <a:avLst/>
          </a:prstGeom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62000" y="2266920"/>
            <a:ext cx="1009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Idea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0" y="1486080"/>
            <a:ext cx="99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erfil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81520" y="628560"/>
            <a:ext cx="135252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Pre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38920" y="781200"/>
            <a:ext cx="1790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Factibilidad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520" y="4133880"/>
            <a:ext cx="6781680" cy="0"/>
          </a:xfrm>
          <a:prstGeom prst="line">
            <a:avLst/>
          </a:prstGeom>
          <a:ln w="9360">
            <a:solidFill>
              <a:srgbClr val="3366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4057560"/>
            <a:ext cx="66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10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28880" y="4971960"/>
            <a:ext cx="590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5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4840" y="6058080"/>
            <a:ext cx="590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imes New Roman"/>
              </a:rPr>
              <a:t>0%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5640" y="4133880"/>
            <a:ext cx="281808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14680" y="4686480"/>
            <a:ext cx="281880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8480" y="5295960"/>
            <a:ext cx="3237840" cy="1104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95680" y="5867280"/>
            <a:ext cx="3619440" cy="266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77040" y="5581800"/>
            <a:ext cx="16383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Umbral de lo previsible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324480"/>
            <a:ext cx="933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6666"/>
                </a:solidFill>
                <a:latin typeface="Tahoma"/>
              </a:rPr>
              <a:t>Tiempo</a:t>
            </a:r>
            <a:endParaRPr b="0" lang="en-US" sz="1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81E8-7BEB-4111-81D1-97D9087AF5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borda en forma explícita el problema de la asignación de recursos escasos en forma óp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mienda al tomador de decisiones, a través de distintas metodologías, para determinar la conveniencia relativa de una acción o un proyecto, pero no es la única alternativa a consider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12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, mide y valoriza, cuantitativa y cualitativamente, los beneficios y costos para la(s) persona(s) o instituciones relev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838080"/>
            <a:ext cx="762012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FA8-48B3-4088-89E2-3A4DEDF7EF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3640" y="1699920"/>
            <a:ext cx="80010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ceso iterativo, etapas de idea y preinvers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52480" y="2637000"/>
            <a:ext cx="5802480" cy="2542320"/>
            <a:chOff x="1752480" y="2637000"/>
            <a:chExt cx="5802480" cy="2542320"/>
          </a:xfrm>
        </p:grpSpPr>
        <p:grpSp>
          <p:nvGrpSpPr>
            <p:cNvPr id="180" name=""/>
            <p:cNvGrpSpPr/>
            <p:nvPr/>
          </p:nvGrpSpPr>
          <p:grpSpPr>
            <a:xfrm>
              <a:off x="1763640" y="2637000"/>
              <a:ext cx="5791320" cy="685080"/>
              <a:chOff x="1763640" y="2637000"/>
              <a:chExt cx="5791320" cy="685080"/>
            </a:xfrm>
          </p:grpSpPr>
          <p:sp>
            <p:nvSpPr>
              <p:cNvPr id="181" name=""/>
              <p:cNvSpPr/>
              <p:nvPr/>
            </p:nvSpPr>
            <p:spPr>
              <a:xfrm>
                <a:off x="1763640" y="263700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Generación y Análisis de la idea del proyecto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54560" y="3093840"/>
                <a:ext cx="380880" cy="22824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a50021"/>
              </a:solidFill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1752480" y="3351240"/>
              <a:ext cx="5791320" cy="1828080"/>
              <a:chOff x="1752480" y="3351240"/>
              <a:chExt cx="5791320" cy="182808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1752480" y="3351240"/>
                <a:ext cx="5791320" cy="685080"/>
                <a:chOff x="1752480" y="3351240"/>
                <a:chExt cx="5791320" cy="6850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1752480" y="335124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en el Nivel de Perfil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43400" y="380808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752480" y="4722480"/>
                <a:ext cx="5791320" cy="456840"/>
              </a:xfrm>
              <a:prstGeom prst="flowChartAlternateProcess">
                <a:avLst/>
              </a:prstGeom>
              <a:noFill/>
              <a:ln w="12600">
                <a:solidFill>
                  <a:srgbClr val="33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336666"/>
                    </a:solidFill>
                    <a:latin typeface="Tahoma"/>
                  </a:rPr>
                  <a:t>Estudio de Factibilidad</a:t>
                </a:r>
                <a:endParaRPr b="0" lang="en-US" sz="2000" spc="-1" strike="noStrike">
                  <a:solidFill>
                    <a:srgbClr val="336666"/>
                  </a:solidFill>
                  <a:latin typeface="Times New Roman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1752480" y="4036680"/>
                <a:ext cx="5791320" cy="685080"/>
                <a:chOff x="1752480" y="4036680"/>
                <a:chExt cx="5791320" cy="685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752480" y="4036680"/>
                  <a:ext cx="5791320" cy="456840"/>
                </a:xfrm>
                <a:prstGeom prst="flowChartAlternateProcess">
                  <a:avLst/>
                </a:prstGeom>
                <a:noFill/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336666"/>
                      </a:solidFill>
                      <a:latin typeface="Tahoma"/>
                    </a:rPr>
                    <a:t>Estudio de Prefactibilidad</a:t>
                  </a:r>
                  <a:endParaRPr b="0" lang="en-US" sz="20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93520"/>
                  <a:ext cx="380880" cy="2282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a50021"/>
                </a:solidFill>
                <a:ln w="12600">
                  <a:solidFill>
                    <a:srgbClr val="3366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66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91" name=""/>
          <p:cNvSpPr/>
          <p:nvPr/>
        </p:nvSpPr>
        <p:spPr>
          <a:xfrm>
            <a:off x="914400" y="974880"/>
            <a:ext cx="762012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tapas de la Evaluación de Proyectos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0516200">
            <a:off x="826200" y="2852640"/>
            <a:ext cx="505080" cy="2160720"/>
          </a:xfrm>
          <a:custGeom>
            <a:avLst/>
            <a:gdLst>
              <a:gd name="textAreaLeft" fmla="*/ 67680 w 505080"/>
              <a:gd name="textAreaRight" fmla="*/ 437400 w 50508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8A3F-8DA8-4AEC-AFE6-3324E60D6E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53352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 fundamental contar con un buen diagnóstic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idea debe surgir de necesidades insatisfechas, de objetivos y/o políticas generales de la organización, de un plan de desarrollo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establecer su magnitud, a quienes afecta y la confiabilidad de la información utilizada. Así como también las alternativas disponibl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Del análisis surgirá la especificación precisa del bien que se desea construir o el servicio que se pretende d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90000"/>
              </a:lnSpc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doptar la decisión de abandonar, postergar o profundizar la idea de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0"/>
            <a:ext cx="76006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Generación y Análisis de la Idea de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F1DB-FBAA-424F-99F5-E7504D79E8A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97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Arial"/>
              </a:rPr>
              <a:t>Al finalizar el curso los alumnos serán capaces d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stimar beneficios y costos relevantes en un proyect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Formular, preparar y evaluar proyectos de inversión y nuevos negocios en el marco de una economía de mercad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700" spc="-1" strike="noStrike">
                <a:solidFill>
                  <a:srgbClr val="000000"/>
                </a:solidFill>
                <a:latin typeface="Arial"/>
              </a:rPr>
              <a:t>Elaborar recomendaciones fundadas sobre los proyectos que evalúen, apoyando la toma de decisiones de invers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 General del Curs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916C-B664-44AF-BE1E-234E6425448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533520"/>
            <a:ext cx="760104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en el Nivel de Perfil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62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buscan los antecedentes que permiten establecer un juicio respecto de la conveniencia y factibilidad técnico-económica de la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idea de proyect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identificar los beneficios y costos pertinentes respecto de la situación base (situación actual optimizada), sin incurrir en mayores costos para medirlos y valorar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be incluir un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análisis prelimina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de los aspectos técnicos, estudios de mercado y los de evalu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utilizan estimaciones gruesas de los beneficios y costos, generalmente basadas en información existente, juicio común y experi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666699"/>
                </a:solidFill>
                <a:latin typeface="Arial"/>
              </a:rPr>
              <a:t>Se decide abandonar, postergar o profundizar 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BC80-6B89-4C15-86BB-35D27315A83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examinan con mayor detalle las alternativas viables desde el punto de vista técnico y económico que fueron determinadas en la etapa anterior, y se descartan las menos atractiv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l énfasis de esta etapa es medir los beneficios y costos identificados en la etapa de perfi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basa en información de fuentes secundari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r lo anterior, conviene sensibilizar los resultados de la evaluación a cambios en las variables más importa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Aft>
                <a:spcPts val="524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666699"/>
                </a:solidFill>
                <a:latin typeface="Arial"/>
              </a:rPr>
              <a:t>Se decide realizar el proyecto, postergar o profundizar la evalu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304920"/>
            <a:ext cx="76010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D3E5-C44C-4164-BD48-3E106594B55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28600" y="17521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8000" indent="-289080" algn="just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Se analizan en detalle los siguientes aspecto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studio de merc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s la base para estimar los ingresos, e incluirá un estudio de la oferta y demanda, así como de los precios de comercial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tecnológic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incluye equipos, materias primas y procesos, que permiten determinar los costos del proye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tamaño y localiz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el proyecto debe considerar el tamaño de planta, la identificación y localización de los centros de abastecimiento de insumos, canales de distribución y consum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administrativo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determinar algunas componentes de costo fijo y la organización de los recursos humanos, físicos y financi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 algn="just">
              <a:lnSpc>
                <a:spcPct val="75000"/>
              </a:lnSpc>
              <a:spcBef>
                <a:spcPts val="10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nálisis de los aspectos leg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permite conocer las restricciones de ese tipo que limitan al proyecto (tributación, permisos, contaminación ambiental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 algn="just">
              <a:lnSpc>
                <a:spcPct val="75000"/>
              </a:lnSpc>
              <a:spcBef>
                <a:spcPts val="10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2400" y="330120"/>
            <a:ext cx="760068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Prefactibilidad 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3B0C-7EF6-4BE5-A5A0-2392BD28D03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foca a un análisis detallado y preciso de la alternativa que se ha considerado más viable en la etapa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énfasis está en medir y valorar en la forma más precisa posible sus beneficios y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da la cantidad de recursos destinados a esta etapa, sólo llegarán a ella los proyectos para los que no hay duda de su rentabilidad positiva, es decir, que se van a llevar a cab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ello, toma más importancia los flujos financieros y la programación de ob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spcAft>
                <a:spcPts val="1250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vez definido y caracterizado el proyecto, debe ser optimizado en tamaño, localización, momento óptimo de la inversió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0332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2B3A-3585-4468-943E-1125EC580B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04920" y="1712520"/>
            <a:ext cx="853416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be coordinar la organización, puesta en marcha y operación del proyecto. Determinar el calendario de desembolsos para la inversión, disponibilidad de equipos y sus plazos, anteproyecto de ingeniería, selección y entrenamiento del personal de administración, operación y manten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uentes, condiciones y plazos de financia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a etapa es la conclusión del proceso de aproximaciones sucesivas en la formulación y preparación de un proyecto y constituye la base de la decisión respecto a su ejecu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 algn="just">
              <a:lnSpc>
                <a:spcPct val="80000"/>
              </a:lnSpc>
              <a:spcAft>
                <a:spcPts val="1312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 evaluación no sólo es útil para la persona(s)/organización que es dueña del proyecto, sino que también a quienes la financian o a las autoridades pertinen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 algn="just">
              <a:lnSpc>
                <a:spcPct val="80000"/>
              </a:lnSpc>
              <a:spcAft>
                <a:spcPts val="131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4600" y="30492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studio de Factibilidad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129-F614-4728-9D53-D2D85735C4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212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1. Según para quien se evalú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os proyectos afectan de diferente manera a los agentes involucrados, quienes tienen, por lo general, diferentes objetivos e intereses. Por ejempl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royecto de vertedero para las comunas del centro-sur de Santiag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 municipal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cinos del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FA6-1306-4FDF-A6C8-40EB6BDD3FF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1828800"/>
            <a:ext cx="795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Privad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se realiza desde la perspectiva de un agente económico privado o individual (persona, empresa, grupo, etc.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l proyecto, con independencia de quien provee los fo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rentabilidad de los recursos propios invertidos (dueño del proyec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edir la capacidad del proyecto para enfrentar compromisos de pago de las deudas (bancos, acree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100" spc="-1" strike="noStrike">
                <a:solidFill>
                  <a:srgbClr val="000000"/>
                </a:solidFill>
                <a:latin typeface="Arial"/>
              </a:rPr>
              <a:t>Evaluación Social: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realiza desde la perspectiva del conjunto del país (sociedad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F4DB-FEB5-4F5B-9936-4B10D2FAA9B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2. Según el momento en que se reali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Ante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en el período de preinversión, entrega una recomendación sobre la conveniencia de realizar el proyec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100" spc="-1" strike="noStrike">
                <a:solidFill>
                  <a:srgbClr val="000000"/>
                </a:solidFill>
                <a:latin typeface="Arial"/>
              </a:rPr>
              <a:t>Ex Post: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se realiza una vez ejecutado el proyecto, sirve para estimar los verdaderos beneficios del proyecto, encontrar las fuentes de error y generar aprendiz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8F8-F8E2-4AF0-A26C-51F1BDE473B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3. Según la finalidad de la invers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crear nuevos negocios o empres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royectos que buscan evaluar un cambio, mejora o modernización en una empresa exist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43C-6FB2-4D3D-AFA9-C5FC4EFB073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6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 u="sng">
                <a:solidFill>
                  <a:srgbClr val="000000"/>
                </a:solidFill>
                <a:uFillTx/>
                <a:latin typeface="Arial"/>
              </a:rPr>
              <a:t>4. Según la forma de evalu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Tradicional o monocriterio: un solo objetivo, generalmente riqueza. Requiere que cada beneficio y costo sea identificado, medido y valorad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-280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ulticriterio: tiene más de un objetivo, riqueza, distribución del ingreso, salud de los habitantes…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EJM: ¿cuánto vale el beneficio por menor pérdida de vidas humanas asociado a poner un semáforo en un cruce peligroso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Valor de la Vida Humana?, infinito?, algunos valen más que otros?..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- semáforo: 5 millon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Multicriterio: accidentes disminuyen de 15 por año a 2 por año: 5 millones/13 vidas human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300" spc="-1" strike="noStrike">
                <a:solidFill>
                  <a:srgbClr val="000000"/>
                </a:solidFill>
                <a:latin typeface="Arial"/>
              </a:rPr>
              <a:t>No sirve para ver conveniencia, sino para comparar alternativas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16000" y="404640"/>
            <a:ext cx="760104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Tipos de Evaluación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EDC-98E0-4EE0-BC7C-A500FED172C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84788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Formulación de Proyecto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temáticas Financier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laboración del Flujo de Caja Priv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ndicadores de Evalu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Optimización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de Proyectos bajo Incertidumb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valuación Social de Proyec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223-B7CA-4640-9F53-795CC6A2C4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475920"/>
            <a:ext cx="701028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400" spc="-1" strike="noStrike">
                <a:solidFill>
                  <a:srgbClr val="666699"/>
                </a:solidFill>
                <a:latin typeface="Arial"/>
              </a:rPr>
              <a:t>Dos etapas en la 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alquiera sea la profundidad con que se evalúe un proyecto, se distinguen dos etap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Formulación y preparación: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Identificar los beneficios y costos del proyecto y calcular su magnitu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opilar (crear) información (estudios de mercado, técnico,  legal, organiza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strucción del flujo de ca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 u="sng">
                <a:solidFill>
                  <a:srgbClr val="000000"/>
                </a:solidFill>
                <a:uFillTx/>
                <a:latin typeface="Arial"/>
              </a:rPr>
              <a:t>Evaluación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: a partir del flujo de caja, medir la rentabilidad de la inversión en el proyec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AFC-5673-4A94-8940-F90B81BB2CD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85800" y="228600"/>
            <a:ext cx="760104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jemplo: Presentación de un proyecto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Ejecu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Diagnóst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Metodología de Evalu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álisis de prefactibi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Evaluación económ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Resumen y conclus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5AB5-E447-420D-97AA-375ADCF9855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) Antecedente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mbito o sector productivo del 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bicación de la zona geográfica del estudio y sus características (culturales, económicas, política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ción de segmentos producto -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generales de los gestores del proyecto (aspectos organizacionales, marco legal, cultura organizativa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as informaciones  relevantes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trevistas con expertos en el t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copilación bibliográ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1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FB08-FEF9-47FC-9AAE-54051C639580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300" spc="-1" strike="noStrike">
                <a:solidFill>
                  <a:srgbClr val="000000"/>
                </a:solidFill>
                <a:latin typeface="Arial"/>
              </a:rPr>
              <a:t>Estudio de Mercado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fert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pecificación de los producto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ofertados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histórica y sus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líticas y métodos de tarificación y prec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Ofert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y concentración de la ofer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bertura geográf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tricciones de disponibilidad de recurs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2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B020-44EF-48FB-AE77-8DB6DFA46FB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30456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histórica y factores de incid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emanda actual y proye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gment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de la dema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centración de la demanda (por áreas geográficas, por segmentos, por ingreso, etc.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lnSpc>
                <a:spcPct val="90000"/>
              </a:lnSpc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ipo de consumo (residencial, comercial, industri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lnSpc>
                <a:spcPct val="9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ste punto debe ser desarrollado con una visión más global y sistemática utilizando un enfoque de planificación estratégica. Este permite abordar el proyecto desde una perspectiva estratégica en lugar de una perspectiva táctica - operativ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3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B8A5-A771-4656-9DA6-850679A8987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tecedentes generales + estudio de mercado  </a:t>
            </a:r>
            <a:r>
              <a:rPr b="0" lang="es-C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finición de situación sin proyecto.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s diagnóstico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 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manda insatisfech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ala calidad de los servici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d) Optimización de la situación actu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beneficios netos de se obtienen comparando la situación con proyecto con la sin proyecto optimizada (situación base), evitando que se asignen al proyecto beneficios que no  correspond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Ejemplo de optimizaciones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Rediseño de procesos y reingeniería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2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ejoras en la gestión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; (3)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Modificaciones que impliquen inversiones margin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4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1325-C9D0-4D34-B225-33E7AC13046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04920" y="19051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 considerar como parte de la situación base aquellos proyectos sustitutos y/o complementarios sobre los que se haya decidido su ejecución, y que se estime razonablemente que serán implementados (también se les debe considerar en la situación con proyecto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e)  Generación de alternativas 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s alternativas generadas deben 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ermitir solucionar y/o aprovechar las oportunidades identificadas en el diagnóst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técn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económicamente facti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fundamentalmente distintas entre s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r comparables en términos de resul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5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0E3A-6593-4BB1-BEAC-915203F22DE5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8381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f) Selección (preselección) de alternativa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Se deberá analizar la conveniencia de las distintas alternativas comparándolas entre sí de acuerdo a criterios técnicos y económic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ara la alternativa seleccionada se debe analizar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Tamaño óptimo d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calización óp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Momento óptimo para realizar el proye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ediseño (obras civiles, equipamiento, insum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880"/>
            <a:ext cx="883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Formulación y Preparación de Proyectos(6/6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9480-FB39-48ED-80BA-78D57137CD2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8394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a) Estimación de beneficios y cos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a estimación de beneficios y costos es un proceso de tres pasos sucesivos: Identificación / Medición / Valor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Depende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del agente que hace la estimació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riv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 (valorables), no cuantificab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irectos, indirec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uantificables, no cuantific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468440" indent="-228600">
              <a:buClr>
                <a:srgbClr val="cc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xternalida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1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D268-0B19-421A-B7E2-A9F64BAC1B8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beneficios y costos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cuantificables deben ser estimados según algún numerario común (normalmente $ de hoy), los no cuantificables deben ser identificados y medidos en las unidades que resulte pertin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jemplo : beneficio no (o menos) cuantificable de un proyecto de semaforización : disminución de accident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b) Cálculo de indicador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Valor presente neto (VPN o V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Tasa interna de retorno (TI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Período de recuperación del capital (PRC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2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5809-5634-4BD8-BD89-506123DB544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Docentes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clases de cátedra semanales (asistencia y particip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realizarán clases auxiliares; las aplicaciones se verán durante las clases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horario de clase auxiliar se realizarán los cont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2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Arial"/>
              </a:rPr>
              <a:t>Trabajo Person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turas y estudio clase a cl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Actividade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EBA-E981-4D83-AC32-10C84AA96F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000000"/>
                </a:solidFill>
                <a:latin typeface="Arial"/>
              </a:rPr>
              <a:t>c) Financiami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78000" indent="-28908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Análisis de las distintas alternativas, se deberá analizar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Porcentajes de capital propio vs. Deud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olicitud de préstam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bon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049400" indent="-285840">
              <a:buClr>
                <a:srgbClr val="99cccc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misión de ac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80880"/>
            <a:ext cx="88390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 del Proyecto(3/3)</a:t>
            </a:r>
            <a:endParaRPr b="0" lang="en-US" sz="3400" spc="-1" strike="noStrike">
              <a:solidFill>
                <a:srgbClr val="33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8D9-9074-449F-8901-1FF5EC4AC404}" type="slidenum">
              <a:t>40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 (40%): 2 controles y un exame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Tareas (30%): 3 tareas durante el semest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130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ta Controles de Lectura (30%): se realizarán 7 controles de lectura cortos y se elimina una no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IMPORTANTE: CADA NOTA DEBE SER MAYOR O AL MENOS IGUAL A 4.0 PARA APROB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valua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5AE7-8946-4D8F-93FD-831FA35053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676520"/>
            <a:ext cx="830592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 ≥ 5,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Tareas ≥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Aft>
                <a:spcPts val="2251"/>
              </a:spcAft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Nota Controles de Lectura ≥ 5,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Eximición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F114-8301-41D2-AA21-5D5FC77E6C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55560" y="1626840"/>
            <a:ext cx="577044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666699"/>
                </a:solidFill>
                <a:latin typeface="AardvarkBold"/>
              </a:rPr>
              <a:t>I. Formulación de Proyectos</a:t>
            </a:r>
            <a:endParaRPr b="1" i="1" lang="en-US" sz="4400" spc="-1" strike="noStrike">
              <a:solidFill>
                <a:srgbClr val="666699"/>
              </a:solidFill>
              <a:latin typeface="AardvarkBol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render a identificar y definir proyectos,  organizando secuencialmente el proceso de evaluación de un proyecto de invers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Objetivo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2ABB-2DDB-4153-85E5-A223723423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830556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ncepto de Proyecto, contexto de mercad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La formulación y evaluación de proyectos: ciclo de vida de un proyecto, niveles de evaluación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evaluación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Tipos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Presentación de proyect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22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666699"/>
                </a:solidFill>
                <a:latin typeface="Arial"/>
              </a:rPr>
              <a:t>Contenidos</a:t>
            </a:r>
            <a:endParaRPr b="1" i="1" lang="en-US" sz="3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1F5-AC58-411E-9EB4-3F6EDF2BDB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wbaeza</cp:lastModifiedBy>
  <cp:lastPrinted>2002-11-13T13:47:55Z</cp:lastPrinted>
  <dcterms:modified xsi:type="dcterms:W3CDTF">2007-07-23T17:31:57Z</dcterms:modified>
  <cp:revision>343</cp:revision>
  <dc:subject/>
  <dc:title>Formulación de Proyectos</dc:title>
</cp:coreProperties>
</file>