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LATIGO.WAV" ContentType="audio/x-wav"/>
  <Override PartName="/ppt/media/DIAPO.WAV" ContentType="audio/x-wav"/>
  <Override PartName="/ppt/media/CLIC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31009-C9C3-4EC4-AE6D-7F6D3445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4B300-769E-4B6E-9047-FF92E93C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8FD38-2155-44DE-8506-8B24D871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9AB34-8EC4-4A30-99D5-16F8C3E9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97447-1757-4E0B-A391-7757803E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3DEC2-6937-41E4-A4BF-5751DC8C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A6DC1-2F8E-4C9C-BBA0-74CA0D75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03CFD-30C8-4BEF-ACEE-DE6ADD40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FF856-A730-4A39-A4E0-E5ABEB87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DEE72-E2DD-44D5-907E-6A487824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2E66B-C697-4398-9FDB-F54263DBE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E97CE-C7D4-4010-BEB0-3C8BEBA1C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63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73E4-B39B-4797-A5E0-209DA2ACDF27}" type="slidenum">
              <a:rPr b="0" lang="es-ES" sz="12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DIAPO.WAV"/><Relationship Id="rId7" Type="http://schemas.openxmlformats.org/officeDocument/2006/relationships/audio" Target="../media/DIAPO.WAV"/><Relationship Id="rId8" Type="http://schemas.openxmlformats.org/officeDocument/2006/relationships/audio" Target="../media/DIAPO.WAV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DIAP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2A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i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307960" y="4292640"/>
            <a:ext cx="4568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Prof. 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Andrés Kettlun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Jorge Montecino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Aux.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Iván Espinoz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Coord. 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Karla Carrasco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84080" y="1617480"/>
            <a:ext cx="7780320" cy="33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oyectos de Inversión: Formulación y Evaluación. </a:t>
            </a:r>
            <a:r>
              <a:rPr b="0" lang="es-ES" sz="3000" spc="-1" strike="noStrike">
                <a:solidFill>
                  <a:srgbClr val="4d4d4d"/>
                </a:solidFill>
                <a:latin typeface="Verdana"/>
              </a:rPr>
              <a:t>1a. ed., Nassir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apag. Capítulo 1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Bibliografí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11360" y="1528560"/>
            <a:ext cx="77832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i="1" lang="es-ES_tradnl" sz="29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1" i="1" lang="es-ES_tradnl" sz="2900" spc="-1" strike="noStrike">
                <a:solidFill>
                  <a:srgbClr val="4d4d4d"/>
                </a:solidFill>
                <a:latin typeface="Verdana"/>
              </a:rPr>
              <a:t>Un proyecto no es más ni menos que la búsqueda de una solución inteligente al planteamiento de un problema que tiende a resolver, entre tantas, una necesidad humana”</a:t>
            </a: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ES_tradnl" sz="1700" spc="-1" strike="noStrike">
                <a:solidFill>
                  <a:srgbClr val="4d4d4d"/>
                </a:solidFill>
                <a:latin typeface="Verdana"/>
              </a:rPr>
              <a:t>(Preparación y Evaluación de Proyectos, Sapag y Sapag)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11360" y="1196640"/>
            <a:ext cx="77832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i="1" lang="es-ES_tradnl" sz="2600" spc="-1" strike="noStrike">
                <a:solidFill>
                  <a:srgbClr val="008000"/>
                </a:solidFill>
                <a:latin typeface="Verdana"/>
              </a:rPr>
              <a:t>Es una idea de asignación de recursos que sigue un objetivo y que genera beneficios y costos, cualitativos y cuantitativos, tanto al realizador del proyecto como a terceros.</a:t>
            </a:r>
            <a:r>
              <a:rPr b="0" i="1" lang="es-ES_tradnl" sz="26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Reemplazo de una tecnología obsoleta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lantación y tala de un bosque de pin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nzar un nuevo produ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Mejoramiento de una carreter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borda en forma explícita el problema de la asignación de recursos escasos en forma óptim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mienda al tomador de decisiones, a través de distintas metodologías, para determinar la conveniencia relativa de una acción o un proyecto, pero no es la única alternativa a considerar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dentifica, mide y valoriza, cuantitativa y cualitativamente, los beneficios y costos para la(s) persona(s) o instituciones relevant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spcAft>
                <a:spcPts val="11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81040" y="5489640"/>
            <a:ext cx="215892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Opera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5410080"/>
            <a:ext cx="581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Se pone en marcha el proyecto y se concretan los beneficios netos que fueron estimados previamente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2766960"/>
            <a:ext cx="2159280" cy="71928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Tahoma"/>
              </a:rPr>
              <a:t>Pre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2565360"/>
            <a:ext cx="5868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Tahoma"/>
              </a:rPr>
              <a:t>Se prepara y evalúa el proyecto de manera de obtener de él, el máximo excedente económico  a lo largo de su vida útil, realizando para esto estudios de mercado, técnicos, económicos, financieros y otros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3500280"/>
            <a:ext cx="573120" cy="609840"/>
          </a:xfrm>
          <a:prstGeom prst="downArrow">
            <a:avLst>
              <a:gd name="adj1" fmla="val 50000"/>
              <a:gd name="adj2" fmla="val 26602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4121280"/>
            <a:ext cx="21592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4076640"/>
            <a:ext cx="586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Se diseña y se materializa físicamente la inversión requerida por el proyecto de acuerdo a lo especificado en la etapa anterior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485460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2162160"/>
            <a:ext cx="573120" cy="609480"/>
          </a:xfrm>
          <a:prstGeom prst="downArrow">
            <a:avLst>
              <a:gd name="adj1" fmla="val 50000"/>
              <a:gd name="adj2" fmla="val 26586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5960" y="1413000"/>
            <a:ext cx="215892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1341360"/>
            <a:ext cx="58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Identificar problemas que puedan resolverse y oportunidades de negocio que puedan aprovecharse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l proyecto como un proce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cc3300"/>
                </a:solidFill>
                <a:latin typeface="Verdana"/>
              </a:rPr>
              <a:t>Ciclo de Vida de un 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149400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2484360"/>
            <a:ext cx="17524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Perfi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00400" y="347508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Prefactibilidad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438948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Factibilidad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24600" y="54450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Diseño y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ejecució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217980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50752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41608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317016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34320" y="560880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5227560"/>
            <a:ext cx="739116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80000" y="15098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3300"/>
                </a:solidFill>
                <a:latin typeface="Arial Narrow"/>
              </a:rPr>
              <a:t>PLANO DE LAS IDEA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530388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3300"/>
                </a:solidFill>
                <a:latin typeface="Arial Narrow"/>
              </a:rPr>
              <a:t>PLANO DE LAS ACCION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2560680"/>
            <a:ext cx="263520" cy="2438280"/>
          </a:xfrm>
          <a:custGeom>
            <a:avLst/>
            <a:gdLst>
              <a:gd name="textAreaLeft" fmla="*/ 0 w 263520"/>
              <a:gd name="textAreaRight" fmla="*/ 95040 w 26352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5398920"/>
            <a:ext cx="15238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Operació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3573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Pre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5532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52880" y="5430960"/>
            <a:ext cx="76320" cy="76176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8059320" y="4646520"/>
            <a:ext cx="203400" cy="1273320"/>
          </a:xfrm>
          <a:custGeom>
            <a:avLst/>
            <a:gdLst>
              <a:gd name="textAreaLeft" fmla="*/ 129960 w 203400"/>
              <a:gd name="textAreaRight" fmla="*/ 203760 w 203400"/>
              <a:gd name="textAreaTop" fmla="*/ 33120 h 1273320"/>
              <a:gd name="textAreaBottom" fmla="*/ 1240200 h 127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76"/>
                </a:lnTo>
                <a:cubicBezTo>
                  <a:pt x="10800" y="9576"/>
                  <a:pt x="5400" y="10476"/>
                  <a:pt x="0" y="10476"/>
                </a:cubicBezTo>
                <a:cubicBezTo>
                  <a:pt x="5400" y="10476"/>
                  <a:pt x="10800" y="11376"/>
                  <a:pt x="10800" y="1227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51640" y="4724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Opera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1341360"/>
            <a:ext cx="160200" cy="990720"/>
          </a:xfrm>
          <a:custGeom>
            <a:avLst/>
            <a:gdLst>
              <a:gd name="textAreaLeft" fmla="*/ 0 w 160200"/>
              <a:gd name="textAreaRight" fmla="*/ 57960 w 160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158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dea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305920" cy="51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da una de ellas busca reproducir el ciclo de vida del proyecto, de manera que a medida que se avanza en las etapas, los estudios van tomando mayor profundidad y se va reduciendo la incertidumbre, respecto a los beneficios netos esperados del mism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 secuencia iterativa tiene por justificación evitar los elevados costos de los estudios y poder desechar en las primeras etapas los proyectos que no son adecua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da etapa se presenta en la forma de un informe, cuyo objetivo fundamental es presentar los elementos que intervienen orientados claramente a la toma de decisiones de abandonar o proseguir la ide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Ciclo de Vida de un 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 flipV="1">
            <a:off x="1657440" y="471600"/>
            <a:ext cx="0" cy="28764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3333600"/>
            <a:ext cx="6381720" cy="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638360" y="2666880"/>
            <a:ext cx="284112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124080" y="1771560"/>
            <a:ext cx="304776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716360" y="982800"/>
            <a:ext cx="3048480" cy="159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16601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166015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rot="21477600">
            <a:off x="6375960" y="157320"/>
            <a:ext cx="3048840" cy="159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50033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5003386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2160" y="304920"/>
            <a:ext cx="1581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Costos/ 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56720" y="3284640"/>
            <a:ext cx="933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695600" y="3762360"/>
            <a:ext cx="0" cy="26100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14680" y="6362640"/>
            <a:ext cx="6553080" cy="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3429000"/>
            <a:ext cx="201924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Grado de Incertidumbr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05000" y="1162080"/>
            <a:ext cx="0" cy="5695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1047600"/>
            <a:ext cx="38160" cy="58104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05400" y="762120"/>
            <a:ext cx="0" cy="60958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62000" y="2266920"/>
            <a:ext cx="10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33600" y="1486080"/>
            <a:ext cx="99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Perfil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81520" y="628560"/>
            <a:ext cx="135252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Prefactibilidad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12000" y="0"/>
            <a:ext cx="1790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Factibilidad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4133880"/>
            <a:ext cx="678168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4057560"/>
            <a:ext cx="66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10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28880" y="4971960"/>
            <a:ext cx="590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5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4840" y="6058080"/>
            <a:ext cx="590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5640" y="4133880"/>
            <a:ext cx="28180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14680" y="4686480"/>
            <a:ext cx="2818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480" y="5295960"/>
            <a:ext cx="3237840" cy="110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95680" y="5867280"/>
            <a:ext cx="361944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77040" y="5581800"/>
            <a:ext cx="1638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Umbral de lo previsibl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77320" y="63244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84080" y="1197000"/>
            <a:ext cx="771048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 fundamental contar con un buen diagnóstic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idea debe surgir de necesidades insatisfechas, de objetivos y/o políticas generales de la organización, de un plan de desarrollo, etc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debe establecer su magnitud, a quienes afecta y la confiabilidad de la información utilizada. Así como también las alternativas disponib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l análisis surgirá la especificación precisa del bien que se desea construir o el servicio que se pretende dar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doptar la decisión de abandonar, postergar o profundizar la idea de proyect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250560" y="368280"/>
            <a:ext cx="8893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c3300"/>
                </a:solidFill>
                <a:latin typeface="Verdana"/>
              </a:rPr>
              <a:t>Generación y Análisis de la Idea del Proyecto</a:t>
            </a:r>
            <a:endParaRPr b="1" lang="en-US" sz="2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a nivel de Perfil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buscan los antecedentes que permiten establecer un juicio respecto de la conveniencia y factibilidad técnico-económica de la idea de proyect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debe identificar los beneficios y costos pertinentes respecto de la situación base (situación actual optimizada), sin incurrir en mayores costos para medirlos y valorarl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Debe incluir un análisis preliminar de los aspectos técnicos, estudios de mercado y los de evaluación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utilizan estimaciones gruesas de los beneficios y costos, generalmente basadas en información existente, juicio común y experienci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cc3300"/>
                </a:solidFill>
                <a:latin typeface="Verdana"/>
              </a:rPr>
              <a:t>Se decide abandonar, postergar o profundizar 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830556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Docentes: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 clases de cátedra semanales (asistencia y participación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se realizarán clases auxiliares;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horario de clase auxiliar se realizarán los controle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Trabajo Personal y Grupal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ecturas y estudio clase a clas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re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ctividad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studio a nivel de Prefactibilidad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799920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e examinan con mayor detalle las alternativas viables desde el punto de vista técnico y económico que fueron determinadas en la etapa anterior, y se descartan las menos atractiva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l énfasis de esta etapa es medir los beneficios y costos identificados en la etapa de perfil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e basa en información de fuentes secundaria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or lo anterior, conviene sensibilizar los resultados de la evaluación a cambios en las variables más importante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Verdana"/>
              </a:rPr>
              <a:t>Se decide abandonar el proyecto, postergar o profundizar la evaluación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 algn="just">
              <a:lnSpc>
                <a:spcPct val="8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Se analizan en detalle los siguientes aspectos: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estudio de mercado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es la base para estimar los ingresos, e incluirá un estudio de la oferta y demanda, así como de los precios de comercializació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tecnológico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incluye equipos, materias primas y procesos, que permiten determinar los costos del proyec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tamaño y localización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del proyecto debe considerar el tamaño de planta, la identificación y localización de los centros de abastecimiento de insumos, canales de distribución y consumo, etc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de los aspectos administrativos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permite determinar algunas componentes de costo fijo y la organización de los recursos humanos, físicos y financier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de los aspectos legales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permite conocer las restricciones de ese tipo que limitan al proyecto (tributación, permisos, contaminación ambiental, etc.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 algn="just">
              <a:lnSpc>
                <a:spcPct val="75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studio a nivel de Prefactibilidad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de Factib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98984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enfoca a un análisis detallado y preciso de la alternativa que se ha considerado más viable en la etapa anterior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énfasis está en medir y valorar en la forma más precisa posible sus beneficios y costos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ada la cantidad de recursos destinados a esta etapa, sólo llegarán a ella los proyectos para los que no hay duda de su rentabilidad positiva, es decir, que se van a llevar a cabo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r ello, toma más importancia los flujos financieros y la programación de obras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Una vez definido y caracterizado el proyecto, debe ser optimizado en tamaño, localización, momento óptimo de la inversión, etc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755640" y="1197000"/>
            <a:ext cx="792000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Se debe coordinar la organización, puesta en marcha y operación del proyecto. Determinar el calendario de desembolsos para la inversión, disponibilidad de equipos y sus plazos, anteproyecto de ingeniería, selección y entrenamiento del personal de administración, operación y mantenimien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Fuentes, condiciones y plazos de financiamien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sta etapa es la conclusión del proceso de aproximaciones sucesivas en la formulación y preparación de un proyecto y constituye la base de la decisión respecto a su ejecució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a evaluación no sólo es útil para la persona(s)/organización que es dueña del proyecto, sino que también a quienes la financian o a las autoridades pertinente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lnSpc>
                <a:spcPct val="80000"/>
              </a:lnSpc>
              <a:spcAft>
                <a:spcPts val="1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de Factib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736640" y="574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9760" y="237636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4d4d4d"/>
                </a:solidFill>
                <a:latin typeface="Times New Roman"/>
              </a:rPr>
              <a:t>ESTRATEGIA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1905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Responde a: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a3b2c1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Neutralizar amenaza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a3b2c1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Corregir debilidad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a3b2c1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Aprovechar oportunidad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a3b2c1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Explotar fortaleza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3886200"/>
            <a:ext cx="405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Objetivo: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Buscar oportunidades que puedan posicionar la empresa con una ventaja competitiva que le permita obtener una rentabilidad superior al costo de capital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27432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2819520"/>
            <a:ext cx="0" cy="838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92520" y="474984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Times New Roman"/>
              </a:rPr>
              <a:t>CREAR VALOR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495288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03480" y="94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3808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Times New Roman"/>
              </a:rPr>
              <a:t>Intenta lograr una </a:t>
            </a:r>
            <a:r>
              <a:rPr b="1" lang="es-ES_tradnl" sz="2800" spc="-1" strike="noStrike">
                <a:solidFill>
                  <a:srgbClr val="4d4d4d"/>
                </a:solidFill>
                <a:latin typeface="Times New Roman"/>
              </a:rPr>
              <a:t>ventaja sostenible a largo plazo</a:t>
            </a:r>
            <a:r>
              <a:rPr b="0" lang="es-ES_tradnl" sz="2800" spc="-1" strike="noStrike">
                <a:solidFill>
                  <a:srgbClr val="4d4d4d"/>
                </a:solidFill>
                <a:latin typeface="Times New Roman"/>
              </a:rPr>
              <a:t> en cada uno de sus negocio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828800" y="152352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04920" y="22860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Verdana"/>
              </a:rPr>
              <a:t>Proceso de Planificación Estratégica de Negocio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38280" y="990720"/>
            <a:ext cx="5562720" cy="114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7960" y="990720"/>
            <a:ext cx="47721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Arial"/>
              </a:rPr>
              <a:t>Misión del Negocio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Arial"/>
              </a:rPr>
              <a:t>-ámbitos: de producto, de mercado y geográfico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Arial"/>
              </a:rPr>
              <a:t>-identificación de las competencias distintiva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Arial"/>
              </a:rPr>
              <a:t>(modo de conseguir un liderazgo competitivo)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2209680"/>
            <a:ext cx="3581640" cy="190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24080" y="2268360"/>
            <a:ext cx="314316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Análisis Intern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(Desempeño pasado y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proyecciones futuras)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Identificación de factores intern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críticos para lograr una ventaj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competitiv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Definición de Fortalezas y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Debilidad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4120" y="2209680"/>
            <a:ext cx="3581280" cy="190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91160" y="2268360"/>
            <a:ext cx="314316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Análisis Extern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(Desempeño pasado y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proyecciones futuras)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Identificación de factores extern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que contribuyen al atractivo de l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industri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Definición de Oportunidad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y Amenaz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00400" y="4343400"/>
            <a:ext cx="365760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54400" y="4402080"/>
            <a:ext cx="354960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Formulación de la Estrategi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de Negoci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Generación de proyectos y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programas generales de ac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200400" y="5335560"/>
            <a:ext cx="3657240" cy="912960"/>
            <a:chOff x="3200400" y="5335560"/>
            <a:chExt cx="3657240" cy="912960"/>
          </a:xfrm>
        </p:grpSpPr>
        <p:sp>
          <p:nvSpPr>
            <p:cNvPr id="208" name=""/>
            <p:cNvSpPr/>
            <p:nvPr/>
          </p:nvSpPr>
          <p:spPr>
            <a:xfrm>
              <a:off x="3200400" y="5410080"/>
              <a:ext cx="3657240" cy="838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Arial"/>
                </a:rPr>
                <a:t>Programación Estratégica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Arial"/>
                </a:rPr>
                <a:t>Definición y evaluación de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Arial"/>
                </a:rPr>
                <a:t>programas específicos de acc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28840" y="5335560"/>
              <a:ext cx="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200400" y="6249960"/>
            <a:ext cx="3657240" cy="379440"/>
            <a:chOff x="3200400" y="6249960"/>
            <a:chExt cx="3657240" cy="379440"/>
          </a:xfrm>
        </p:grpSpPr>
        <p:sp>
          <p:nvSpPr>
            <p:cNvPr id="211" name=""/>
            <p:cNvSpPr/>
            <p:nvPr/>
          </p:nvSpPr>
          <p:spPr>
            <a:xfrm>
              <a:off x="3200400" y="6302520"/>
              <a:ext cx="3657240" cy="326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Arial"/>
                </a:rPr>
                <a:t>Presupuesto y Control de Gest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28840" y="6249960"/>
              <a:ext cx="0" cy="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97280" y="2135160"/>
            <a:ext cx="4417920" cy="2208240"/>
            <a:chOff x="2897280" y="2135160"/>
            <a:chExt cx="4417920" cy="2208240"/>
          </a:xfrm>
        </p:grpSpPr>
        <p:sp>
          <p:nvSpPr>
            <p:cNvPr id="214" name=""/>
            <p:cNvSpPr/>
            <p:nvPr/>
          </p:nvSpPr>
          <p:spPr>
            <a:xfrm>
              <a:off x="5029200" y="2135160"/>
              <a:ext cx="0" cy="220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97280" y="4116240"/>
              <a:ext cx="205560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106960" y="4116240"/>
              <a:ext cx="22082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560" y="12459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sten dos grupos de factores centrale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4d4d4d"/>
              </a:buClr>
              <a:buSzPct val="7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actores que determinan el atractivo de la industria en que está inserto el negocio y el comportamiento de los competidores, medido primariamente por sus perspectivas de rentabilidad a largo plazo (externos y poco controlable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4d4d4d"/>
              </a:buClr>
              <a:buSzPct val="7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actores que determinan la ventaja del negocio en relación a los otros competidores de la industria (internos y controlables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26028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Verdana"/>
              </a:rPr>
              <a:t>Elección de una Estrategia Competitiva de Negocio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355760" y="725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523880"/>
            <a:ext cx="81532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8000" indent="-289080" algn="just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orter postula que hay cinco fuerzas que conforman típicamente la estructura de la industria: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Intensidad de la rivalidad entre competidor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menaza de nuevos participant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menaza de sustitu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oder de negociación de los comprador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oder de negociación de los proveedor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78000" indent="-289080" algn="just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La acción conjunta de estas fuerzas determina la rentabilidad potencial en el sector industrial, en donde el potencial de utilidades se mide en términos del rendimiento a largo plazo del capital invertido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44280"/>
            <a:ext cx="838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Análisis Estructural del Sector Industrial o el Modelo de las Cinco Fuerzas (Michael Porter)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355760" y="717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22440" y="731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10080" y="2590920"/>
            <a:ext cx="2070000" cy="220032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Competidor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Actual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10280" y="3276720"/>
            <a:ext cx="1676520" cy="58248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Comprador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3295800"/>
            <a:ext cx="1660680" cy="58248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Proveedor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62520" y="6029280"/>
            <a:ext cx="1422360" cy="58248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Sustituto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9880" y="1143000"/>
            <a:ext cx="1752840" cy="58248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Nuevo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Participant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695240" y="2532240"/>
            <a:ext cx="1873800" cy="1201680"/>
            <a:chOff x="1695240" y="2532240"/>
            <a:chExt cx="1873800" cy="1201680"/>
          </a:xfrm>
        </p:grpSpPr>
        <p:sp>
          <p:nvSpPr>
            <p:cNvPr id="230" name=""/>
            <p:cNvSpPr/>
            <p:nvPr/>
          </p:nvSpPr>
          <p:spPr>
            <a:xfrm>
              <a:off x="2370240" y="3308040"/>
              <a:ext cx="1139760" cy="425880"/>
            </a:xfrm>
            <a:prstGeom prst="rightArrow">
              <a:avLst>
                <a:gd name="adj1" fmla="val 50000"/>
                <a:gd name="adj2" fmla="val 66931"/>
              </a:avLst>
            </a:prstGeom>
            <a:solidFill>
              <a:srgbClr val="0000ff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95240" y="2532240"/>
              <a:ext cx="187380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Poder de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Negociac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de Proveedor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861000" y="3244680"/>
            <a:ext cx="1671120" cy="1576800"/>
            <a:chOff x="3861000" y="3244680"/>
            <a:chExt cx="1671120" cy="1576800"/>
          </a:xfrm>
        </p:grpSpPr>
        <p:sp>
          <p:nvSpPr>
            <p:cNvPr id="233" name=""/>
            <p:cNvSpPr/>
            <p:nvPr/>
          </p:nvSpPr>
          <p:spPr>
            <a:xfrm>
              <a:off x="4233960" y="3244680"/>
              <a:ext cx="1038240" cy="744480"/>
            </a:xfrm>
            <a:custGeom>
              <a:avLst/>
              <a:gdLst/>
              <a:ahLst/>
              <a:rect l="l" t="t" r="r" b="b"/>
              <a:pathLst>
                <a:path w="654" h="469">
                  <a:moveTo>
                    <a:pt x="433" y="155"/>
                  </a:moveTo>
                  <a:lnTo>
                    <a:pt x="433" y="184"/>
                  </a:lnTo>
                  <a:lnTo>
                    <a:pt x="422" y="214"/>
                  </a:lnTo>
                  <a:lnTo>
                    <a:pt x="411" y="239"/>
                  </a:lnTo>
                  <a:lnTo>
                    <a:pt x="394" y="265"/>
                  </a:lnTo>
                  <a:lnTo>
                    <a:pt x="371" y="284"/>
                  </a:lnTo>
                  <a:lnTo>
                    <a:pt x="349" y="298"/>
                  </a:lnTo>
                  <a:lnTo>
                    <a:pt x="321" y="306"/>
                  </a:lnTo>
                  <a:lnTo>
                    <a:pt x="293" y="309"/>
                  </a:lnTo>
                  <a:lnTo>
                    <a:pt x="264" y="306"/>
                  </a:lnTo>
                  <a:lnTo>
                    <a:pt x="236" y="298"/>
                  </a:lnTo>
                  <a:lnTo>
                    <a:pt x="214" y="284"/>
                  </a:lnTo>
                  <a:lnTo>
                    <a:pt x="191" y="265"/>
                  </a:lnTo>
                  <a:lnTo>
                    <a:pt x="174" y="239"/>
                  </a:lnTo>
                  <a:lnTo>
                    <a:pt x="157" y="214"/>
                  </a:lnTo>
                  <a:lnTo>
                    <a:pt x="152" y="184"/>
                  </a:lnTo>
                  <a:lnTo>
                    <a:pt x="146" y="155"/>
                  </a:lnTo>
                  <a:lnTo>
                    <a:pt x="0" y="155"/>
                  </a:lnTo>
                  <a:lnTo>
                    <a:pt x="5" y="217"/>
                  </a:lnTo>
                  <a:lnTo>
                    <a:pt x="22" y="276"/>
                  </a:lnTo>
                  <a:lnTo>
                    <a:pt x="50" y="332"/>
                  </a:lnTo>
                  <a:lnTo>
                    <a:pt x="84" y="376"/>
                  </a:lnTo>
                  <a:lnTo>
                    <a:pt x="129" y="416"/>
                  </a:lnTo>
                  <a:lnTo>
                    <a:pt x="180" y="442"/>
                  </a:lnTo>
                  <a:lnTo>
                    <a:pt x="231" y="461"/>
                  </a:lnTo>
                  <a:lnTo>
                    <a:pt x="293" y="468"/>
                  </a:lnTo>
                  <a:lnTo>
                    <a:pt x="349" y="461"/>
                  </a:lnTo>
                  <a:lnTo>
                    <a:pt x="405" y="442"/>
                  </a:lnTo>
                  <a:lnTo>
                    <a:pt x="450" y="416"/>
                  </a:lnTo>
                  <a:lnTo>
                    <a:pt x="495" y="376"/>
                  </a:lnTo>
                  <a:lnTo>
                    <a:pt x="529" y="332"/>
                  </a:lnTo>
                  <a:lnTo>
                    <a:pt x="557" y="276"/>
                  </a:lnTo>
                  <a:lnTo>
                    <a:pt x="574" y="217"/>
                  </a:lnTo>
                  <a:lnTo>
                    <a:pt x="580" y="155"/>
                  </a:lnTo>
                  <a:lnTo>
                    <a:pt x="580" y="155"/>
                  </a:lnTo>
                  <a:lnTo>
                    <a:pt x="653" y="155"/>
                  </a:lnTo>
                  <a:lnTo>
                    <a:pt x="507" y="0"/>
                  </a:lnTo>
                  <a:lnTo>
                    <a:pt x="366" y="155"/>
                  </a:lnTo>
                  <a:lnTo>
                    <a:pt x="433" y="155"/>
                  </a:lnTo>
                  <a:lnTo>
                    <a:pt x="433" y="155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61000" y="4030200"/>
              <a:ext cx="167112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Rivalidad de 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competidor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actual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3070080" y="4844880"/>
            <a:ext cx="1839960" cy="1120680"/>
            <a:chOff x="3070080" y="4844880"/>
            <a:chExt cx="1839960" cy="1120680"/>
          </a:xfrm>
        </p:grpSpPr>
        <p:sp>
          <p:nvSpPr>
            <p:cNvPr id="236" name=""/>
            <p:cNvSpPr/>
            <p:nvPr/>
          </p:nvSpPr>
          <p:spPr>
            <a:xfrm>
              <a:off x="3070080" y="5275080"/>
              <a:ext cx="156888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Amenaza de 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Sustituc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56080" y="4844880"/>
              <a:ext cx="453960" cy="1120680"/>
            </a:xfrm>
            <a:prstGeom prst="upArrow">
              <a:avLst>
                <a:gd name="adj1" fmla="val 50000"/>
                <a:gd name="adj2" fmla="val 61694"/>
              </a:avLst>
            </a:prstGeom>
            <a:solidFill>
              <a:srgbClr val="0000ff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721120" y="3378240"/>
            <a:ext cx="1986480" cy="1316880"/>
            <a:chOff x="5721120" y="3378240"/>
            <a:chExt cx="1986480" cy="1316880"/>
          </a:xfrm>
        </p:grpSpPr>
        <p:sp>
          <p:nvSpPr>
            <p:cNvPr id="239" name=""/>
            <p:cNvSpPr/>
            <p:nvPr/>
          </p:nvSpPr>
          <p:spPr>
            <a:xfrm>
              <a:off x="5721120" y="3903840"/>
              <a:ext cx="198648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Poder de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Negociac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de Comprador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789520" y="3378240"/>
              <a:ext cx="1149480" cy="415800"/>
            </a:xfrm>
            <a:prstGeom prst="leftArrow">
              <a:avLst>
                <a:gd name="adj1" fmla="val 50000"/>
                <a:gd name="adj2" fmla="val 69087"/>
              </a:avLst>
            </a:prstGeom>
            <a:solidFill>
              <a:srgbClr val="0000ff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826920" y="304920"/>
            <a:ext cx="76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Elementos de la estructura de la industria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08040" y="79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0000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17524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Comic Sans MS"/>
              </a:rPr>
              <a:t>Amenaza de nuevos participant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432080" y="793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84360" y="565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76720" y="3828960"/>
            <a:ext cx="1333440" cy="274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75360" y="3881520"/>
            <a:ext cx="1136520" cy="263988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Marketing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Vent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43280" y="3828960"/>
            <a:ext cx="1333440" cy="274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41920" y="3881520"/>
            <a:ext cx="1136520" cy="263988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Logístic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d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Salid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409840" y="3828960"/>
            <a:ext cx="1333440" cy="274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08120" y="3881520"/>
            <a:ext cx="1136880" cy="263988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Operacion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76400" y="3828960"/>
            <a:ext cx="1333440" cy="274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74680" y="3881520"/>
            <a:ext cx="1136880" cy="263988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Logístic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d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Entrad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410160" y="3838320"/>
            <a:ext cx="2187720" cy="2732400"/>
            <a:chOff x="6410160" y="3838320"/>
            <a:chExt cx="2187720" cy="2732400"/>
          </a:xfrm>
        </p:grpSpPr>
        <p:sp>
          <p:nvSpPr>
            <p:cNvPr id="256" name=""/>
            <p:cNvSpPr/>
            <p:nvPr/>
          </p:nvSpPr>
          <p:spPr>
            <a:xfrm flipV="1">
              <a:off x="7748640" y="3838320"/>
              <a:ext cx="849240" cy="27320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10160" y="6570720"/>
              <a:ext cx="13478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27680" y="5103720"/>
              <a:ext cx="1079640" cy="29808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Servicio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076400" y="1083960"/>
            <a:ext cx="6657840" cy="695160"/>
            <a:chOff x="1076400" y="1083960"/>
            <a:chExt cx="6657840" cy="695160"/>
          </a:xfrm>
        </p:grpSpPr>
        <p:sp>
          <p:nvSpPr>
            <p:cNvPr id="260" name=""/>
            <p:cNvSpPr/>
            <p:nvPr/>
          </p:nvSpPr>
          <p:spPr>
            <a:xfrm>
              <a:off x="3074400" y="1212840"/>
              <a:ext cx="3296880" cy="43524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Infraestructura de la Firma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076400" y="1083960"/>
              <a:ext cx="0" cy="6951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77840" y="1085760"/>
              <a:ext cx="66564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076400" y="1769760"/>
            <a:ext cx="6877080" cy="695160"/>
            <a:chOff x="1076400" y="1769760"/>
            <a:chExt cx="6877080" cy="695160"/>
          </a:xfrm>
        </p:grpSpPr>
        <p:sp>
          <p:nvSpPr>
            <p:cNvPr id="264" name=""/>
            <p:cNvSpPr/>
            <p:nvPr/>
          </p:nvSpPr>
          <p:spPr>
            <a:xfrm>
              <a:off x="6411960" y="1771560"/>
              <a:ext cx="15415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75600" y="1898640"/>
              <a:ext cx="3620160" cy="43524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Manejo de Recursos Humano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1076400" y="1769760"/>
              <a:ext cx="5343480" cy="695160"/>
              <a:chOff x="1076400" y="1769760"/>
              <a:chExt cx="5343480" cy="695160"/>
            </a:xfrm>
          </p:grpSpPr>
          <p:sp>
            <p:nvSpPr>
              <p:cNvPr id="267" name=""/>
              <p:cNvSpPr/>
              <p:nvPr/>
            </p:nvSpPr>
            <p:spPr>
              <a:xfrm flipV="1">
                <a:off x="1076400" y="1769760"/>
                <a:ext cx="0" cy="69516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077840" y="1771560"/>
                <a:ext cx="534204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9" name=""/>
          <p:cNvGrpSpPr/>
          <p:nvPr/>
        </p:nvGrpSpPr>
        <p:grpSpPr>
          <a:xfrm>
            <a:off x="1076400" y="2455560"/>
            <a:ext cx="7105680" cy="695160"/>
            <a:chOff x="1076400" y="2455560"/>
            <a:chExt cx="7105680" cy="695160"/>
          </a:xfrm>
        </p:grpSpPr>
        <p:sp>
          <p:nvSpPr>
            <p:cNvPr id="270" name=""/>
            <p:cNvSpPr/>
            <p:nvPr/>
          </p:nvSpPr>
          <p:spPr>
            <a:xfrm>
              <a:off x="6411960" y="2457360"/>
              <a:ext cx="17701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84200" y="2546280"/>
              <a:ext cx="3016800" cy="43524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Desarrollo de Tecnología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1076400" y="2455560"/>
              <a:ext cx="5343480" cy="695160"/>
              <a:chOff x="1076400" y="2455560"/>
              <a:chExt cx="5343480" cy="69516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1076400" y="2455560"/>
                <a:ext cx="0" cy="69516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077840" y="2457360"/>
                <a:ext cx="534204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1076400" y="3141360"/>
            <a:ext cx="7524720" cy="695160"/>
            <a:chOff x="1076400" y="3141360"/>
            <a:chExt cx="7524720" cy="695160"/>
          </a:xfrm>
        </p:grpSpPr>
        <p:sp>
          <p:nvSpPr>
            <p:cNvPr id="276" name=""/>
            <p:cNvSpPr/>
            <p:nvPr/>
          </p:nvSpPr>
          <p:spPr>
            <a:xfrm>
              <a:off x="6411960" y="3828960"/>
              <a:ext cx="21891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11960" y="3143160"/>
              <a:ext cx="19605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08640" y="3251160"/>
              <a:ext cx="1768320" cy="43524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Adquisicion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1076400" y="3141360"/>
              <a:ext cx="5343480" cy="695160"/>
              <a:chOff x="1076400" y="3141360"/>
              <a:chExt cx="5343480" cy="695160"/>
            </a:xfrm>
          </p:grpSpPr>
          <p:sp>
            <p:nvSpPr>
              <p:cNvPr id="280" name=""/>
              <p:cNvSpPr/>
              <p:nvPr/>
            </p:nvSpPr>
            <p:spPr>
              <a:xfrm flipV="1">
                <a:off x="1076400" y="3141360"/>
                <a:ext cx="0" cy="69516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077840" y="3143160"/>
                <a:ext cx="534204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2409840" y="1773360"/>
            <a:ext cx="4000320" cy="2055600"/>
            <a:chOff x="2409840" y="1773360"/>
            <a:chExt cx="4000320" cy="2055600"/>
          </a:xfrm>
        </p:grpSpPr>
        <p:sp>
          <p:nvSpPr>
            <p:cNvPr id="283" name=""/>
            <p:cNvSpPr/>
            <p:nvPr/>
          </p:nvSpPr>
          <p:spPr>
            <a:xfrm flipV="1">
              <a:off x="5076720" y="1773360"/>
              <a:ext cx="0" cy="204624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743280" y="1782720"/>
              <a:ext cx="0" cy="204624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2409840" y="1782720"/>
              <a:ext cx="0" cy="204624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410160" y="1773360"/>
              <a:ext cx="0" cy="204624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7736040" y="1085760"/>
            <a:ext cx="1188720" cy="5486400"/>
            <a:chOff x="7736040" y="1085760"/>
            <a:chExt cx="1188720" cy="5486400"/>
          </a:xfrm>
        </p:grpSpPr>
        <p:sp>
          <p:nvSpPr>
            <p:cNvPr id="288" name=""/>
            <p:cNvSpPr/>
            <p:nvPr/>
          </p:nvSpPr>
          <p:spPr>
            <a:xfrm flipV="1">
              <a:off x="8077320" y="3828600"/>
              <a:ext cx="846000" cy="2724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754760" y="1087560"/>
              <a:ext cx="846360" cy="27414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78760" y="1096920"/>
              <a:ext cx="846000" cy="27417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36040" y="1085760"/>
              <a:ext cx="350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54760" y="6572160"/>
              <a:ext cx="3510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258920" y="333360"/>
            <a:ext cx="695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Análisis Interno: Cadena de Valor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4440000">
            <a:off x="7765560" y="217008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Marge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6420000">
            <a:off x="7765560" y="505080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Marge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8305560" cy="51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d4d4d"/>
                </a:solidFill>
                <a:latin typeface="Verdana"/>
              </a:rPr>
              <a:t>Nota Control (40%):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2 controles y un examen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130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d4d4d"/>
                </a:solidFill>
                <a:latin typeface="Verdana"/>
              </a:rPr>
              <a:t>Nota Tareas (30%):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3 tareas durante el semestr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130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d4d4d"/>
                </a:solidFill>
                <a:latin typeface="Verdana"/>
              </a:rPr>
              <a:t>Nota Controles de Lectura (30%):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se realizarán 7 controles de lectura cortos y se elimina una nota. No se puede eliminar el últim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ES_tradnl" sz="2600" spc="-1" strike="noStrike">
                <a:solidFill>
                  <a:srgbClr val="4d4d4d"/>
                </a:solidFill>
                <a:latin typeface="Verdana"/>
              </a:rPr>
              <a:t>IMPORTANTE: CADA NOTA DEBE SER MAYOR O AL MENOS IGUAL A 4.0 PARA APROBAR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04920" y="1211400"/>
            <a:ext cx="861048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a segmentación del negocio, el atractivo de la industria (análisis externo) y la evaluación de las capacidades competitivas (análisis interno) tienen como objetivo la definición de la posición del negocio dentro de la industria.</a:t>
            </a: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a idea es buscar una ventaja competitiva, que se traduce en un nivel de rentabilidad por sobre el promedio de la industria.</a:t>
            </a: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Se identifican dos estrategias genéricas (categorías de estrategias) para alcanzar una ventaja competitiva sostenible:</a:t>
            </a: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84320" y="5267160"/>
            <a:ext cx="3116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buClr>
                <a:srgbClr val="4d4d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4d4d4d"/>
                </a:solidFill>
                <a:latin typeface="Arial"/>
              </a:rPr>
              <a:t>Liderazgo en costo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4d4d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4d4d4d"/>
                </a:solidFill>
                <a:latin typeface="Arial"/>
              </a:rPr>
              <a:t>Diferencia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267080" y="458136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cc3300"/>
                </a:solidFill>
                <a:latin typeface="Verdana"/>
              </a:rPr>
              <a:t>Estrategias Competitivas Genérica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04920" y="457200"/>
            <a:ext cx="8534160" cy="59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s-ES_tradnl" sz="2400" spc="-1" strike="noStrike" u="sng">
                <a:solidFill>
                  <a:srgbClr val="4d4d4d"/>
                </a:solidFill>
                <a:uFillTx/>
                <a:latin typeface="Verdana"/>
              </a:rPr>
              <a:t>Liderazgo general en costos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: requiere la construcción de instalaciones a escala eficiente; reducción de costos en producción, gastos generales, I&amp;D, servicio, equipo de ventas, publicidad; evitar clientes marginales; etc. El margen se obtiene reduciendo el costo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4d4d4d"/>
                </a:solidFill>
                <a:uFillTx/>
                <a:latin typeface="Verdana"/>
              </a:rPr>
              <a:t> </a:t>
            </a:r>
            <a:r>
              <a:rPr b="0" i="1" lang="es-ES_tradnl" sz="2400" spc="-1" strike="noStrike" u="sng">
                <a:solidFill>
                  <a:srgbClr val="4d4d4d"/>
                </a:solidFill>
                <a:uFillTx/>
                <a:latin typeface="Verdana"/>
              </a:rPr>
              <a:t>Diferenciación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: exige la creación de algo que sea percibido como singular a través de toda la industria. Diseño de producto, imagen de marca, tecnología, servicio al cliente, cobertura, etc. El margen se obtiene aumentando el precio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n ambos casos puede existir </a:t>
            </a:r>
            <a:r>
              <a:rPr b="0" i="1" lang="es-ES_tradnl" sz="2400" spc="-1" strike="noStrike" u="sng">
                <a:solidFill>
                  <a:srgbClr val="4d4d4d"/>
                </a:solidFill>
                <a:uFillTx/>
                <a:latin typeface="Verdana"/>
              </a:rPr>
              <a:t>Focalización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: concentrarse en un grupo particular de compradores (segmento de mercado), productos o ámbito geográfico. Hay focalización tanto en diferenciación como en liderazgo en costos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454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008000"/>
                </a:solidFill>
                <a:uFillTx/>
                <a:latin typeface="Verdana"/>
              </a:rPr>
              <a:t>1. Según para quien se evalú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proyectos afectan de diferente manera a los agentes involucrados, quienes tienen, por lo general, diferentes objetivos e intereses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or ejemplo: Proyecto de vertedero para las comunas del centro-sur de Santiago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Inversionist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Municipalidade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Vecinos de municipalidade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Vecinos del sector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aí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8422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Evaluación Privada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: se realiza desde la perspectiva de un agente económico privado o individual (persona, empresa, grupo, etc.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rentabilidad del proyecto, con independencia de quien provee los fon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rentabilidad de los recursos propios invertidos (dueño del proyecto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capacidad del proyecto para enfrentar compromisos de pago de las deudas (bancos, acreedore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Evaluación Social</a:t>
            </a:r>
            <a:r>
              <a:rPr b="0" i="1" lang="es-CL" sz="2200" spc="-1" strike="noStrike">
                <a:solidFill>
                  <a:srgbClr val="4d4d4d"/>
                </a:solidFill>
                <a:latin typeface="Verdana"/>
              </a:rPr>
              <a:t>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 realiza desde la perspectiva del conjunto del país (sociedad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2. Según el momento en que se realice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8000"/>
                </a:solidFill>
                <a:latin typeface="Verdana"/>
              </a:rPr>
              <a:t>Ex Ante: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se realiza en el período de preinversión, entrega una recomendación sobre la conveniencia de realizar el proyect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8000"/>
                </a:solidFill>
                <a:latin typeface="Verdana"/>
              </a:rPr>
              <a:t>Ex Post: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se realiza una vez ejecutado el proyecto, sirve para estimar los verdaderos beneficios del proyecto, encontrar las fuentes de error y generar aprendizaje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3. Según la finalidad de la inversió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Proyectos que buscan crear nuevos negocios o empresa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Proyectos que buscan evaluar un cambio, mejora o modernización en una empresa existente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4. Según la forma de evaluar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Tradicional o monocriterio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un solo objetivo, generalmente riqueza. Requiere que cada beneficio y costo sea identificado, medido y valorad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Multicriterio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tiene más de un objetivo, riqueza, distribución del ingreso, salud de los habitantes….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EJM: ¿cuánto vale el beneficio por menor pérdida de vidas humanas asociado a poner un semáforo en un cruce peligroso?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- Valor de la Vida Humana?, infinito?, algunos valen más que otros?...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- semáforo: 5 millones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Multicriterio: accidentes disminuyen de 15 por año a 2 por año: 5 millones/13 vidas humanas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No sirve para ver conveniencia, sino para comparar alternativas.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95168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Cualquiera sea la profundidad con que se evalúe un proyecto, se distinguen dos etapas: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8000"/>
                </a:solidFill>
                <a:uFillTx/>
                <a:latin typeface="Verdana"/>
              </a:rPr>
              <a:t>Formulación y preparación: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 Identificar los beneficios y costos del proyecto y calcular su magnitud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Recopilar (crear) y estimar información (estudios de mercado, técnico,  legal, organizacional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Construcción del flujo de caj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8000"/>
                </a:solidFill>
                <a:uFillTx/>
                <a:latin typeface="Verdana"/>
              </a:rPr>
              <a:t>Evaluación</a:t>
            </a:r>
            <a:r>
              <a:rPr b="1" lang="es-CL" sz="2400" spc="-1" strike="noStrike">
                <a:solidFill>
                  <a:srgbClr val="008000"/>
                </a:solidFill>
                <a:latin typeface="Verdana"/>
              </a:rPr>
              <a:t>: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 a partir del flujo de caja, medir la rentabilidad de la inversión en el proyecto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Dos etapas en la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Resumen Ejecu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tecedentes General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álisis del Merc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Diagnóstico y Optimización Situación Actu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Soluciones Propuest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álisis de alternativ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Evaluación económic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Resumen y conclusion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ex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323640" y="1196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) Antecedentes gener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Ámbito o sector productivo del proyect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Ubicación de la zona geográfica del estudio y sus características (culturales, económicas, políticas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Identificación de segmentos producto - mercad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Características generales de los gestores del proyecto (aspectos organizacionales, marco legal, cultura organizativa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Otras informaciones  relevantes 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trevistas con expertos en el tem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pilación bibliográfic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Aft>
                <a:spcPts val="25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5,5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Tareas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es de Lectura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ximi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792504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b)</a:t>
            </a: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Análisis del Mercado: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8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Oferta</a:t>
            </a:r>
            <a:r>
              <a:rPr b="0" lang="es-CL" sz="26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Especificación de los productos</a:t>
            </a:r>
            <a:r>
              <a:rPr b="0" lang="es-CL" sz="2500" spc="-1" strike="noStrike">
                <a:solidFill>
                  <a:srgbClr val="4d4d4d"/>
                </a:solidFill>
                <a:latin typeface="Verdana"/>
              </a:rPr>
              <a:t> ofertados</a:t>
            </a: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Oferta histórica y sus factores de incidencia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Políticas y métodos de tarificación y precio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Oferta actual y proyeccione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Localización y concentración de la oferta.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Cobertura geográfica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Restricciones de disponibilidad de recurso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histórica y factores de incidenci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actual y proyeccione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gmentación de la 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calización de la 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Concentración de la demanda (por áreas geográficas, por segmentos, por ingreso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Tipo de consumo (residencial, comercial, industrial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ste punto debe ser desarrollado con una visión más global y sistemática utilizando un enfoque de planificación estratégica. Este permite abordar el proyecto desde una perspectiva estratégica en lugar de una perspectiva táctica - operativa.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) Diagnóstic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Antecedentes generales + análisis del mercado  </a:t>
            </a:r>
            <a:r>
              <a:rPr b="0" lang="es-CL" sz="2100" spc="-1" strike="noStrike">
                <a:solidFill>
                  <a:srgbClr val="4d4d4d"/>
                </a:solidFill>
                <a:latin typeface="Wingdings"/>
                <a:ea typeface="Wingdings"/>
              </a:rPr>
              <a:t>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s-ES" sz="2100" spc="-1" strike="noStrike">
                <a:solidFill>
                  <a:srgbClr val="4d4d4d"/>
                </a:solidFill>
                <a:latin typeface="Verdana"/>
              </a:rPr>
              <a:t>definición de situación sin proyecto.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jemplos diagnóstico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 (1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insatisfecha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2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ala calidad de los servicio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) Optimización de la situación actu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s beneficios netos de se obtienen comparando la situación con proyecto con la sin proyecto optimizada (situación base), evitando que se asignen al proyecto beneficios que no  corresponde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jemplo de optimizaciones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(1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Rediseño de procesos y reingeniería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2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ejoras en la gestión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3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odificaciones que impliquen inversiones marginale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 debe considerar como parte de la situación base aquellos proyectos sustitutos y/o complementarios sobre los que se haya decidido su ejecución, y que se estime razonablemente que serán implementados (también se les debe considerar en la situación con proyecto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e)  Generación de alternativas 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as alternativas generadas deben 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ermitir solucionar y/o aprovechar las oportunidades identificadas en el diagnóstic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técnicamente factib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económicamente factib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fundamentalmente distintas entre sí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comparables en términos de resulta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10920" y="1196640"/>
            <a:ext cx="785340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f) Selección (preselección) de alternativ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 deberá analizar la conveniencia de las distintas alternativas comparándolas entre sí de acuerdo a criterios técnicos y económic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Para la alternativa seleccionada se debe analizar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Tamaño óptimo d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Localización óptima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Momento óptimo para realizar 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rediseño (obras civiles, equipamiento, insumo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755640" y="1268280"/>
            <a:ext cx="80834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a) Estimación de beneficios y cos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a estimación de beneficios y costos es un proceso de tres pasos sucesivos: Identificación / Medición / Valoración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pende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n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del agente que hace la estimación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rivad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irectos, indirec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uantificables (valorables), no cuantificab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oci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irectos, indirec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uantificables, no cuantificab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Externalidad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8026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s 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beneficios y costos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cuantificables deben ser estimados según algún numerario común (normalmente $ de hoy), los no cuantificables deben ser identificados y medidos en las unidades que resulte pertinente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Ejemplo : beneficio no (o menos) cuantificable de un proyecto de semaforización : disminución de accidente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b) Cálculo de indicad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Valor presente neto (VPN o VAN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Tasa interna de retorno (TIR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Período de recuperación del capital (PRC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Otr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80978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) Financiamien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Análisis de las distintas alternativas, se deberá analizar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orcentajes de capital propio vs. Deuda.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olicitud de préstam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Emisión de bon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Emisión de accion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7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 finalizar el curso los alumnos serán capaces de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Estimar beneficios y costos relevantes en un proyecto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Formular, preparar y evaluar proyectos de inversión y nuevos negocios en el marco de una economía de mercado. 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Elaborar recomendaciones fundadas sobre los proyectos que evalúen, apoyando la toma de decisiones de inversión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just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 General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10920" y="126792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ormulación de Proyect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temáticas Financier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aboración del Flujo de Caja Priv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es de Evalu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ptimiz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de Proyectos bajo Incertidumbr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Social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ontenid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421000"/>
            <a:ext cx="79200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. Formulación de Proyectos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84080" y="1617480"/>
            <a:ext cx="7780320" cy="33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400" spc="-1" strike="noStrike">
                <a:solidFill>
                  <a:srgbClr val="4d4d4d"/>
                </a:solidFill>
                <a:latin typeface="Verdana"/>
              </a:rPr>
              <a:t>Aprender a identificar y definir proyectos,  organizando secuencialmente el proceso de evaluación de un proyecto de inversión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84080" y="1196640"/>
            <a:ext cx="778032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Concepto de Proyecto, contexto de mercado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La formulación y evaluación de proyectos: ciclo de vida de un proyecto, niveles de evaluación. 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Tipos de evaluación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Tipos de proyectos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Presentación de proyectos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ontenid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Codelco</cp:lastModifiedBy>
  <cp:lastPrinted>2002-11-13T13:47:55Z</cp:lastPrinted>
  <dcterms:modified xsi:type="dcterms:W3CDTF">2007-07-30T15:35:35Z</dcterms:modified>
  <cp:revision>371</cp:revision>
  <dc:subject/>
  <dc:title>Formulación de Proyectos</dc:title>
</cp:coreProperties>
</file>