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5F1E2-6E62-48AE-A4A6-F83F90DA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67F0F-A3F0-42E7-B250-AF98A284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7A184-9979-46E0-AD14-A2750674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64F23-F5D4-49DA-8B1B-04B507DE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338F4-3BDA-4EE5-9696-F51551C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C9F6F-8759-4EB5-8FC9-AB756A23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13CDA-87D3-4DFB-BAD5-A5E9E1D8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15F80-2A36-472F-B379-582B31A6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68C1B-3841-4642-A5E6-F3D8615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126E9-B258-4D49-9B2C-20E739B0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C97E-87F7-4C40-BDCF-65B46A06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9A23A-F135-4DE5-8531-7B63D4B8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1C5-B93D-4CCD-A7FB-E6D0308AFE8C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30T15:35:35Z</dcterms:modified>
  <cp:revision>371</cp:revision>
  <dc:subject/>
  <dc:title>Formulación de Proyectos</dc:title>
</cp:coreProperties>
</file>