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041D3-8117-410E-8C15-20BAFA34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7A8BC2-750D-43F1-8235-F654508A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F359A-A964-427E-990B-DE6F39B9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56A7F-1038-43A5-A380-219FF4E8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AF002-7A92-4BAD-9253-0A8FD87B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C821C-E704-4827-88B8-11EE423E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52F59-8194-4E26-895F-29519540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0DB4-3C2F-4DE0-8348-F00BD159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24010-27BE-4572-AD95-CECA42B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B6D03-9A09-4579-8FDA-911239A8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E35A0-253C-4681-8FE3-9A969EA8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350F4-7FC1-429F-BBB2-A85FF601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3046-83F8-4A3B-A7D3-59054B1CCF23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307960" y="4292640"/>
            <a:ext cx="4568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Prof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ndrés Kettlun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Jorge Montecin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Aux.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Iván Espinoz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Coord. 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Karla Carrasc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yectos de Inversión: Formulación y Evaluación. </a:t>
            </a:r>
            <a:r>
              <a:rPr b="0" lang="es-ES" sz="3000" spc="-1" strike="noStrike">
                <a:solidFill>
                  <a:srgbClr val="4d4d4d"/>
                </a:solidFill>
                <a:latin typeface="Verdana"/>
              </a:rPr>
              <a:t>1a. ed., Nassir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apag. Capítulo 1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ibliografí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11360" y="1528560"/>
            <a:ext cx="7783200" cy="417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1" i="1" lang="es-ES_tradnl" sz="2900" spc="-1" strike="noStrike">
                <a:solidFill>
                  <a:srgbClr val="4d4d4d"/>
                </a:solidFill>
                <a:latin typeface="Verdana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1700" spc="-1" strike="noStrike">
                <a:solidFill>
                  <a:srgbClr val="4d4d4d"/>
                </a:solidFill>
                <a:latin typeface="Verdana"/>
              </a:rPr>
              <a:t>(Preparación y Evaluación de Proyectos, Sapag y Sapag)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11360" y="1196640"/>
            <a:ext cx="7783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i="1" lang="es-ES_tradnl" sz="2600" spc="-1" strike="noStrike">
                <a:solidFill>
                  <a:srgbClr val="008000"/>
                </a:solidFill>
                <a:latin typeface="Verdana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8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Reemplazo de una tecnología obsolet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lantación y tala de un bosque de pi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nzar un nuevo produ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Mejoramiento de una carreter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 rot="5400000">
            <a:off x="-1601640" y="3454200"/>
            <a:ext cx="4816440" cy="346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a3b2c1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cc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Factores Productivos</a:t>
            </a:r>
            <a:endParaRPr b="0" lang="en-US" sz="2400" spc="1" strike="noStrike">
              <a:ln w="9360">
                <a:solidFill>
                  <a:srgbClr val="a3b2c1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ffffcc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5654520" y="3306600"/>
            <a:ext cx="2313000" cy="578160"/>
          </a:xfrm>
          <a:custGeom>
            <a:avLst/>
            <a:gdLst>
              <a:gd name="textAreaLeft" fmla="*/ 289080 w 2313000"/>
              <a:gd name="textAreaRight" fmla="*/ 2023920 w 231300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a3b2c1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Bienes y Servici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18280" y="1398600"/>
            <a:ext cx="1014120" cy="133020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ffcc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0780200">
            <a:off x="5314680" y="4346640"/>
            <a:ext cx="1015920" cy="1386000"/>
          </a:xfrm>
          <a:custGeom>
            <a:avLst/>
            <a:gdLst>
              <a:gd name="textAreaLeft" fmla="*/ 360 w 1015920"/>
              <a:gd name="textAreaRight" fmla="*/ 1016640 w 1015920"/>
              <a:gd name="textAreaTop" fmla="*/ 0 h 1386000"/>
              <a:gd name="textAreaBottom" fmla="*/ 1386360 h 138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672" stAng="10800000" swAng="5400000"/>
                <a:lnTo>
                  <a:pt x="16065" y="3488"/>
                </a:lnTo>
                <a:lnTo>
                  <a:pt x="16065" y="0"/>
                </a:lnTo>
                <a:lnTo>
                  <a:pt x="21600" y="6079"/>
                </a:lnTo>
                <a:lnTo>
                  <a:pt x="16065" y="12158"/>
                </a:lnTo>
                <a:lnTo>
                  <a:pt x="16065" y="8670"/>
                </a:lnTo>
                <a:lnTo>
                  <a:pt x="12427" y="8670"/>
                </a:lnTo>
                <a:arcTo wR="7245" hR="3490" stAng="16200000" swAng="-5400000"/>
                <a:lnTo>
                  <a:pt x="5182" y="21600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49400" y="5457960"/>
            <a:ext cx="554040" cy="191880"/>
          </a:xfrm>
          <a:prstGeom prst="rightArrow">
            <a:avLst>
              <a:gd name="adj1" fmla="val 50000"/>
              <a:gd name="adj2" fmla="val 72186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9560" y="1668600"/>
            <a:ext cx="554040" cy="193680"/>
          </a:xfrm>
          <a:prstGeom prst="rightArrow">
            <a:avLst>
              <a:gd name="adj1" fmla="val 50000"/>
              <a:gd name="adj2" fmla="val 71515"/>
            </a:avLst>
          </a:prstGeom>
          <a:solidFill>
            <a:srgbClr val="ff0000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603440" y="1219320"/>
            <a:ext cx="1523880" cy="1429560"/>
            <a:chOff x="1603440" y="1219320"/>
            <a:chExt cx="1523880" cy="14295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1603440" y="1219320"/>
              <a:ext cx="152388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756800" y="2311560"/>
              <a:ext cx="109368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CAPITAL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24080" y="4879800"/>
            <a:ext cx="2079360" cy="1477800"/>
            <a:chOff x="1324080" y="4879800"/>
            <a:chExt cx="2079360" cy="1477800"/>
          </a:xfrm>
        </p:grpSpPr>
        <p:pic>
          <p:nvPicPr>
            <p:cNvPr id="117" name="" descr=""/>
            <p:cNvPicPr/>
            <p:nvPr/>
          </p:nvPicPr>
          <p:blipFill>
            <a:blip r:embed="rId2"/>
            <a:stretch/>
          </p:blipFill>
          <p:spPr>
            <a:xfrm>
              <a:off x="1671120" y="4879800"/>
              <a:ext cx="138600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324080" y="5776920"/>
              <a:ext cx="207936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HUMANO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651120" y="2695680"/>
            <a:ext cx="1977840" cy="1743120"/>
            <a:chOff x="3651120" y="2695680"/>
            <a:chExt cx="1977840" cy="1743120"/>
          </a:xfrm>
        </p:grpSpPr>
        <p:sp>
          <p:nvSpPr>
            <p:cNvPr id="120" name=""/>
            <p:cNvSpPr/>
            <p:nvPr/>
          </p:nvSpPr>
          <p:spPr>
            <a:xfrm>
              <a:off x="3680280" y="2728800"/>
              <a:ext cx="1919520" cy="1676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8360" y="2760840"/>
              <a:ext cx="504360" cy="465120"/>
            </a:xfrm>
            <a:custGeom>
              <a:avLst/>
              <a:gdLst/>
              <a:ahLst/>
              <a:rect l="l" t="t" r="r" b="b"/>
              <a:pathLst>
                <a:path w="1006" h="1003">
                  <a:moveTo>
                    <a:pt x="0" y="795"/>
                  </a:moveTo>
                  <a:lnTo>
                    <a:pt x="10" y="774"/>
                  </a:lnTo>
                  <a:lnTo>
                    <a:pt x="19" y="757"/>
                  </a:lnTo>
                  <a:lnTo>
                    <a:pt x="28" y="739"/>
                  </a:lnTo>
                  <a:lnTo>
                    <a:pt x="37" y="722"/>
                  </a:lnTo>
                  <a:lnTo>
                    <a:pt x="48" y="704"/>
                  </a:lnTo>
                  <a:lnTo>
                    <a:pt x="59" y="686"/>
                  </a:lnTo>
                  <a:lnTo>
                    <a:pt x="70" y="669"/>
                  </a:lnTo>
                  <a:lnTo>
                    <a:pt x="80" y="651"/>
                  </a:lnTo>
                  <a:lnTo>
                    <a:pt x="94" y="630"/>
                  </a:lnTo>
                  <a:lnTo>
                    <a:pt x="110" y="610"/>
                  </a:lnTo>
                  <a:lnTo>
                    <a:pt x="122" y="593"/>
                  </a:lnTo>
                  <a:lnTo>
                    <a:pt x="136" y="576"/>
                  </a:lnTo>
                  <a:lnTo>
                    <a:pt x="150" y="556"/>
                  </a:lnTo>
                  <a:lnTo>
                    <a:pt x="166" y="536"/>
                  </a:lnTo>
                  <a:lnTo>
                    <a:pt x="181" y="518"/>
                  </a:lnTo>
                  <a:lnTo>
                    <a:pt x="198" y="498"/>
                  </a:lnTo>
                  <a:lnTo>
                    <a:pt x="213" y="483"/>
                  </a:lnTo>
                  <a:lnTo>
                    <a:pt x="233" y="461"/>
                  </a:lnTo>
                  <a:lnTo>
                    <a:pt x="250" y="442"/>
                  </a:lnTo>
                  <a:lnTo>
                    <a:pt x="267" y="427"/>
                  </a:lnTo>
                  <a:lnTo>
                    <a:pt x="286" y="409"/>
                  </a:lnTo>
                  <a:lnTo>
                    <a:pt x="300" y="396"/>
                  </a:lnTo>
                  <a:lnTo>
                    <a:pt x="318" y="380"/>
                  </a:lnTo>
                  <a:lnTo>
                    <a:pt x="337" y="365"/>
                  </a:lnTo>
                  <a:lnTo>
                    <a:pt x="359" y="348"/>
                  </a:lnTo>
                  <a:lnTo>
                    <a:pt x="377" y="334"/>
                  </a:lnTo>
                  <a:lnTo>
                    <a:pt x="397" y="317"/>
                  </a:lnTo>
                  <a:lnTo>
                    <a:pt x="422" y="300"/>
                  </a:lnTo>
                  <a:lnTo>
                    <a:pt x="444" y="283"/>
                  </a:lnTo>
                  <a:lnTo>
                    <a:pt x="469" y="266"/>
                  </a:lnTo>
                  <a:lnTo>
                    <a:pt x="493" y="251"/>
                  </a:lnTo>
                  <a:lnTo>
                    <a:pt x="519" y="237"/>
                  </a:lnTo>
                  <a:lnTo>
                    <a:pt x="546" y="221"/>
                  </a:lnTo>
                  <a:lnTo>
                    <a:pt x="570" y="211"/>
                  </a:lnTo>
                  <a:lnTo>
                    <a:pt x="592" y="198"/>
                  </a:lnTo>
                  <a:lnTo>
                    <a:pt x="618" y="187"/>
                  </a:lnTo>
                  <a:lnTo>
                    <a:pt x="636" y="180"/>
                  </a:lnTo>
                  <a:lnTo>
                    <a:pt x="558" y="0"/>
                  </a:lnTo>
                  <a:lnTo>
                    <a:pt x="1006" y="256"/>
                  </a:lnTo>
                  <a:lnTo>
                    <a:pt x="890" y="788"/>
                  </a:lnTo>
                  <a:lnTo>
                    <a:pt x="817" y="630"/>
                  </a:lnTo>
                  <a:lnTo>
                    <a:pt x="787" y="644"/>
                  </a:lnTo>
                  <a:lnTo>
                    <a:pt x="759" y="660"/>
                  </a:lnTo>
                  <a:lnTo>
                    <a:pt x="728" y="679"/>
                  </a:lnTo>
                  <a:lnTo>
                    <a:pt x="694" y="701"/>
                  </a:lnTo>
                  <a:lnTo>
                    <a:pt x="668" y="721"/>
                  </a:lnTo>
                  <a:lnTo>
                    <a:pt x="642" y="743"/>
                  </a:lnTo>
                  <a:lnTo>
                    <a:pt x="616" y="764"/>
                  </a:lnTo>
                  <a:lnTo>
                    <a:pt x="594" y="786"/>
                  </a:lnTo>
                  <a:lnTo>
                    <a:pt x="574" y="809"/>
                  </a:lnTo>
                  <a:lnTo>
                    <a:pt x="550" y="834"/>
                  </a:lnTo>
                  <a:lnTo>
                    <a:pt x="531" y="858"/>
                  </a:lnTo>
                  <a:lnTo>
                    <a:pt x="511" y="883"/>
                  </a:lnTo>
                  <a:lnTo>
                    <a:pt x="495" y="905"/>
                  </a:lnTo>
                  <a:lnTo>
                    <a:pt x="477" y="935"/>
                  </a:lnTo>
                  <a:lnTo>
                    <a:pt x="460" y="962"/>
                  </a:lnTo>
                  <a:lnTo>
                    <a:pt x="451" y="982"/>
                  </a:lnTo>
                  <a:lnTo>
                    <a:pt x="439" y="1003"/>
                  </a:lnTo>
                  <a:lnTo>
                    <a:pt x="0" y="795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80280" y="3146400"/>
              <a:ext cx="407520" cy="747720"/>
            </a:xfrm>
            <a:custGeom>
              <a:avLst/>
              <a:gdLst/>
              <a:ahLst/>
              <a:rect l="l" t="t" r="r" b="b"/>
              <a:pathLst>
                <a:path w="886" h="1117">
                  <a:moveTo>
                    <a:pt x="886" y="462"/>
                  </a:moveTo>
                  <a:lnTo>
                    <a:pt x="661" y="370"/>
                  </a:lnTo>
                  <a:lnTo>
                    <a:pt x="652" y="391"/>
                  </a:lnTo>
                  <a:lnTo>
                    <a:pt x="646" y="411"/>
                  </a:lnTo>
                  <a:lnTo>
                    <a:pt x="640" y="433"/>
                  </a:lnTo>
                  <a:lnTo>
                    <a:pt x="635" y="457"/>
                  </a:lnTo>
                  <a:lnTo>
                    <a:pt x="628" y="487"/>
                  </a:lnTo>
                  <a:lnTo>
                    <a:pt x="624" y="511"/>
                  </a:lnTo>
                  <a:lnTo>
                    <a:pt x="621" y="538"/>
                  </a:lnTo>
                  <a:lnTo>
                    <a:pt x="618" y="568"/>
                  </a:lnTo>
                  <a:lnTo>
                    <a:pt x="615" y="599"/>
                  </a:lnTo>
                  <a:lnTo>
                    <a:pt x="615" y="655"/>
                  </a:lnTo>
                  <a:lnTo>
                    <a:pt x="617" y="683"/>
                  </a:lnTo>
                  <a:lnTo>
                    <a:pt x="618" y="711"/>
                  </a:lnTo>
                  <a:lnTo>
                    <a:pt x="622" y="738"/>
                  </a:lnTo>
                  <a:lnTo>
                    <a:pt x="627" y="765"/>
                  </a:lnTo>
                  <a:lnTo>
                    <a:pt x="632" y="791"/>
                  </a:lnTo>
                  <a:lnTo>
                    <a:pt x="639" y="822"/>
                  </a:lnTo>
                  <a:lnTo>
                    <a:pt x="648" y="851"/>
                  </a:lnTo>
                  <a:lnTo>
                    <a:pt x="224" y="1117"/>
                  </a:lnTo>
                  <a:lnTo>
                    <a:pt x="215" y="1090"/>
                  </a:lnTo>
                  <a:lnTo>
                    <a:pt x="206" y="1067"/>
                  </a:lnTo>
                  <a:lnTo>
                    <a:pt x="198" y="1045"/>
                  </a:lnTo>
                  <a:lnTo>
                    <a:pt x="190" y="1020"/>
                  </a:lnTo>
                  <a:lnTo>
                    <a:pt x="184" y="999"/>
                  </a:lnTo>
                  <a:lnTo>
                    <a:pt x="176" y="976"/>
                  </a:lnTo>
                  <a:lnTo>
                    <a:pt x="171" y="954"/>
                  </a:lnTo>
                  <a:lnTo>
                    <a:pt x="166" y="933"/>
                  </a:lnTo>
                  <a:lnTo>
                    <a:pt x="161" y="911"/>
                  </a:lnTo>
                  <a:lnTo>
                    <a:pt x="154" y="885"/>
                  </a:lnTo>
                  <a:lnTo>
                    <a:pt x="150" y="858"/>
                  </a:lnTo>
                  <a:lnTo>
                    <a:pt x="145" y="834"/>
                  </a:lnTo>
                  <a:lnTo>
                    <a:pt x="140" y="809"/>
                  </a:lnTo>
                  <a:lnTo>
                    <a:pt x="137" y="781"/>
                  </a:lnTo>
                  <a:lnTo>
                    <a:pt x="135" y="753"/>
                  </a:lnTo>
                  <a:lnTo>
                    <a:pt x="132" y="722"/>
                  </a:lnTo>
                  <a:lnTo>
                    <a:pt x="130" y="693"/>
                  </a:lnTo>
                  <a:lnTo>
                    <a:pt x="130" y="663"/>
                  </a:lnTo>
                  <a:lnTo>
                    <a:pt x="130" y="632"/>
                  </a:lnTo>
                  <a:lnTo>
                    <a:pt x="130" y="593"/>
                  </a:lnTo>
                  <a:lnTo>
                    <a:pt x="131" y="558"/>
                  </a:lnTo>
                  <a:lnTo>
                    <a:pt x="132" y="535"/>
                  </a:lnTo>
                  <a:lnTo>
                    <a:pt x="135" y="506"/>
                  </a:lnTo>
                  <a:lnTo>
                    <a:pt x="137" y="479"/>
                  </a:lnTo>
                  <a:lnTo>
                    <a:pt x="141" y="446"/>
                  </a:lnTo>
                  <a:lnTo>
                    <a:pt x="146" y="418"/>
                  </a:lnTo>
                  <a:lnTo>
                    <a:pt x="152" y="392"/>
                  </a:lnTo>
                  <a:lnTo>
                    <a:pt x="158" y="360"/>
                  </a:lnTo>
                  <a:lnTo>
                    <a:pt x="165" y="334"/>
                  </a:lnTo>
                  <a:lnTo>
                    <a:pt x="171" y="303"/>
                  </a:lnTo>
                  <a:lnTo>
                    <a:pt x="179" y="277"/>
                  </a:lnTo>
                  <a:lnTo>
                    <a:pt x="188" y="248"/>
                  </a:lnTo>
                  <a:lnTo>
                    <a:pt x="197" y="220"/>
                  </a:lnTo>
                  <a:lnTo>
                    <a:pt x="210" y="185"/>
                  </a:lnTo>
                  <a:lnTo>
                    <a:pt x="0" y="97"/>
                  </a:lnTo>
                  <a:lnTo>
                    <a:pt x="552" y="0"/>
                  </a:lnTo>
                  <a:lnTo>
                    <a:pt x="886" y="46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1120" y="3852720"/>
              <a:ext cx="514440" cy="481320"/>
            </a:xfrm>
            <a:custGeom>
              <a:avLst/>
              <a:gdLst/>
              <a:ahLst/>
              <a:rect l="l" t="t" r="r" b="b"/>
              <a:pathLst>
                <a:path w="1007" h="957">
                  <a:moveTo>
                    <a:pt x="800" y="957"/>
                  </a:moveTo>
                  <a:lnTo>
                    <a:pt x="779" y="946"/>
                  </a:lnTo>
                  <a:lnTo>
                    <a:pt x="762" y="937"/>
                  </a:lnTo>
                  <a:lnTo>
                    <a:pt x="744" y="928"/>
                  </a:lnTo>
                  <a:lnTo>
                    <a:pt x="727" y="919"/>
                  </a:lnTo>
                  <a:lnTo>
                    <a:pt x="709" y="909"/>
                  </a:lnTo>
                  <a:lnTo>
                    <a:pt x="691" y="899"/>
                  </a:lnTo>
                  <a:lnTo>
                    <a:pt x="674" y="887"/>
                  </a:lnTo>
                  <a:lnTo>
                    <a:pt x="656" y="877"/>
                  </a:lnTo>
                  <a:lnTo>
                    <a:pt x="636" y="862"/>
                  </a:lnTo>
                  <a:lnTo>
                    <a:pt x="614" y="848"/>
                  </a:lnTo>
                  <a:lnTo>
                    <a:pt x="597" y="835"/>
                  </a:lnTo>
                  <a:lnTo>
                    <a:pt x="581" y="821"/>
                  </a:lnTo>
                  <a:lnTo>
                    <a:pt x="561" y="807"/>
                  </a:lnTo>
                  <a:lnTo>
                    <a:pt x="540" y="791"/>
                  </a:lnTo>
                  <a:lnTo>
                    <a:pt x="522" y="776"/>
                  </a:lnTo>
                  <a:lnTo>
                    <a:pt x="503" y="759"/>
                  </a:lnTo>
                  <a:lnTo>
                    <a:pt x="487" y="744"/>
                  </a:lnTo>
                  <a:lnTo>
                    <a:pt x="465" y="724"/>
                  </a:lnTo>
                  <a:lnTo>
                    <a:pt x="447" y="707"/>
                  </a:lnTo>
                  <a:lnTo>
                    <a:pt x="432" y="690"/>
                  </a:lnTo>
                  <a:lnTo>
                    <a:pt x="413" y="671"/>
                  </a:lnTo>
                  <a:lnTo>
                    <a:pt x="400" y="656"/>
                  </a:lnTo>
                  <a:lnTo>
                    <a:pt x="385" y="638"/>
                  </a:lnTo>
                  <a:lnTo>
                    <a:pt x="369" y="620"/>
                  </a:lnTo>
                  <a:lnTo>
                    <a:pt x="353" y="598"/>
                  </a:lnTo>
                  <a:lnTo>
                    <a:pt x="337" y="580"/>
                  </a:lnTo>
                  <a:lnTo>
                    <a:pt x="321" y="559"/>
                  </a:lnTo>
                  <a:lnTo>
                    <a:pt x="303" y="535"/>
                  </a:lnTo>
                  <a:lnTo>
                    <a:pt x="288" y="513"/>
                  </a:lnTo>
                  <a:lnTo>
                    <a:pt x="271" y="488"/>
                  </a:lnTo>
                  <a:lnTo>
                    <a:pt x="255" y="463"/>
                  </a:lnTo>
                  <a:lnTo>
                    <a:pt x="241" y="438"/>
                  </a:lnTo>
                  <a:lnTo>
                    <a:pt x="226" y="410"/>
                  </a:lnTo>
                  <a:lnTo>
                    <a:pt x="215" y="387"/>
                  </a:lnTo>
                  <a:lnTo>
                    <a:pt x="202" y="365"/>
                  </a:lnTo>
                  <a:lnTo>
                    <a:pt x="192" y="340"/>
                  </a:lnTo>
                  <a:lnTo>
                    <a:pt x="0" y="431"/>
                  </a:lnTo>
                  <a:lnTo>
                    <a:pt x="316" y="0"/>
                  </a:lnTo>
                  <a:lnTo>
                    <a:pt x="851" y="46"/>
                  </a:lnTo>
                  <a:lnTo>
                    <a:pt x="636" y="142"/>
                  </a:lnTo>
                  <a:lnTo>
                    <a:pt x="649" y="169"/>
                  </a:lnTo>
                  <a:lnTo>
                    <a:pt x="665" y="198"/>
                  </a:lnTo>
                  <a:lnTo>
                    <a:pt x="684" y="229"/>
                  </a:lnTo>
                  <a:lnTo>
                    <a:pt x="706" y="263"/>
                  </a:lnTo>
                  <a:lnTo>
                    <a:pt x="726" y="289"/>
                  </a:lnTo>
                  <a:lnTo>
                    <a:pt x="748" y="314"/>
                  </a:lnTo>
                  <a:lnTo>
                    <a:pt x="768" y="340"/>
                  </a:lnTo>
                  <a:lnTo>
                    <a:pt x="790" y="362"/>
                  </a:lnTo>
                  <a:lnTo>
                    <a:pt x="814" y="383"/>
                  </a:lnTo>
                  <a:lnTo>
                    <a:pt x="838" y="406"/>
                  </a:lnTo>
                  <a:lnTo>
                    <a:pt x="863" y="426"/>
                  </a:lnTo>
                  <a:lnTo>
                    <a:pt x="886" y="445"/>
                  </a:lnTo>
                  <a:lnTo>
                    <a:pt x="910" y="462"/>
                  </a:lnTo>
                  <a:lnTo>
                    <a:pt x="938" y="480"/>
                  </a:lnTo>
                  <a:lnTo>
                    <a:pt x="967" y="497"/>
                  </a:lnTo>
                  <a:lnTo>
                    <a:pt x="987" y="506"/>
                  </a:lnTo>
                  <a:lnTo>
                    <a:pt x="1007" y="517"/>
                  </a:lnTo>
                  <a:lnTo>
                    <a:pt x="800" y="957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65560" y="4108320"/>
              <a:ext cx="788760" cy="330480"/>
            </a:xfrm>
            <a:custGeom>
              <a:avLst/>
              <a:gdLst/>
              <a:ahLst/>
              <a:rect l="l" t="t" r="r" b="b"/>
              <a:pathLst>
                <a:path w="1094" h="874">
                  <a:moveTo>
                    <a:pt x="438" y="0"/>
                  </a:moveTo>
                  <a:lnTo>
                    <a:pt x="347" y="225"/>
                  </a:lnTo>
                  <a:lnTo>
                    <a:pt x="368" y="234"/>
                  </a:lnTo>
                  <a:lnTo>
                    <a:pt x="387" y="240"/>
                  </a:lnTo>
                  <a:lnTo>
                    <a:pt x="409" y="246"/>
                  </a:lnTo>
                  <a:lnTo>
                    <a:pt x="434" y="252"/>
                  </a:lnTo>
                  <a:lnTo>
                    <a:pt x="463" y="258"/>
                  </a:lnTo>
                  <a:lnTo>
                    <a:pt x="489" y="262"/>
                  </a:lnTo>
                  <a:lnTo>
                    <a:pt x="514" y="265"/>
                  </a:lnTo>
                  <a:lnTo>
                    <a:pt x="544" y="269"/>
                  </a:lnTo>
                  <a:lnTo>
                    <a:pt x="575" y="272"/>
                  </a:lnTo>
                  <a:lnTo>
                    <a:pt x="631" y="272"/>
                  </a:lnTo>
                  <a:lnTo>
                    <a:pt x="661" y="271"/>
                  </a:lnTo>
                  <a:lnTo>
                    <a:pt x="687" y="268"/>
                  </a:lnTo>
                  <a:lnTo>
                    <a:pt x="714" y="264"/>
                  </a:lnTo>
                  <a:lnTo>
                    <a:pt x="742" y="259"/>
                  </a:lnTo>
                  <a:lnTo>
                    <a:pt x="767" y="255"/>
                  </a:lnTo>
                  <a:lnTo>
                    <a:pt x="798" y="247"/>
                  </a:lnTo>
                  <a:lnTo>
                    <a:pt x="827" y="238"/>
                  </a:lnTo>
                  <a:lnTo>
                    <a:pt x="1094" y="660"/>
                  </a:lnTo>
                  <a:lnTo>
                    <a:pt x="1068" y="671"/>
                  </a:lnTo>
                  <a:lnTo>
                    <a:pt x="1043" y="680"/>
                  </a:lnTo>
                  <a:lnTo>
                    <a:pt x="1021" y="688"/>
                  </a:lnTo>
                  <a:lnTo>
                    <a:pt x="998" y="695"/>
                  </a:lnTo>
                  <a:lnTo>
                    <a:pt x="976" y="702"/>
                  </a:lnTo>
                  <a:lnTo>
                    <a:pt x="952" y="710"/>
                  </a:lnTo>
                  <a:lnTo>
                    <a:pt x="932" y="715"/>
                  </a:lnTo>
                  <a:lnTo>
                    <a:pt x="910" y="720"/>
                  </a:lnTo>
                  <a:lnTo>
                    <a:pt x="888" y="725"/>
                  </a:lnTo>
                  <a:lnTo>
                    <a:pt x="863" y="732"/>
                  </a:lnTo>
                  <a:lnTo>
                    <a:pt x="834" y="736"/>
                  </a:lnTo>
                  <a:lnTo>
                    <a:pt x="811" y="741"/>
                  </a:lnTo>
                  <a:lnTo>
                    <a:pt x="785" y="746"/>
                  </a:lnTo>
                  <a:lnTo>
                    <a:pt x="758" y="750"/>
                  </a:lnTo>
                  <a:lnTo>
                    <a:pt x="730" y="752"/>
                  </a:lnTo>
                  <a:lnTo>
                    <a:pt x="698" y="754"/>
                  </a:lnTo>
                  <a:lnTo>
                    <a:pt x="669" y="756"/>
                  </a:lnTo>
                  <a:lnTo>
                    <a:pt x="640" y="756"/>
                  </a:lnTo>
                  <a:lnTo>
                    <a:pt x="609" y="756"/>
                  </a:lnTo>
                  <a:lnTo>
                    <a:pt x="570" y="756"/>
                  </a:lnTo>
                  <a:lnTo>
                    <a:pt x="535" y="755"/>
                  </a:lnTo>
                  <a:lnTo>
                    <a:pt x="511" y="754"/>
                  </a:lnTo>
                  <a:lnTo>
                    <a:pt x="483" y="752"/>
                  </a:lnTo>
                  <a:lnTo>
                    <a:pt x="455" y="750"/>
                  </a:lnTo>
                  <a:lnTo>
                    <a:pt x="422" y="745"/>
                  </a:lnTo>
                  <a:lnTo>
                    <a:pt x="395" y="739"/>
                  </a:lnTo>
                  <a:lnTo>
                    <a:pt x="368" y="736"/>
                  </a:lnTo>
                  <a:lnTo>
                    <a:pt x="336" y="728"/>
                  </a:lnTo>
                  <a:lnTo>
                    <a:pt x="311" y="721"/>
                  </a:lnTo>
                  <a:lnTo>
                    <a:pt x="280" y="715"/>
                  </a:lnTo>
                  <a:lnTo>
                    <a:pt x="253" y="707"/>
                  </a:lnTo>
                  <a:lnTo>
                    <a:pt x="226" y="699"/>
                  </a:lnTo>
                  <a:lnTo>
                    <a:pt x="197" y="689"/>
                  </a:lnTo>
                  <a:lnTo>
                    <a:pt x="162" y="676"/>
                  </a:lnTo>
                  <a:lnTo>
                    <a:pt x="79" y="874"/>
                  </a:lnTo>
                  <a:lnTo>
                    <a:pt x="0" y="313"/>
                  </a:lnTo>
                  <a:lnTo>
                    <a:pt x="43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29480" y="3916440"/>
              <a:ext cx="454320" cy="522360"/>
            </a:xfrm>
            <a:custGeom>
              <a:avLst/>
              <a:gdLst/>
              <a:ahLst/>
              <a:rect l="l" t="t" r="r" b="b"/>
              <a:pathLst>
                <a:path w="950" h="949">
                  <a:moveTo>
                    <a:pt x="950" y="208"/>
                  </a:moveTo>
                  <a:lnTo>
                    <a:pt x="938" y="229"/>
                  </a:lnTo>
                  <a:lnTo>
                    <a:pt x="930" y="246"/>
                  </a:lnTo>
                  <a:lnTo>
                    <a:pt x="920" y="264"/>
                  </a:lnTo>
                  <a:lnTo>
                    <a:pt x="912" y="281"/>
                  </a:lnTo>
                  <a:lnTo>
                    <a:pt x="902" y="299"/>
                  </a:lnTo>
                  <a:lnTo>
                    <a:pt x="890" y="317"/>
                  </a:lnTo>
                  <a:lnTo>
                    <a:pt x="880" y="334"/>
                  </a:lnTo>
                  <a:lnTo>
                    <a:pt x="868" y="352"/>
                  </a:lnTo>
                  <a:lnTo>
                    <a:pt x="854" y="372"/>
                  </a:lnTo>
                  <a:lnTo>
                    <a:pt x="840" y="392"/>
                  </a:lnTo>
                  <a:lnTo>
                    <a:pt x="828" y="409"/>
                  </a:lnTo>
                  <a:lnTo>
                    <a:pt x="814" y="426"/>
                  </a:lnTo>
                  <a:lnTo>
                    <a:pt x="798" y="447"/>
                  </a:lnTo>
                  <a:lnTo>
                    <a:pt x="783" y="467"/>
                  </a:lnTo>
                  <a:lnTo>
                    <a:pt x="767" y="486"/>
                  </a:lnTo>
                  <a:lnTo>
                    <a:pt x="750" y="505"/>
                  </a:lnTo>
                  <a:lnTo>
                    <a:pt x="736" y="521"/>
                  </a:lnTo>
                  <a:lnTo>
                    <a:pt x="715" y="543"/>
                  </a:lnTo>
                  <a:lnTo>
                    <a:pt x="698" y="561"/>
                  </a:lnTo>
                  <a:lnTo>
                    <a:pt x="682" y="576"/>
                  </a:lnTo>
                  <a:lnTo>
                    <a:pt x="662" y="594"/>
                  </a:lnTo>
                  <a:lnTo>
                    <a:pt x="648" y="607"/>
                  </a:lnTo>
                  <a:lnTo>
                    <a:pt x="630" y="623"/>
                  </a:lnTo>
                  <a:lnTo>
                    <a:pt x="612" y="638"/>
                  </a:lnTo>
                  <a:lnTo>
                    <a:pt x="591" y="655"/>
                  </a:lnTo>
                  <a:lnTo>
                    <a:pt x="573" y="670"/>
                  </a:lnTo>
                  <a:lnTo>
                    <a:pt x="552" y="685"/>
                  </a:lnTo>
                  <a:lnTo>
                    <a:pt x="526" y="703"/>
                  </a:lnTo>
                  <a:lnTo>
                    <a:pt x="504" y="719"/>
                  </a:lnTo>
                  <a:lnTo>
                    <a:pt x="481" y="736"/>
                  </a:lnTo>
                  <a:lnTo>
                    <a:pt x="456" y="752"/>
                  </a:lnTo>
                  <a:lnTo>
                    <a:pt x="430" y="767"/>
                  </a:lnTo>
                  <a:lnTo>
                    <a:pt x="561" y="949"/>
                  </a:lnTo>
                  <a:lnTo>
                    <a:pt x="39" y="715"/>
                  </a:lnTo>
                  <a:lnTo>
                    <a:pt x="0" y="251"/>
                  </a:lnTo>
                  <a:lnTo>
                    <a:pt x="109" y="382"/>
                  </a:lnTo>
                  <a:lnTo>
                    <a:pt x="134" y="370"/>
                  </a:lnTo>
                  <a:lnTo>
                    <a:pt x="158" y="357"/>
                  </a:lnTo>
                  <a:lnTo>
                    <a:pt x="191" y="342"/>
                  </a:lnTo>
                  <a:lnTo>
                    <a:pt x="222" y="324"/>
                  </a:lnTo>
                  <a:lnTo>
                    <a:pt x="254" y="302"/>
                  </a:lnTo>
                  <a:lnTo>
                    <a:pt x="281" y="282"/>
                  </a:lnTo>
                  <a:lnTo>
                    <a:pt x="307" y="260"/>
                  </a:lnTo>
                  <a:lnTo>
                    <a:pt x="333" y="238"/>
                  </a:lnTo>
                  <a:lnTo>
                    <a:pt x="354" y="218"/>
                  </a:lnTo>
                  <a:lnTo>
                    <a:pt x="376" y="194"/>
                  </a:lnTo>
                  <a:lnTo>
                    <a:pt x="399" y="168"/>
                  </a:lnTo>
                  <a:lnTo>
                    <a:pt x="419" y="145"/>
                  </a:lnTo>
                  <a:lnTo>
                    <a:pt x="438" y="120"/>
                  </a:lnTo>
                  <a:lnTo>
                    <a:pt x="455" y="98"/>
                  </a:lnTo>
                  <a:lnTo>
                    <a:pt x="473" y="69"/>
                  </a:lnTo>
                  <a:lnTo>
                    <a:pt x="490" y="41"/>
                  </a:lnTo>
                  <a:lnTo>
                    <a:pt x="499" y="21"/>
                  </a:lnTo>
                  <a:lnTo>
                    <a:pt x="508" y="0"/>
                  </a:lnTo>
                  <a:lnTo>
                    <a:pt x="950" y="208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6480" y="3273480"/>
              <a:ext cx="492480" cy="741240"/>
            </a:xfrm>
            <a:custGeom>
              <a:avLst/>
              <a:gdLst/>
              <a:ahLst/>
              <a:rect l="l" t="t" r="r" b="b"/>
              <a:pathLst>
                <a:path w="875" h="1104">
                  <a:moveTo>
                    <a:pt x="0" y="702"/>
                  </a:moveTo>
                  <a:lnTo>
                    <a:pt x="217" y="783"/>
                  </a:lnTo>
                  <a:lnTo>
                    <a:pt x="229" y="756"/>
                  </a:lnTo>
                  <a:lnTo>
                    <a:pt x="238" y="730"/>
                  </a:lnTo>
                  <a:lnTo>
                    <a:pt x="244" y="706"/>
                  </a:lnTo>
                  <a:lnTo>
                    <a:pt x="251" y="683"/>
                  </a:lnTo>
                  <a:lnTo>
                    <a:pt x="257" y="659"/>
                  </a:lnTo>
                  <a:lnTo>
                    <a:pt x="263" y="630"/>
                  </a:lnTo>
                  <a:lnTo>
                    <a:pt x="266" y="604"/>
                  </a:lnTo>
                  <a:lnTo>
                    <a:pt x="270" y="579"/>
                  </a:lnTo>
                  <a:lnTo>
                    <a:pt x="274" y="549"/>
                  </a:lnTo>
                  <a:lnTo>
                    <a:pt x="276" y="518"/>
                  </a:lnTo>
                  <a:lnTo>
                    <a:pt x="276" y="462"/>
                  </a:lnTo>
                  <a:lnTo>
                    <a:pt x="274" y="432"/>
                  </a:lnTo>
                  <a:lnTo>
                    <a:pt x="273" y="406"/>
                  </a:lnTo>
                  <a:lnTo>
                    <a:pt x="269" y="379"/>
                  </a:lnTo>
                  <a:lnTo>
                    <a:pt x="264" y="351"/>
                  </a:lnTo>
                  <a:lnTo>
                    <a:pt x="259" y="326"/>
                  </a:lnTo>
                  <a:lnTo>
                    <a:pt x="252" y="295"/>
                  </a:lnTo>
                  <a:lnTo>
                    <a:pt x="243" y="265"/>
                  </a:lnTo>
                  <a:lnTo>
                    <a:pt x="665" y="0"/>
                  </a:lnTo>
                  <a:lnTo>
                    <a:pt x="676" y="26"/>
                  </a:lnTo>
                  <a:lnTo>
                    <a:pt x="685" y="50"/>
                  </a:lnTo>
                  <a:lnTo>
                    <a:pt x="693" y="72"/>
                  </a:lnTo>
                  <a:lnTo>
                    <a:pt x="700" y="96"/>
                  </a:lnTo>
                  <a:lnTo>
                    <a:pt x="707" y="118"/>
                  </a:lnTo>
                  <a:lnTo>
                    <a:pt x="715" y="141"/>
                  </a:lnTo>
                  <a:lnTo>
                    <a:pt x="720" y="162"/>
                  </a:lnTo>
                  <a:lnTo>
                    <a:pt x="725" y="184"/>
                  </a:lnTo>
                  <a:lnTo>
                    <a:pt x="730" y="206"/>
                  </a:lnTo>
                  <a:lnTo>
                    <a:pt x="737" y="230"/>
                  </a:lnTo>
                  <a:lnTo>
                    <a:pt x="741" y="259"/>
                  </a:lnTo>
                  <a:lnTo>
                    <a:pt x="746" y="282"/>
                  </a:lnTo>
                  <a:lnTo>
                    <a:pt x="751" y="308"/>
                  </a:lnTo>
                  <a:lnTo>
                    <a:pt x="755" y="335"/>
                  </a:lnTo>
                  <a:lnTo>
                    <a:pt x="756" y="364"/>
                  </a:lnTo>
                  <a:lnTo>
                    <a:pt x="759" y="395"/>
                  </a:lnTo>
                  <a:lnTo>
                    <a:pt x="761" y="424"/>
                  </a:lnTo>
                  <a:lnTo>
                    <a:pt x="761" y="453"/>
                  </a:lnTo>
                  <a:lnTo>
                    <a:pt x="761" y="484"/>
                  </a:lnTo>
                  <a:lnTo>
                    <a:pt x="761" y="523"/>
                  </a:lnTo>
                  <a:lnTo>
                    <a:pt x="760" y="558"/>
                  </a:lnTo>
                  <a:lnTo>
                    <a:pt x="759" y="582"/>
                  </a:lnTo>
                  <a:lnTo>
                    <a:pt x="756" y="610"/>
                  </a:lnTo>
                  <a:lnTo>
                    <a:pt x="755" y="638"/>
                  </a:lnTo>
                  <a:lnTo>
                    <a:pt x="750" y="671"/>
                  </a:lnTo>
                  <a:lnTo>
                    <a:pt x="745" y="698"/>
                  </a:lnTo>
                  <a:lnTo>
                    <a:pt x="739" y="725"/>
                  </a:lnTo>
                  <a:lnTo>
                    <a:pt x="733" y="757"/>
                  </a:lnTo>
                  <a:lnTo>
                    <a:pt x="726" y="782"/>
                  </a:lnTo>
                  <a:lnTo>
                    <a:pt x="720" y="813"/>
                  </a:lnTo>
                  <a:lnTo>
                    <a:pt x="712" y="840"/>
                  </a:lnTo>
                  <a:lnTo>
                    <a:pt x="703" y="867"/>
                  </a:lnTo>
                  <a:lnTo>
                    <a:pt x="694" y="896"/>
                  </a:lnTo>
                  <a:lnTo>
                    <a:pt x="682" y="931"/>
                  </a:lnTo>
                  <a:lnTo>
                    <a:pt x="669" y="966"/>
                  </a:lnTo>
                  <a:lnTo>
                    <a:pt x="875" y="1050"/>
                  </a:lnTo>
                  <a:lnTo>
                    <a:pt x="358" y="1104"/>
                  </a:lnTo>
                  <a:lnTo>
                    <a:pt x="0" y="702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98600" y="2824200"/>
              <a:ext cx="552600" cy="466560"/>
            </a:xfrm>
            <a:custGeom>
              <a:avLst/>
              <a:gdLst/>
              <a:ahLst/>
              <a:rect l="l" t="t" r="r" b="b"/>
              <a:pathLst>
                <a:path w="1025" h="975">
                  <a:moveTo>
                    <a:pt x="208" y="0"/>
                  </a:moveTo>
                  <a:lnTo>
                    <a:pt x="229" y="10"/>
                  </a:lnTo>
                  <a:lnTo>
                    <a:pt x="246" y="19"/>
                  </a:lnTo>
                  <a:lnTo>
                    <a:pt x="264" y="28"/>
                  </a:lnTo>
                  <a:lnTo>
                    <a:pt x="281" y="37"/>
                  </a:lnTo>
                  <a:lnTo>
                    <a:pt x="299" y="48"/>
                  </a:lnTo>
                  <a:lnTo>
                    <a:pt x="316" y="59"/>
                  </a:lnTo>
                  <a:lnTo>
                    <a:pt x="333" y="70"/>
                  </a:lnTo>
                  <a:lnTo>
                    <a:pt x="350" y="80"/>
                  </a:lnTo>
                  <a:lnTo>
                    <a:pt x="370" y="94"/>
                  </a:lnTo>
                  <a:lnTo>
                    <a:pt x="392" y="110"/>
                  </a:lnTo>
                  <a:lnTo>
                    <a:pt x="409" y="121"/>
                  </a:lnTo>
                  <a:lnTo>
                    <a:pt x="426" y="136"/>
                  </a:lnTo>
                  <a:lnTo>
                    <a:pt x="447" y="150"/>
                  </a:lnTo>
                  <a:lnTo>
                    <a:pt x="468" y="165"/>
                  </a:lnTo>
                  <a:lnTo>
                    <a:pt x="486" y="181"/>
                  </a:lnTo>
                  <a:lnTo>
                    <a:pt x="504" y="198"/>
                  </a:lnTo>
                  <a:lnTo>
                    <a:pt x="521" y="213"/>
                  </a:lnTo>
                  <a:lnTo>
                    <a:pt x="541" y="233"/>
                  </a:lnTo>
                  <a:lnTo>
                    <a:pt x="560" y="250"/>
                  </a:lnTo>
                  <a:lnTo>
                    <a:pt x="575" y="266"/>
                  </a:lnTo>
                  <a:lnTo>
                    <a:pt x="593" y="286"/>
                  </a:lnTo>
                  <a:lnTo>
                    <a:pt x="608" y="300"/>
                  </a:lnTo>
                  <a:lnTo>
                    <a:pt x="623" y="318"/>
                  </a:lnTo>
                  <a:lnTo>
                    <a:pt x="639" y="336"/>
                  </a:lnTo>
                  <a:lnTo>
                    <a:pt x="655" y="358"/>
                  </a:lnTo>
                  <a:lnTo>
                    <a:pt x="670" y="376"/>
                  </a:lnTo>
                  <a:lnTo>
                    <a:pt x="685" y="397"/>
                  </a:lnTo>
                  <a:lnTo>
                    <a:pt x="703" y="422"/>
                  </a:lnTo>
                  <a:lnTo>
                    <a:pt x="719" y="444"/>
                  </a:lnTo>
                  <a:lnTo>
                    <a:pt x="736" y="468"/>
                  </a:lnTo>
                  <a:lnTo>
                    <a:pt x="751" y="493"/>
                  </a:lnTo>
                  <a:lnTo>
                    <a:pt x="766" y="519"/>
                  </a:lnTo>
                  <a:lnTo>
                    <a:pt x="781" y="546"/>
                  </a:lnTo>
                  <a:lnTo>
                    <a:pt x="793" y="569"/>
                  </a:lnTo>
                  <a:lnTo>
                    <a:pt x="804" y="591"/>
                  </a:lnTo>
                  <a:lnTo>
                    <a:pt x="815" y="617"/>
                  </a:lnTo>
                  <a:lnTo>
                    <a:pt x="821" y="635"/>
                  </a:lnTo>
                  <a:lnTo>
                    <a:pt x="1025" y="555"/>
                  </a:lnTo>
                  <a:lnTo>
                    <a:pt x="709" y="975"/>
                  </a:lnTo>
                  <a:lnTo>
                    <a:pt x="149" y="906"/>
                  </a:lnTo>
                  <a:lnTo>
                    <a:pt x="370" y="817"/>
                  </a:lnTo>
                  <a:lnTo>
                    <a:pt x="356" y="787"/>
                  </a:lnTo>
                  <a:lnTo>
                    <a:pt x="342" y="759"/>
                  </a:lnTo>
                  <a:lnTo>
                    <a:pt x="322" y="727"/>
                  </a:lnTo>
                  <a:lnTo>
                    <a:pt x="300" y="695"/>
                  </a:lnTo>
                  <a:lnTo>
                    <a:pt x="281" y="668"/>
                  </a:lnTo>
                  <a:lnTo>
                    <a:pt x="260" y="642"/>
                  </a:lnTo>
                  <a:lnTo>
                    <a:pt x="238" y="616"/>
                  </a:lnTo>
                  <a:lnTo>
                    <a:pt x="216" y="594"/>
                  </a:lnTo>
                  <a:lnTo>
                    <a:pt x="194" y="573"/>
                  </a:lnTo>
                  <a:lnTo>
                    <a:pt x="168" y="550"/>
                  </a:lnTo>
                  <a:lnTo>
                    <a:pt x="144" y="531"/>
                  </a:lnTo>
                  <a:lnTo>
                    <a:pt x="120" y="511"/>
                  </a:lnTo>
                  <a:lnTo>
                    <a:pt x="97" y="494"/>
                  </a:lnTo>
                  <a:lnTo>
                    <a:pt x="69" y="476"/>
                  </a:lnTo>
                  <a:lnTo>
                    <a:pt x="40" y="459"/>
                  </a:lnTo>
                  <a:lnTo>
                    <a:pt x="21" y="450"/>
                  </a:lnTo>
                  <a:lnTo>
                    <a:pt x="0" y="439"/>
                  </a:lnTo>
                  <a:lnTo>
                    <a:pt x="20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04880" y="2695680"/>
              <a:ext cx="715320" cy="322200"/>
            </a:xfrm>
            <a:custGeom>
              <a:avLst/>
              <a:gdLst/>
              <a:ahLst/>
              <a:rect l="l" t="t" r="r" b="b"/>
              <a:pathLst>
                <a:path w="991" h="799">
                  <a:moveTo>
                    <a:pt x="529" y="799"/>
                  </a:moveTo>
                  <a:lnTo>
                    <a:pt x="593" y="644"/>
                  </a:lnTo>
                  <a:lnTo>
                    <a:pt x="573" y="637"/>
                  </a:lnTo>
                  <a:lnTo>
                    <a:pt x="549" y="632"/>
                  </a:lnTo>
                  <a:lnTo>
                    <a:pt x="520" y="625"/>
                  </a:lnTo>
                  <a:lnTo>
                    <a:pt x="495" y="622"/>
                  </a:lnTo>
                  <a:lnTo>
                    <a:pt x="468" y="618"/>
                  </a:lnTo>
                  <a:lnTo>
                    <a:pt x="438" y="615"/>
                  </a:lnTo>
                  <a:lnTo>
                    <a:pt x="407" y="613"/>
                  </a:lnTo>
                  <a:lnTo>
                    <a:pt x="351" y="613"/>
                  </a:lnTo>
                  <a:lnTo>
                    <a:pt x="323" y="614"/>
                  </a:lnTo>
                  <a:lnTo>
                    <a:pt x="296" y="616"/>
                  </a:lnTo>
                  <a:lnTo>
                    <a:pt x="268" y="619"/>
                  </a:lnTo>
                  <a:lnTo>
                    <a:pt x="241" y="624"/>
                  </a:lnTo>
                  <a:lnTo>
                    <a:pt x="215" y="629"/>
                  </a:lnTo>
                  <a:lnTo>
                    <a:pt x="184" y="636"/>
                  </a:lnTo>
                  <a:lnTo>
                    <a:pt x="157" y="645"/>
                  </a:lnTo>
                  <a:lnTo>
                    <a:pt x="228" y="316"/>
                  </a:lnTo>
                  <a:lnTo>
                    <a:pt x="0" y="185"/>
                  </a:lnTo>
                  <a:lnTo>
                    <a:pt x="12" y="181"/>
                  </a:lnTo>
                  <a:lnTo>
                    <a:pt x="35" y="173"/>
                  </a:lnTo>
                  <a:lnTo>
                    <a:pt x="53" y="168"/>
                  </a:lnTo>
                  <a:lnTo>
                    <a:pt x="74" y="162"/>
                  </a:lnTo>
                  <a:lnTo>
                    <a:pt x="99" y="157"/>
                  </a:lnTo>
                  <a:lnTo>
                    <a:pt x="119" y="151"/>
                  </a:lnTo>
                  <a:lnTo>
                    <a:pt x="147" y="145"/>
                  </a:lnTo>
                  <a:lnTo>
                    <a:pt x="170" y="141"/>
                  </a:lnTo>
                  <a:lnTo>
                    <a:pt x="197" y="137"/>
                  </a:lnTo>
                  <a:lnTo>
                    <a:pt x="226" y="133"/>
                  </a:lnTo>
                  <a:lnTo>
                    <a:pt x="253" y="131"/>
                  </a:lnTo>
                  <a:lnTo>
                    <a:pt x="284" y="129"/>
                  </a:lnTo>
                  <a:lnTo>
                    <a:pt x="314" y="127"/>
                  </a:lnTo>
                  <a:lnTo>
                    <a:pt x="343" y="127"/>
                  </a:lnTo>
                  <a:lnTo>
                    <a:pt x="375" y="127"/>
                  </a:lnTo>
                  <a:lnTo>
                    <a:pt x="413" y="127"/>
                  </a:lnTo>
                  <a:lnTo>
                    <a:pt x="448" y="128"/>
                  </a:lnTo>
                  <a:lnTo>
                    <a:pt x="472" y="129"/>
                  </a:lnTo>
                  <a:lnTo>
                    <a:pt x="500" y="132"/>
                  </a:lnTo>
                  <a:lnTo>
                    <a:pt x="527" y="135"/>
                  </a:lnTo>
                  <a:lnTo>
                    <a:pt x="560" y="139"/>
                  </a:lnTo>
                  <a:lnTo>
                    <a:pt x="587" y="144"/>
                  </a:lnTo>
                  <a:lnTo>
                    <a:pt x="613" y="149"/>
                  </a:lnTo>
                  <a:lnTo>
                    <a:pt x="647" y="155"/>
                  </a:lnTo>
                  <a:lnTo>
                    <a:pt x="673" y="162"/>
                  </a:lnTo>
                  <a:lnTo>
                    <a:pt x="704" y="170"/>
                  </a:lnTo>
                  <a:lnTo>
                    <a:pt x="730" y="176"/>
                  </a:lnTo>
                  <a:lnTo>
                    <a:pt x="758" y="185"/>
                  </a:lnTo>
                  <a:lnTo>
                    <a:pt x="787" y="194"/>
                  </a:lnTo>
                  <a:lnTo>
                    <a:pt x="871" y="0"/>
                  </a:lnTo>
                  <a:lnTo>
                    <a:pt x="991" y="541"/>
                  </a:lnTo>
                  <a:lnTo>
                    <a:pt x="529" y="799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cc"/>
                </a:gs>
              </a:gsLst>
              <a:lin ang="5400000"/>
            </a:gra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750840" y="2824200"/>
              <a:ext cx="1724760" cy="1355040"/>
              <a:chOff x="3750840" y="2824200"/>
              <a:chExt cx="1724760" cy="13550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452480" y="3400560"/>
                <a:ext cx="1023120" cy="727920"/>
                <a:chOff x="4452480" y="3400560"/>
                <a:chExt cx="1023120" cy="72792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5142240" y="3582360"/>
                  <a:ext cx="333360" cy="493560"/>
                  <a:chOff x="5142240" y="3582360"/>
                  <a:chExt cx="333360" cy="4935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142240" y="3582360"/>
                    <a:ext cx="333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70" y="22"/>
                        </a:lnTo>
                        <a:lnTo>
                          <a:pt x="498" y="39"/>
                        </a:lnTo>
                        <a:lnTo>
                          <a:pt x="510" y="52"/>
                        </a:lnTo>
                        <a:lnTo>
                          <a:pt x="504" y="115"/>
                        </a:lnTo>
                        <a:lnTo>
                          <a:pt x="501" y="178"/>
                        </a:lnTo>
                        <a:lnTo>
                          <a:pt x="501" y="238"/>
                        </a:lnTo>
                        <a:lnTo>
                          <a:pt x="501" y="286"/>
                        </a:lnTo>
                        <a:lnTo>
                          <a:pt x="503" y="333"/>
                        </a:lnTo>
                        <a:lnTo>
                          <a:pt x="508" y="368"/>
                        </a:lnTo>
                        <a:lnTo>
                          <a:pt x="512" y="401"/>
                        </a:lnTo>
                        <a:lnTo>
                          <a:pt x="517" y="428"/>
                        </a:lnTo>
                        <a:lnTo>
                          <a:pt x="525" y="461"/>
                        </a:lnTo>
                        <a:lnTo>
                          <a:pt x="532" y="490"/>
                        </a:lnTo>
                        <a:lnTo>
                          <a:pt x="539" y="514"/>
                        </a:lnTo>
                        <a:lnTo>
                          <a:pt x="553" y="563"/>
                        </a:lnTo>
                        <a:lnTo>
                          <a:pt x="570" y="618"/>
                        </a:lnTo>
                        <a:lnTo>
                          <a:pt x="594" y="690"/>
                        </a:lnTo>
                        <a:lnTo>
                          <a:pt x="620" y="761"/>
                        </a:lnTo>
                        <a:lnTo>
                          <a:pt x="649" y="831"/>
                        </a:lnTo>
                        <a:lnTo>
                          <a:pt x="665" y="872"/>
                        </a:lnTo>
                        <a:lnTo>
                          <a:pt x="693" y="918"/>
                        </a:lnTo>
                        <a:lnTo>
                          <a:pt x="693" y="1054"/>
                        </a:lnTo>
                        <a:lnTo>
                          <a:pt x="652" y="1073"/>
                        </a:lnTo>
                        <a:lnTo>
                          <a:pt x="607" y="1083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5142240" y="3582360"/>
                    <a:ext cx="261360" cy="49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1108">
                        <a:moveTo>
                          <a:pt x="209" y="48"/>
                        </a:moveTo>
                        <a:lnTo>
                          <a:pt x="234" y="31"/>
                        </a:lnTo>
                        <a:lnTo>
                          <a:pt x="266" y="17"/>
                        </a:lnTo>
                        <a:lnTo>
                          <a:pt x="305" y="3"/>
                        </a:lnTo>
                        <a:lnTo>
                          <a:pt x="343" y="0"/>
                        </a:lnTo>
                        <a:lnTo>
                          <a:pt x="382" y="0"/>
                        </a:lnTo>
                        <a:lnTo>
                          <a:pt x="415" y="3"/>
                        </a:lnTo>
                        <a:lnTo>
                          <a:pt x="439" y="10"/>
                        </a:lnTo>
                        <a:lnTo>
                          <a:pt x="437" y="62"/>
                        </a:lnTo>
                        <a:lnTo>
                          <a:pt x="435" y="113"/>
                        </a:lnTo>
                        <a:lnTo>
                          <a:pt x="433" y="172"/>
                        </a:lnTo>
                        <a:lnTo>
                          <a:pt x="432" y="234"/>
                        </a:lnTo>
                        <a:lnTo>
                          <a:pt x="432" y="289"/>
                        </a:lnTo>
                        <a:lnTo>
                          <a:pt x="431" y="348"/>
                        </a:lnTo>
                        <a:lnTo>
                          <a:pt x="432" y="405"/>
                        </a:lnTo>
                        <a:lnTo>
                          <a:pt x="434" y="450"/>
                        </a:lnTo>
                        <a:lnTo>
                          <a:pt x="437" y="500"/>
                        </a:lnTo>
                        <a:lnTo>
                          <a:pt x="440" y="545"/>
                        </a:lnTo>
                        <a:lnTo>
                          <a:pt x="443" y="586"/>
                        </a:lnTo>
                        <a:lnTo>
                          <a:pt x="449" y="629"/>
                        </a:lnTo>
                        <a:lnTo>
                          <a:pt x="453" y="668"/>
                        </a:lnTo>
                        <a:lnTo>
                          <a:pt x="458" y="707"/>
                        </a:lnTo>
                        <a:lnTo>
                          <a:pt x="466" y="749"/>
                        </a:lnTo>
                        <a:lnTo>
                          <a:pt x="478" y="786"/>
                        </a:lnTo>
                        <a:lnTo>
                          <a:pt x="497" y="846"/>
                        </a:lnTo>
                        <a:lnTo>
                          <a:pt x="519" y="920"/>
                        </a:lnTo>
                        <a:lnTo>
                          <a:pt x="536" y="960"/>
                        </a:lnTo>
                        <a:lnTo>
                          <a:pt x="543" y="992"/>
                        </a:lnTo>
                        <a:lnTo>
                          <a:pt x="543" y="1095"/>
                        </a:lnTo>
                        <a:lnTo>
                          <a:pt x="469" y="1105"/>
                        </a:lnTo>
                        <a:lnTo>
                          <a:pt x="388" y="1108"/>
                        </a:lnTo>
                        <a:lnTo>
                          <a:pt x="292" y="1108"/>
                        </a:lnTo>
                        <a:lnTo>
                          <a:pt x="212" y="1100"/>
                        </a:lnTo>
                        <a:lnTo>
                          <a:pt x="132" y="1091"/>
                        </a:lnTo>
                        <a:lnTo>
                          <a:pt x="76" y="1078"/>
                        </a:lnTo>
                        <a:lnTo>
                          <a:pt x="41" y="1071"/>
                        </a:lnTo>
                        <a:lnTo>
                          <a:pt x="0" y="1050"/>
                        </a:lnTo>
                        <a:lnTo>
                          <a:pt x="0" y="918"/>
                        </a:lnTo>
                        <a:lnTo>
                          <a:pt x="19" y="891"/>
                        </a:lnTo>
                        <a:lnTo>
                          <a:pt x="37" y="850"/>
                        </a:lnTo>
                        <a:lnTo>
                          <a:pt x="57" y="814"/>
                        </a:lnTo>
                        <a:lnTo>
                          <a:pt x="90" y="748"/>
                        </a:lnTo>
                        <a:lnTo>
                          <a:pt x="111" y="693"/>
                        </a:lnTo>
                        <a:lnTo>
                          <a:pt x="132" y="641"/>
                        </a:lnTo>
                        <a:lnTo>
                          <a:pt x="153" y="581"/>
                        </a:lnTo>
                        <a:lnTo>
                          <a:pt x="170" y="524"/>
                        </a:lnTo>
                        <a:lnTo>
                          <a:pt x="189" y="447"/>
                        </a:lnTo>
                        <a:lnTo>
                          <a:pt x="202" y="385"/>
                        </a:lnTo>
                        <a:lnTo>
                          <a:pt x="211" y="326"/>
                        </a:lnTo>
                        <a:lnTo>
                          <a:pt x="218" y="271"/>
                        </a:lnTo>
                        <a:lnTo>
                          <a:pt x="221" y="209"/>
                        </a:lnTo>
                        <a:lnTo>
                          <a:pt x="221" y="151"/>
                        </a:lnTo>
                        <a:lnTo>
                          <a:pt x="218" y="101"/>
                        </a:lnTo>
                        <a:lnTo>
                          <a:pt x="209" y="48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839120" y="3486240"/>
                  <a:ext cx="415800" cy="616680"/>
                  <a:chOff x="4839120" y="3486240"/>
                  <a:chExt cx="415800" cy="6166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4839120" y="3486240"/>
                    <a:ext cx="41580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866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88" y="30"/>
                        </a:lnTo>
                        <a:lnTo>
                          <a:pt x="622" y="50"/>
                        </a:lnTo>
                        <a:lnTo>
                          <a:pt x="638" y="67"/>
                        </a:lnTo>
                        <a:lnTo>
                          <a:pt x="630" y="145"/>
                        </a:lnTo>
                        <a:lnTo>
                          <a:pt x="626" y="222"/>
                        </a:lnTo>
                        <a:lnTo>
                          <a:pt x="626" y="298"/>
                        </a:lnTo>
                        <a:lnTo>
                          <a:pt x="626" y="359"/>
                        </a:lnTo>
                        <a:lnTo>
                          <a:pt x="629" y="416"/>
                        </a:lnTo>
                        <a:lnTo>
                          <a:pt x="634" y="461"/>
                        </a:lnTo>
                        <a:lnTo>
                          <a:pt x="639" y="500"/>
                        </a:lnTo>
                        <a:lnTo>
                          <a:pt x="647" y="534"/>
                        </a:lnTo>
                        <a:lnTo>
                          <a:pt x="656" y="575"/>
                        </a:lnTo>
                        <a:lnTo>
                          <a:pt x="664" y="610"/>
                        </a:lnTo>
                        <a:lnTo>
                          <a:pt x="673" y="642"/>
                        </a:lnTo>
                        <a:lnTo>
                          <a:pt x="691" y="704"/>
                        </a:lnTo>
                        <a:lnTo>
                          <a:pt x="711" y="770"/>
                        </a:lnTo>
                        <a:lnTo>
                          <a:pt x="742" y="859"/>
                        </a:lnTo>
                        <a:lnTo>
                          <a:pt x="775" y="948"/>
                        </a:lnTo>
                        <a:lnTo>
                          <a:pt x="810" y="1037"/>
                        </a:lnTo>
                        <a:lnTo>
                          <a:pt x="830" y="1086"/>
                        </a:lnTo>
                        <a:lnTo>
                          <a:pt x="866" y="1143"/>
                        </a:lnTo>
                        <a:lnTo>
                          <a:pt x="866" y="1314"/>
                        </a:lnTo>
                        <a:lnTo>
                          <a:pt x="814" y="1338"/>
                        </a:lnTo>
                        <a:lnTo>
                          <a:pt x="758" y="1349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839120" y="3486240"/>
                    <a:ext cx="325080" cy="616680"/>
                  </a:xfrm>
                  <a:custGeom>
                    <a:avLst/>
                    <a:gdLst/>
                    <a:ahLst/>
                    <a:rect l="l" t="t" r="r" b="b"/>
                    <a:pathLst>
                      <a:path w="677" h="1381">
                        <a:moveTo>
                          <a:pt x="260" y="61"/>
                        </a:moveTo>
                        <a:lnTo>
                          <a:pt x="293" y="40"/>
                        </a:lnTo>
                        <a:lnTo>
                          <a:pt x="333" y="23"/>
                        </a:lnTo>
                        <a:lnTo>
                          <a:pt x="380" y="6"/>
                        </a:lnTo>
                        <a:lnTo>
                          <a:pt x="428" y="0"/>
                        </a:lnTo>
                        <a:lnTo>
                          <a:pt x="477" y="0"/>
                        </a:lnTo>
                        <a:lnTo>
                          <a:pt x="518" y="5"/>
                        </a:lnTo>
                        <a:lnTo>
                          <a:pt x="549" y="13"/>
                        </a:lnTo>
                        <a:lnTo>
                          <a:pt x="546" y="80"/>
                        </a:lnTo>
                        <a:lnTo>
                          <a:pt x="544" y="142"/>
                        </a:lnTo>
                        <a:lnTo>
                          <a:pt x="541" y="217"/>
                        </a:lnTo>
                        <a:lnTo>
                          <a:pt x="539" y="293"/>
                        </a:lnTo>
                        <a:lnTo>
                          <a:pt x="539" y="363"/>
                        </a:lnTo>
                        <a:lnTo>
                          <a:pt x="539" y="435"/>
                        </a:lnTo>
                        <a:lnTo>
                          <a:pt x="541" y="505"/>
                        </a:lnTo>
                        <a:lnTo>
                          <a:pt x="543" y="561"/>
                        </a:lnTo>
                        <a:lnTo>
                          <a:pt x="547" y="623"/>
                        </a:lnTo>
                        <a:lnTo>
                          <a:pt x="550" y="680"/>
                        </a:lnTo>
                        <a:lnTo>
                          <a:pt x="553" y="729"/>
                        </a:lnTo>
                        <a:lnTo>
                          <a:pt x="560" y="784"/>
                        </a:lnTo>
                        <a:lnTo>
                          <a:pt x="566" y="832"/>
                        </a:lnTo>
                        <a:lnTo>
                          <a:pt x="573" y="882"/>
                        </a:lnTo>
                        <a:lnTo>
                          <a:pt x="583" y="934"/>
                        </a:lnTo>
                        <a:lnTo>
                          <a:pt x="597" y="979"/>
                        </a:lnTo>
                        <a:lnTo>
                          <a:pt x="621" y="1054"/>
                        </a:lnTo>
                        <a:lnTo>
                          <a:pt x="649" y="1146"/>
                        </a:lnTo>
                        <a:lnTo>
                          <a:pt x="669" y="1196"/>
                        </a:lnTo>
                        <a:lnTo>
                          <a:pt x="677" y="1236"/>
                        </a:lnTo>
                        <a:lnTo>
                          <a:pt x="677" y="1364"/>
                        </a:lnTo>
                        <a:lnTo>
                          <a:pt x="586" y="1376"/>
                        </a:lnTo>
                        <a:lnTo>
                          <a:pt x="486" y="1381"/>
                        </a:lnTo>
                        <a:lnTo>
                          <a:pt x="365" y="1381"/>
                        </a:lnTo>
                        <a:lnTo>
                          <a:pt x="264" y="1370"/>
                        </a:lnTo>
                        <a:lnTo>
                          <a:pt x="164" y="1359"/>
                        </a:lnTo>
                        <a:lnTo>
                          <a:pt x="96" y="1343"/>
                        </a:lnTo>
                        <a:lnTo>
                          <a:pt x="52" y="1336"/>
                        </a:lnTo>
                        <a:lnTo>
                          <a:pt x="0" y="1308"/>
                        </a:lnTo>
                        <a:lnTo>
                          <a:pt x="0" y="1143"/>
                        </a:lnTo>
                        <a:lnTo>
                          <a:pt x="24" y="1109"/>
                        </a:lnTo>
                        <a:lnTo>
                          <a:pt x="48" y="1058"/>
                        </a:lnTo>
                        <a:lnTo>
                          <a:pt x="72" y="1014"/>
                        </a:lnTo>
                        <a:lnTo>
                          <a:pt x="112" y="932"/>
                        </a:lnTo>
                        <a:lnTo>
                          <a:pt x="140" y="865"/>
                        </a:lnTo>
                        <a:lnTo>
                          <a:pt x="164" y="798"/>
                        </a:lnTo>
                        <a:lnTo>
                          <a:pt x="191" y="726"/>
                        </a:lnTo>
                        <a:lnTo>
                          <a:pt x="212" y="654"/>
                        </a:lnTo>
                        <a:lnTo>
                          <a:pt x="236" y="560"/>
                        </a:lnTo>
                        <a:lnTo>
                          <a:pt x="254" y="481"/>
                        </a:lnTo>
                        <a:lnTo>
                          <a:pt x="263" y="409"/>
                        </a:lnTo>
                        <a:lnTo>
                          <a:pt x="271" y="339"/>
                        </a:lnTo>
                        <a:lnTo>
                          <a:pt x="276" y="262"/>
                        </a:lnTo>
                        <a:lnTo>
                          <a:pt x="276" y="188"/>
                        </a:lnTo>
                        <a:lnTo>
                          <a:pt x="272" y="128"/>
                        </a:lnTo>
                        <a:lnTo>
                          <a:pt x="260" y="61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452480" y="3400560"/>
                  <a:ext cx="493560" cy="727920"/>
                  <a:chOff x="4452480" y="3400560"/>
                  <a:chExt cx="493560" cy="7279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>
                    <a:off x="4452480" y="3400560"/>
                    <a:ext cx="49356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97" y="35"/>
                        </a:lnTo>
                        <a:lnTo>
                          <a:pt x="737" y="59"/>
                        </a:lnTo>
                        <a:lnTo>
                          <a:pt x="755" y="78"/>
                        </a:lnTo>
                        <a:lnTo>
                          <a:pt x="746" y="171"/>
                        </a:lnTo>
                        <a:lnTo>
                          <a:pt x="741" y="261"/>
                        </a:lnTo>
                        <a:lnTo>
                          <a:pt x="741" y="353"/>
                        </a:lnTo>
                        <a:lnTo>
                          <a:pt x="741" y="424"/>
                        </a:lnTo>
                        <a:lnTo>
                          <a:pt x="745" y="491"/>
                        </a:lnTo>
                        <a:lnTo>
                          <a:pt x="751" y="545"/>
                        </a:lnTo>
                        <a:lnTo>
                          <a:pt x="757" y="592"/>
                        </a:lnTo>
                        <a:lnTo>
                          <a:pt x="765" y="631"/>
                        </a:lnTo>
                        <a:lnTo>
                          <a:pt x="777" y="681"/>
                        </a:lnTo>
                        <a:lnTo>
                          <a:pt x="787" y="722"/>
                        </a:lnTo>
                        <a:lnTo>
                          <a:pt x="796" y="757"/>
                        </a:lnTo>
                        <a:lnTo>
                          <a:pt x="818" y="832"/>
                        </a:lnTo>
                        <a:lnTo>
                          <a:pt x="841" y="909"/>
                        </a:lnTo>
                        <a:lnTo>
                          <a:pt x="878" y="1015"/>
                        </a:lnTo>
                        <a:lnTo>
                          <a:pt x="917" y="1121"/>
                        </a:lnTo>
                        <a:lnTo>
                          <a:pt x="959" y="1226"/>
                        </a:lnTo>
                        <a:lnTo>
                          <a:pt x="983" y="1285"/>
                        </a:lnTo>
                        <a:lnTo>
                          <a:pt x="1026" y="1350"/>
                        </a:lnTo>
                        <a:lnTo>
                          <a:pt x="1026" y="1553"/>
                        </a:lnTo>
                        <a:lnTo>
                          <a:pt x="964" y="1581"/>
                        </a:lnTo>
                        <a:lnTo>
                          <a:pt x="898" y="1594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bfb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452480" y="3400560"/>
                    <a:ext cx="385200" cy="72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1632">
                        <a:moveTo>
                          <a:pt x="309" y="72"/>
                        </a:moveTo>
                        <a:lnTo>
                          <a:pt x="347" y="47"/>
                        </a:lnTo>
                        <a:lnTo>
                          <a:pt x="394" y="25"/>
                        </a:lnTo>
                        <a:lnTo>
                          <a:pt x="451" y="7"/>
                        </a:lnTo>
                        <a:lnTo>
                          <a:pt x="508" y="0"/>
                        </a:lnTo>
                        <a:lnTo>
                          <a:pt x="565" y="0"/>
                        </a:lnTo>
                        <a:lnTo>
                          <a:pt x="612" y="6"/>
                        </a:lnTo>
                        <a:lnTo>
                          <a:pt x="650" y="16"/>
                        </a:lnTo>
                        <a:lnTo>
                          <a:pt x="646" y="93"/>
                        </a:lnTo>
                        <a:lnTo>
                          <a:pt x="643" y="167"/>
                        </a:lnTo>
                        <a:lnTo>
                          <a:pt x="641" y="256"/>
                        </a:lnTo>
                        <a:lnTo>
                          <a:pt x="638" y="347"/>
                        </a:lnTo>
                        <a:lnTo>
                          <a:pt x="637" y="428"/>
                        </a:lnTo>
                        <a:lnTo>
                          <a:pt x="637" y="515"/>
                        </a:lnTo>
                        <a:lnTo>
                          <a:pt x="637" y="596"/>
                        </a:lnTo>
                        <a:lnTo>
                          <a:pt x="642" y="662"/>
                        </a:lnTo>
                        <a:lnTo>
                          <a:pt x="647" y="736"/>
                        </a:lnTo>
                        <a:lnTo>
                          <a:pt x="650" y="803"/>
                        </a:lnTo>
                        <a:lnTo>
                          <a:pt x="655" y="861"/>
                        </a:lnTo>
                        <a:lnTo>
                          <a:pt x="663" y="926"/>
                        </a:lnTo>
                        <a:lnTo>
                          <a:pt x="669" y="983"/>
                        </a:lnTo>
                        <a:lnTo>
                          <a:pt x="677" y="1042"/>
                        </a:lnTo>
                        <a:lnTo>
                          <a:pt x="690" y="1103"/>
                        </a:lnTo>
                        <a:lnTo>
                          <a:pt x="707" y="1156"/>
                        </a:lnTo>
                        <a:lnTo>
                          <a:pt x="736" y="1245"/>
                        </a:lnTo>
                        <a:lnTo>
                          <a:pt x="767" y="1354"/>
                        </a:lnTo>
                        <a:lnTo>
                          <a:pt x="792" y="1415"/>
                        </a:lnTo>
                        <a:lnTo>
                          <a:pt x="802" y="1461"/>
                        </a:lnTo>
                        <a:lnTo>
                          <a:pt x="802" y="1614"/>
                        </a:lnTo>
                        <a:lnTo>
                          <a:pt x="694" y="1627"/>
                        </a:lnTo>
                        <a:lnTo>
                          <a:pt x="575" y="1632"/>
                        </a:lnTo>
                        <a:lnTo>
                          <a:pt x="432" y="1632"/>
                        </a:lnTo>
                        <a:lnTo>
                          <a:pt x="313" y="1620"/>
                        </a:lnTo>
                        <a:lnTo>
                          <a:pt x="194" y="1607"/>
                        </a:lnTo>
                        <a:lnTo>
                          <a:pt x="114" y="1587"/>
                        </a:lnTo>
                        <a:lnTo>
                          <a:pt x="62" y="1579"/>
                        </a:lnTo>
                        <a:lnTo>
                          <a:pt x="0" y="1546"/>
                        </a:lnTo>
                        <a:lnTo>
                          <a:pt x="0" y="1350"/>
                        </a:lnTo>
                        <a:lnTo>
                          <a:pt x="28" y="1310"/>
                        </a:lnTo>
                        <a:lnTo>
                          <a:pt x="56" y="1251"/>
                        </a:lnTo>
                        <a:lnTo>
                          <a:pt x="85" y="1200"/>
                        </a:lnTo>
                        <a:lnTo>
                          <a:pt x="133" y="1101"/>
                        </a:lnTo>
                        <a:lnTo>
                          <a:pt x="165" y="1022"/>
                        </a:lnTo>
                        <a:lnTo>
                          <a:pt x="194" y="943"/>
                        </a:lnTo>
                        <a:lnTo>
                          <a:pt x="227" y="857"/>
                        </a:lnTo>
                        <a:lnTo>
                          <a:pt x="251" y="772"/>
                        </a:lnTo>
                        <a:lnTo>
                          <a:pt x="280" y="661"/>
                        </a:lnTo>
                        <a:lnTo>
                          <a:pt x="301" y="568"/>
                        </a:lnTo>
                        <a:lnTo>
                          <a:pt x="312" y="483"/>
                        </a:lnTo>
                        <a:lnTo>
                          <a:pt x="321" y="401"/>
                        </a:lnTo>
                        <a:lnTo>
                          <a:pt x="327" y="309"/>
                        </a:lnTo>
                        <a:lnTo>
                          <a:pt x="327" y="223"/>
                        </a:lnTo>
                        <a:lnTo>
                          <a:pt x="323" y="150"/>
                        </a:lnTo>
                        <a:lnTo>
                          <a:pt x="309" y="72"/>
                        </a:lnTo>
                        <a:close/>
                      </a:path>
                    </a:pathLst>
                  </a:custGeom>
                  <a:solidFill>
                    <a:srgbClr val="7f7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0" name=""/>
              <p:cNvGrpSpPr/>
              <p:nvPr/>
            </p:nvGrpSpPr>
            <p:grpSpPr>
              <a:xfrm>
                <a:off x="4832280" y="2824200"/>
                <a:ext cx="89640" cy="1280160"/>
                <a:chOff x="4832280" y="2824200"/>
                <a:chExt cx="89640" cy="1280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832280" y="2824200"/>
                  <a:ext cx="89640" cy="53280"/>
                </a:xfrm>
                <a:prstGeom prst="ellipse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32280" y="2849400"/>
                  <a:ext cx="89640" cy="1254960"/>
                </a:xfrm>
                <a:prstGeom prst="rect">
                  <a:avLst/>
                </a:prstGeom>
                <a:solidFill>
                  <a:srgbClr val="ffff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4833720" y="2825280"/>
                  <a:ext cx="87840" cy="1277640"/>
                  <a:chOff x="4833720" y="2825280"/>
                  <a:chExt cx="87840" cy="127764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4833720" y="2825280"/>
                    <a:ext cx="87840" cy="1277640"/>
                    <a:chOff x="4833720" y="2825280"/>
                    <a:chExt cx="87840" cy="12776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4833720" y="2825280"/>
                      <a:ext cx="87840" cy="50760"/>
                    </a:xfrm>
                    <a:prstGeom prst="ellipse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4833720" y="2850480"/>
                      <a:ext cx="87840" cy="1252440"/>
                    </a:xfrm>
                    <a:prstGeom prst="rect">
                      <a:avLst/>
                    </a:prstGeom>
                    <a:solidFill>
                      <a:srgbClr val="bfb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4844880" y="2825280"/>
                    <a:ext cx="50040" cy="1274760"/>
                    <a:chOff x="4844880" y="2825280"/>
                    <a:chExt cx="50040" cy="12747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4844880" y="2825280"/>
                      <a:ext cx="50040" cy="50760"/>
                    </a:xfrm>
                    <a:prstGeom prst="ellipse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4844880" y="2850480"/>
                      <a:ext cx="50040" cy="1249560"/>
                    </a:xfrm>
                    <a:prstGeom prst="rect">
                      <a:avLst/>
                    </a:prstGeom>
                    <a:solidFill>
                      <a:srgbClr val="7f7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3750840" y="3526560"/>
                <a:ext cx="1371600" cy="652680"/>
                <a:chOff x="3750840" y="3526560"/>
                <a:chExt cx="1371600" cy="6526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750840" y="4044240"/>
                  <a:ext cx="64800" cy="86760"/>
                </a:xfrm>
                <a:custGeom>
                  <a:avLst/>
                  <a:gdLst/>
                  <a:ahLst/>
                  <a:rect l="l" t="t" r="r" b="b"/>
                  <a:pathLst>
                    <a:path w="134" h="194">
                      <a:moveTo>
                        <a:pt x="134" y="0"/>
                      </a:moveTo>
                      <a:lnTo>
                        <a:pt x="0" y="40"/>
                      </a:lnTo>
                      <a:lnTo>
                        <a:pt x="0" y="107"/>
                      </a:lnTo>
                      <a:lnTo>
                        <a:pt x="21" y="107"/>
                      </a:lnTo>
                      <a:lnTo>
                        <a:pt x="21" y="194"/>
                      </a:lnTo>
                      <a:lnTo>
                        <a:pt x="56" y="194"/>
                      </a:lnTo>
                      <a:lnTo>
                        <a:pt x="56" y="107"/>
                      </a:lnTo>
                      <a:lnTo>
                        <a:pt x="129" y="107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" name=""/>
                <p:cNvGrpSpPr/>
                <p:nvPr/>
              </p:nvGrpSpPr>
              <p:grpSpPr>
                <a:xfrm>
                  <a:off x="3811680" y="3542400"/>
                  <a:ext cx="1266480" cy="618120"/>
                  <a:chOff x="3811680" y="3542400"/>
                  <a:chExt cx="1266480" cy="61812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371480" y="3658320"/>
                    <a:ext cx="706680" cy="495000"/>
                    <a:chOff x="4371480" y="3658320"/>
                    <a:chExt cx="706680" cy="4950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947120" y="4014000"/>
                      <a:ext cx="1310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5" h="220">
                          <a:moveTo>
                            <a:pt x="0" y="55"/>
                          </a:moveTo>
                          <a:lnTo>
                            <a:pt x="84" y="55"/>
                          </a:lnTo>
                          <a:lnTo>
                            <a:pt x="84" y="7"/>
                          </a:lnTo>
                          <a:lnTo>
                            <a:pt x="141" y="0"/>
                          </a:lnTo>
                          <a:lnTo>
                            <a:pt x="141" y="55"/>
                          </a:lnTo>
                          <a:lnTo>
                            <a:pt x="175" y="65"/>
                          </a:lnTo>
                          <a:lnTo>
                            <a:pt x="175" y="27"/>
                          </a:lnTo>
                          <a:lnTo>
                            <a:pt x="226" y="27"/>
                          </a:lnTo>
                          <a:lnTo>
                            <a:pt x="226" y="75"/>
                          </a:lnTo>
                          <a:lnTo>
                            <a:pt x="275" y="94"/>
                          </a:lnTo>
                          <a:lnTo>
                            <a:pt x="275" y="220"/>
                          </a:lnTo>
                          <a:lnTo>
                            <a:pt x="0" y="22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55" name=""/>
                    <p:cNvGrpSpPr/>
                    <p:nvPr/>
                  </p:nvGrpSpPr>
                  <p:grpSpPr>
                    <a:xfrm>
                      <a:off x="4371480" y="3658320"/>
                      <a:ext cx="591480" cy="495000"/>
                      <a:chOff x="4371480" y="3658320"/>
                      <a:chExt cx="591480" cy="495000"/>
                    </a:xfrm>
                  </p:grpSpPr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4857840" y="3840120"/>
                        <a:ext cx="105120" cy="302400"/>
                        <a:chOff x="4857840" y="3840120"/>
                        <a:chExt cx="105120" cy="3024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4857840" y="3840120"/>
                          <a:ext cx="105120" cy="302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9" h="679">
                              <a:moveTo>
                                <a:pt x="0" y="0"/>
                              </a:moveTo>
                              <a:lnTo>
                                <a:pt x="78" y="49"/>
                              </a:lnTo>
                              <a:lnTo>
                                <a:pt x="78" y="137"/>
                              </a:lnTo>
                              <a:lnTo>
                                <a:pt x="170" y="175"/>
                              </a:lnTo>
                              <a:lnTo>
                                <a:pt x="170" y="127"/>
                              </a:lnTo>
                              <a:lnTo>
                                <a:pt x="219" y="146"/>
                              </a:lnTo>
                              <a:lnTo>
                                <a:pt x="219" y="617"/>
                              </a:lnTo>
                              <a:lnTo>
                                <a:pt x="0" y="67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4858920" y="3941640"/>
                          <a:ext cx="50040" cy="190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6" h="425">
                              <a:moveTo>
                                <a:pt x="0" y="0"/>
                              </a:moveTo>
                              <a:lnTo>
                                <a:pt x="106" y="58"/>
                              </a:lnTo>
                              <a:lnTo>
                                <a:pt x="106" y="415"/>
                              </a:lnTo>
                              <a:lnTo>
                                <a:pt x="71" y="425"/>
                              </a:lnTo>
                              <a:lnTo>
                                <a:pt x="71" y="66"/>
                              </a:lnTo>
                              <a:lnTo>
                                <a:pt x="0" y="34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5f5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4371480" y="3658320"/>
                        <a:ext cx="523080" cy="495000"/>
                        <a:chOff x="4371480" y="3658320"/>
                        <a:chExt cx="523080" cy="49500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4371480" y="3658320"/>
                          <a:ext cx="40932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0" h="1111">
                              <a:moveTo>
                                <a:pt x="0" y="240"/>
                              </a:moveTo>
                              <a:lnTo>
                                <a:pt x="850" y="0"/>
                              </a:lnTo>
                              <a:lnTo>
                                <a:pt x="850" y="1111"/>
                              </a:lnTo>
                              <a:lnTo>
                                <a:pt x="0" y="1111"/>
                              </a:lnTo>
                              <a:lnTo>
                                <a:pt x="0" y="24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4779720" y="3658320"/>
                          <a:ext cx="114840" cy="49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9" h="1109">
                              <a:moveTo>
                                <a:pt x="154" y="5"/>
                              </a:moveTo>
                              <a:lnTo>
                                <a:pt x="154" y="53"/>
                              </a:lnTo>
                              <a:lnTo>
                                <a:pt x="0" y="0"/>
                              </a:lnTo>
                              <a:lnTo>
                                <a:pt x="0" y="1109"/>
                              </a:lnTo>
                              <a:lnTo>
                                <a:pt x="161" y="1081"/>
                              </a:lnTo>
                              <a:lnTo>
                                <a:pt x="161" y="238"/>
                              </a:lnTo>
                              <a:lnTo>
                                <a:pt x="239" y="256"/>
                              </a:lnTo>
                              <a:lnTo>
                                <a:pt x="239" y="34"/>
                              </a:lnTo>
                              <a:lnTo>
                                <a:pt x="154" y="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4551840" y="3691800"/>
                        <a:ext cx="88920" cy="363600"/>
                        <a:chOff x="4551840" y="3691800"/>
                        <a:chExt cx="88920" cy="36360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551840" y="3691800"/>
                          <a:ext cx="63360" cy="294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659">
                              <a:moveTo>
                                <a:pt x="134" y="0"/>
                              </a:moveTo>
                              <a:lnTo>
                                <a:pt x="134" y="649"/>
                              </a:lnTo>
                              <a:lnTo>
                                <a:pt x="0" y="659"/>
                              </a:lnTo>
                              <a:lnTo>
                                <a:pt x="0" y="28"/>
                              </a:lnTo>
                              <a:lnTo>
                                <a:pt x="134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4551840" y="3980520"/>
                          <a:ext cx="83520" cy="6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49">
                              <a:moveTo>
                                <a:pt x="0" y="10"/>
                              </a:moveTo>
                              <a:lnTo>
                                <a:pt x="134" y="0"/>
                              </a:lnTo>
                              <a:lnTo>
                                <a:pt x="176" y="146"/>
                              </a:lnTo>
                              <a:lnTo>
                                <a:pt x="59" y="149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0160" bIns="20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" name=""/>
                        <p:cNvSpPr/>
                        <p:nvPr/>
                      </p:nvSpPr>
                      <p:spPr>
                        <a:xfrm>
                          <a:off x="4616280" y="3691800"/>
                          <a:ext cx="24480" cy="363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" h="815">
                              <a:moveTo>
                                <a:pt x="0" y="0"/>
                              </a:moveTo>
                              <a:lnTo>
                                <a:pt x="53" y="5"/>
                              </a:lnTo>
                              <a:lnTo>
                                <a:pt x="53" y="815"/>
                              </a:lnTo>
                              <a:lnTo>
                                <a:pt x="0" y="65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6" name=""/>
                      <p:cNvGrpSpPr/>
                      <p:nvPr/>
                    </p:nvGrpSpPr>
                    <p:grpSpPr>
                      <a:xfrm>
                        <a:off x="4407480" y="3730680"/>
                        <a:ext cx="99000" cy="327240"/>
                        <a:chOff x="4407480" y="3730680"/>
                        <a:chExt cx="99000" cy="327240"/>
                      </a:xfrm>
                    </p:grpSpPr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4471920" y="3730680"/>
                          <a:ext cx="34560" cy="326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" h="732">
                              <a:moveTo>
                                <a:pt x="0" y="0"/>
                              </a:moveTo>
                              <a:lnTo>
                                <a:pt x="0" y="582"/>
                              </a:lnTo>
                              <a:lnTo>
                                <a:pt x="71" y="732"/>
                              </a:lnTo>
                              <a:lnTo>
                                <a:pt x="71" y="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8" name=""/>
                        <p:cNvSpPr/>
                        <p:nvPr/>
                      </p:nvSpPr>
                      <p:spPr>
                        <a:xfrm>
                          <a:off x="4411440" y="3730680"/>
                          <a:ext cx="60480" cy="267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601">
                              <a:moveTo>
                                <a:pt x="0" y="30"/>
                              </a:moveTo>
                              <a:lnTo>
                                <a:pt x="126" y="0"/>
                              </a:lnTo>
                              <a:lnTo>
                                <a:pt x="126" y="592"/>
                              </a:lnTo>
                              <a:lnTo>
                                <a:pt x="0" y="601"/>
                              </a:lnTo>
                              <a:lnTo>
                                <a:pt x="0" y="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407480" y="3989880"/>
                          <a:ext cx="97920" cy="68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4" h="155">
                              <a:moveTo>
                                <a:pt x="0" y="10"/>
                              </a:moveTo>
                              <a:lnTo>
                                <a:pt x="133" y="0"/>
                              </a:lnTo>
                              <a:lnTo>
                                <a:pt x="204" y="155"/>
                              </a:lnTo>
                              <a:lnTo>
                                <a:pt x="69" y="155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240" bIns="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0" name=""/>
                      <p:cNvGrpSpPr/>
                      <p:nvPr/>
                    </p:nvGrpSpPr>
                    <p:grpSpPr>
                      <a:xfrm>
                        <a:off x="4681800" y="3660840"/>
                        <a:ext cx="91800" cy="292680"/>
                        <a:chOff x="4681800" y="3660840"/>
                        <a:chExt cx="91800" cy="292680"/>
                      </a:xfrm>
                    </p:grpSpPr>
                    <p:sp>
                      <p:nvSpPr>
                        <p:cNvPr id="171" name=""/>
                        <p:cNvSpPr/>
                        <p:nvPr/>
                      </p:nvSpPr>
                      <p:spPr>
                        <a:xfrm>
                          <a:off x="4682880" y="3853080"/>
                          <a:ext cx="89280" cy="9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7" h="218">
                              <a:moveTo>
                                <a:pt x="0" y="4"/>
                              </a:moveTo>
                              <a:lnTo>
                                <a:pt x="123" y="0"/>
                              </a:lnTo>
                              <a:lnTo>
                                <a:pt x="187" y="218"/>
                              </a:lnTo>
                              <a:lnTo>
                                <a:pt x="67" y="218"/>
                              </a:lnTo>
                              <a:lnTo>
                                <a:pt x="0" y="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681800" y="3660840"/>
                          <a:ext cx="60480" cy="199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6" h="446">
                              <a:moveTo>
                                <a:pt x="0" y="446"/>
                              </a:moveTo>
                              <a:lnTo>
                                <a:pt x="126" y="426"/>
                              </a:lnTo>
                              <a:lnTo>
                                <a:pt x="126" y="0"/>
                              </a:lnTo>
                              <a:lnTo>
                                <a:pt x="0" y="27"/>
                              </a:lnTo>
                              <a:lnTo>
                                <a:pt x="0" y="44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4740840" y="3660840"/>
                          <a:ext cx="32760" cy="29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655">
                              <a:moveTo>
                                <a:pt x="0" y="0"/>
                              </a:moveTo>
                              <a:lnTo>
                                <a:pt x="0" y="432"/>
                              </a:lnTo>
                              <a:lnTo>
                                <a:pt x="67" y="655"/>
                              </a:lnTo>
                              <a:lnTo>
                                <a:pt x="67" y="1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4540320" y="3714480"/>
                        <a:ext cx="70200" cy="246960"/>
                        <a:chOff x="4540320" y="3714480"/>
                        <a:chExt cx="70200" cy="24696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4540320" y="3714480"/>
                          <a:ext cx="35640" cy="157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7" h="354">
                              <a:moveTo>
                                <a:pt x="0" y="14"/>
                              </a:moveTo>
                              <a:lnTo>
                                <a:pt x="77" y="0"/>
                              </a:lnTo>
                              <a:lnTo>
                                <a:pt x="77" y="354"/>
                              </a:lnTo>
                              <a:lnTo>
                                <a:pt x="0" y="354"/>
                              </a:lnTo>
                              <a:lnTo>
                                <a:pt x="0" y="1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4540320" y="3871800"/>
                          <a:ext cx="68760" cy="8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4" h="198">
                              <a:moveTo>
                                <a:pt x="0" y="0"/>
                              </a:moveTo>
                              <a:lnTo>
                                <a:pt x="77" y="0"/>
                              </a:lnTo>
                              <a:lnTo>
                                <a:pt x="144" y="198"/>
                              </a:lnTo>
                              <a:lnTo>
                                <a:pt x="70" y="1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1040" bIns="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4575960" y="3714480"/>
                          <a:ext cx="34560" cy="246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554">
                              <a:moveTo>
                                <a:pt x="70" y="554"/>
                              </a:moveTo>
                              <a:lnTo>
                                <a:pt x="70" y="24"/>
                              </a:lnTo>
                              <a:lnTo>
                                <a:pt x="0" y="0"/>
                              </a:lnTo>
                              <a:lnTo>
                                <a:pt x="0" y="364"/>
                              </a:lnTo>
                              <a:lnTo>
                                <a:pt x="70" y="5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8" name=""/>
                      <p:cNvGrpSpPr/>
                      <p:nvPr/>
                    </p:nvGrpSpPr>
                    <p:grpSpPr>
                      <a:xfrm>
                        <a:off x="4400280" y="3773520"/>
                        <a:ext cx="65880" cy="194760"/>
                        <a:chOff x="4400280" y="3773520"/>
                        <a:chExt cx="65880" cy="194760"/>
                      </a:xfrm>
                    </p:grpSpPr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4400280" y="3884400"/>
                          <a:ext cx="64440" cy="81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4" h="183">
                              <a:moveTo>
                                <a:pt x="57" y="183"/>
                              </a:moveTo>
                              <a:lnTo>
                                <a:pt x="134" y="183"/>
                              </a:lnTo>
                              <a:lnTo>
                                <a:pt x="77" y="0"/>
                              </a:lnTo>
                              <a:lnTo>
                                <a:pt x="0" y="0"/>
                              </a:lnTo>
                              <a:lnTo>
                                <a:pt x="57" y="18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8080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4560" bIns="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4400280" y="3773520"/>
                          <a:ext cx="38520" cy="110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1" h="249">
                              <a:moveTo>
                                <a:pt x="0" y="249"/>
                              </a:moveTo>
                              <a:lnTo>
                                <a:pt x="77" y="249"/>
                              </a:lnTo>
                              <a:lnTo>
                                <a:pt x="81" y="0"/>
                              </a:lnTo>
                              <a:lnTo>
                                <a:pt x="0" y="16"/>
                              </a:lnTo>
                              <a:lnTo>
                                <a:pt x="0" y="2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b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4437720" y="3776040"/>
                          <a:ext cx="28440" cy="19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432">
                              <a:moveTo>
                                <a:pt x="0" y="0"/>
                              </a:moveTo>
                              <a:lnTo>
                                <a:pt x="0" y="244"/>
                              </a:lnTo>
                              <a:lnTo>
                                <a:pt x="61" y="432"/>
                              </a:lnTo>
                              <a:lnTo>
                                <a:pt x="57" y="5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ffff"/>
                        </a:solidFill>
                        <a:ln w="46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3836160" y="3542400"/>
                    <a:ext cx="546480" cy="618120"/>
                    <a:chOff x="3836160" y="3542400"/>
                    <a:chExt cx="546480" cy="618120"/>
                  </a:xfrm>
                </p:grpSpPr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3836160" y="3542400"/>
                      <a:ext cx="546480" cy="618120"/>
                      <a:chOff x="3836160" y="3542400"/>
                      <a:chExt cx="546480" cy="61812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4276080" y="3709440"/>
                        <a:ext cx="106560" cy="440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3" h="988">
                            <a:moveTo>
                              <a:pt x="62" y="0"/>
                            </a:moveTo>
                            <a:lnTo>
                              <a:pt x="62" y="116"/>
                            </a:lnTo>
                            <a:lnTo>
                              <a:pt x="0" y="97"/>
                            </a:lnTo>
                            <a:lnTo>
                              <a:pt x="0" y="988"/>
                            </a:lnTo>
                            <a:lnTo>
                              <a:pt x="223" y="978"/>
                            </a:lnTo>
                            <a:lnTo>
                              <a:pt x="223" y="116"/>
                            </a:lnTo>
                            <a:lnTo>
                              <a:pt x="62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258800" y="3709440"/>
                        <a:ext cx="46080" cy="73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65">
                            <a:moveTo>
                              <a:pt x="98" y="0"/>
                            </a:moveTo>
                            <a:lnTo>
                              <a:pt x="0" y="30"/>
                            </a:lnTo>
                            <a:lnTo>
                              <a:pt x="0" y="165"/>
                            </a:lnTo>
                            <a:lnTo>
                              <a:pt x="98" y="165"/>
                            </a:lnTo>
                            <a:lnTo>
                              <a:pt x="98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3836160" y="3542400"/>
                        <a:ext cx="292680" cy="61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1" h="1385">
                            <a:moveTo>
                              <a:pt x="0" y="256"/>
                            </a:moveTo>
                            <a:lnTo>
                              <a:pt x="611" y="0"/>
                            </a:lnTo>
                            <a:lnTo>
                              <a:pt x="611" y="1385"/>
                            </a:lnTo>
                            <a:lnTo>
                              <a:pt x="1" y="1360"/>
                            </a:lnTo>
                            <a:lnTo>
                              <a:pt x="0" y="256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>
                        <a:off x="4130280" y="3544920"/>
                        <a:ext cx="148320" cy="61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0" h="1381">
                            <a:moveTo>
                              <a:pt x="0" y="0"/>
                            </a:moveTo>
                            <a:lnTo>
                              <a:pt x="49" y="20"/>
                            </a:lnTo>
                            <a:lnTo>
                              <a:pt x="120" y="10"/>
                            </a:lnTo>
                            <a:lnTo>
                              <a:pt x="191" y="30"/>
                            </a:lnTo>
                            <a:lnTo>
                              <a:pt x="191" y="78"/>
                            </a:lnTo>
                            <a:lnTo>
                              <a:pt x="310" y="140"/>
                            </a:lnTo>
                            <a:lnTo>
                              <a:pt x="310" y="1332"/>
                            </a:lnTo>
                            <a:lnTo>
                              <a:pt x="0" y="138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ff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19280" y="3731040"/>
                      <a:ext cx="5436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45">
                          <a:moveTo>
                            <a:pt x="0" y="0"/>
                          </a:moveTo>
                          <a:lnTo>
                            <a:pt x="0" y="78"/>
                          </a:lnTo>
                          <a:lnTo>
                            <a:pt x="112" y="145"/>
                          </a:lnTo>
                          <a:lnTo>
                            <a:pt x="112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0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3811680" y="3745440"/>
                    <a:ext cx="65880" cy="406800"/>
                    <a:chOff x="3811680" y="3745440"/>
                    <a:chExt cx="65880" cy="40680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3811680" y="3745440"/>
                      <a:ext cx="65880" cy="406800"/>
                      <a:chOff x="3811680" y="3745440"/>
                      <a:chExt cx="65880" cy="406800"/>
                    </a:xfrm>
                  </p:grpSpPr>
                  <p:sp>
                    <p:nvSpPr>
                      <p:cNvPr id="191" name=""/>
                      <p:cNvSpPr/>
                      <p:nvPr/>
                    </p:nvSpPr>
                    <p:spPr>
                      <a:xfrm>
                        <a:off x="3811680" y="3745440"/>
                        <a:ext cx="37080" cy="40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911">
                            <a:moveTo>
                              <a:pt x="0" y="28"/>
                            </a:moveTo>
                            <a:lnTo>
                              <a:pt x="77" y="0"/>
                            </a:lnTo>
                            <a:lnTo>
                              <a:pt x="77" y="911"/>
                            </a:lnTo>
                            <a:lnTo>
                              <a:pt x="0" y="911"/>
                            </a:lnTo>
                            <a:lnTo>
                              <a:pt x="0" y="28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2" name=""/>
                      <p:cNvSpPr/>
                      <p:nvPr/>
                    </p:nvSpPr>
                    <p:spPr>
                      <a:xfrm>
                        <a:off x="3850200" y="3746880"/>
                        <a:ext cx="27360" cy="403560"/>
                      </a:xfrm>
                      <a:prstGeom prst="rect">
                        <a:avLst/>
                      </a:prstGeom>
                      <a:solidFill>
                        <a:srgbClr val="00dfbf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3863160" y="3762720"/>
                      <a:ext cx="360" cy="168840"/>
                      <a:chOff x="3863160" y="3762720"/>
                      <a:chExt cx="360" cy="168840"/>
                    </a:xfrm>
                  </p:grpSpPr>
                  <p:grpSp>
                    <p:nvGrpSpPr>
                      <p:cNvPr id="194" name=""/>
                      <p:cNvGrpSpPr/>
                      <p:nvPr/>
                    </p:nvGrpSpPr>
                    <p:grpSpPr>
                      <a:xfrm>
                        <a:off x="3863160" y="3762720"/>
                        <a:ext cx="360" cy="73440"/>
                        <a:chOff x="3863160" y="3762720"/>
                        <a:chExt cx="360" cy="73440"/>
                      </a:xfrm>
                    </p:grpSpPr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3863160" y="376272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3863160" y="380808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7" name=""/>
                      <p:cNvGrpSpPr/>
                      <p:nvPr/>
                    </p:nvGrpSpPr>
                    <p:grpSpPr>
                      <a:xfrm>
                        <a:off x="3863160" y="3858840"/>
                        <a:ext cx="360" cy="72720"/>
                        <a:chOff x="3863160" y="3858840"/>
                        <a:chExt cx="360" cy="72720"/>
                      </a:xfrm>
                    </p:grpSpPr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3863160" y="3858840"/>
                          <a:ext cx="360" cy="280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3863160" y="3903840"/>
                          <a:ext cx="360" cy="2772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46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4d4d4d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3893760" y="3526560"/>
                  <a:ext cx="195840" cy="107640"/>
                  <a:chOff x="3893760" y="3526560"/>
                  <a:chExt cx="195840" cy="10764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3893760" y="3595680"/>
                    <a:ext cx="17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7">
                        <a:moveTo>
                          <a:pt x="0" y="0"/>
                        </a:moveTo>
                        <a:lnTo>
                          <a:pt x="0" y="87"/>
                        </a:lnTo>
                        <a:lnTo>
                          <a:pt x="34" y="73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4006080" y="3551760"/>
                    <a:ext cx="15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2" y="74"/>
                        </a:lnTo>
                        <a:lnTo>
                          <a:pt x="3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51000" y="3573000"/>
                    <a:ext cx="158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072320" y="3526560"/>
                    <a:ext cx="172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9">
                        <a:moveTo>
                          <a:pt x="0" y="0"/>
                        </a:moveTo>
                        <a:lnTo>
                          <a:pt x="0" y="89"/>
                        </a:lnTo>
                        <a:lnTo>
                          <a:pt x="33" y="74"/>
                        </a:lnTo>
                        <a:lnTo>
                          <a:pt x="3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4186800" y="3724560"/>
                  <a:ext cx="113760" cy="437400"/>
                  <a:chOff x="4186800" y="3724560"/>
                  <a:chExt cx="113760" cy="437400"/>
                </a:xfrm>
              </p:grpSpPr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4186800" y="3724560"/>
                    <a:ext cx="113760" cy="437400"/>
                    <a:chOff x="4186800" y="3724560"/>
                    <a:chExt cx="113760" cy="43740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22440" y="3724560"/>
                      <a:ext cx="78120" cy="43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2" h="978">
                          <a:moveTo>
                            <a:pt x="0" y="0"/>
                          </a:moveTo>
                          <a:lnTo>
                            <a:pt x="162" y="48"/>
                          </a:lnTo>
                          <a:lnTo>
                            <a:pt x="162" y="956"/>
                          </a:lnTo>
                          <a:lnTo>
                            <a:pt x="0" y="9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86800" y="3724560"/>
                      <a:ext cx="35640" cy="43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" h="980">
                          <a:moveTo>
                            <a:pt x="74" y="0"/>
                          </a:moveTo>
                          <a:lnTo>
                            <a:pt x="74" y="980"/>
                          </a:lnTo>
                          <a:lnTo>
                            <a:pt x="0" y="963"/>
                          </a:lnTo>
                          <a:lnTo>
                            <a:pt x="0" y="20"/>
                          </a:lnTo>
                          <a:lnTo>
                            <a:pt x="74" y="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253040" y="3787200"/>
                    <a:ext cx="360" cy="168840"/>
                    <a:chOff x="4253040" y="3787200"/>
                    <a:chExt cx="360" cy="168840"/>
                  </a:xfrm>
                </p:grpSpPr>
                <p:grpSp>
                  <p:nvGrpSpPr>
                    <p:cNvPr id="210" name=""/>
                    <p:cNvGrpSpPr/>
                    <p:nvPr/>
                  </p:nvGrpSpPr>
                  <p:grpSpPr>
                    <a:xfrm>
                      <a:off x="4253040" y="3787200"/>
                      <a:ext cx="360" cy="72720"/>
                      <a:chOff x="4253040" y="3787200"/>
                      <a:chExt cx="360" cy="72720"/>
                    </a:xfrm>
                  </p:grpSpPr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253040" y="3787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253040" y="3832200"/>
                        <a:ext cx="360" cy="2772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080" bIns="-19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4253040" y="3881880"/>
                      <a:ext cx="360" cy="74160"/>
                      <a:chOff x="4253040" y="3881880"/>
                      <a:chExt cx="360" cy="7416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253040" y="3881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253040" y="3926880"/>
                        <a:ext cx="360" cy="29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16" name=""/>
                <p:cNvSpPr/>
                <p:nvPr/>
              </p:nvSpPr>
              <p:spPr>
                <a:xfrm>
                  <a:off x="4276440" y="3864960"/>
                  <a:ext cx="176040" cy="284760"/>
                </a:xfrm>
                <a:custGeom>
                  <a:avLst/>
                  <a:gdLst/>
                  <a:ahLst/>
                  <a:rect l="l" t="t" r="r" b="b"/>
                  <a:pathLst>
                    <a:path w="365" h="638">
                      <a:moveTo>
                        <a:pt x="0" y="638"/>
                      </a:moveTo>
                      <a:lnTo>
                        <a:pt x="365" y="638"/>
                      </a:lnTo>
                      <a:lnTo>
                        <a:pt x="365" y="0"/>
                      </a:lnTo>
                      <a:lnTo>
                        <a:pt x="140" y="18"/>
                      </a:lnTo>
                      <a:lnTo>
                        <a:pt x="140" y="475"/>
                      </a:lnTo>
                      <a:lnTo>
                        <a:pt x="0" y="513"/>
                      </a:lnTo>
                      <a:lnTo>
                        <a:pt x="0" y="6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018040" y="3971880"/>
                  <a:ext cx="31680" cy="164520"/>
                </a:xfrm>
                <a:custGeom>
                  <a:avLst/>
                  <a:gdLst/>
                  <a:ahLst/>
                  <a:rect l="l" t="t" r="r" b="b"/>
                  <a:pathLst>
                    <a:path w="66" h="367">
                      <a:moveTo>
                        <a:pt x="0" y="61"/>
                      </a:moveTo>
                      <a:lnTo>
                        <a:pt x="1" y="43"/>
                      </a:lnTo>
                      <a:lnTo>
                        <a:pt x="5" y="24"/>
                      </a:lnTo>
                      <a:lnTo>
                        <a:pt x="14" y="9"/>
                      </a:lnTo>
                      <a:lnTo>
                        <a:pt x="25" y="0"/>
                      </a:lnTo>
                      <a:lnTo>
                        <a:pt x="39" y="0"/>
                      </a:lnTo>
                      <a:lnTo>
                        <a:pt x="47" y="6"/>
                      </a:lnTo>
                      <a:lnTo>
                        <a:pt x="56" y="16"/>
                      </a:lnTo>
                      <a:lnTo>
                        <a:pt x="62" y="27"/>
                      </a:lnTo>
                      <a:lnTo>
                        <a:pt x="65" y="40"/>
                      </a:lnTo>
                      <a:lnTo>
                        <a:pt x="66" y="50"/>
                      </a:lnTo>
                      <a:lnTo>
                        <a:pt x="66" y="64"/>
                      </a:lnTo>
                      <a:lnTo>
                        <a:pt x="53" y="64"/>
                      </a:lnTo>
                      <a:lnTo>
                        <a:pt x="53" y="43"/>
                      </a:lnTo>
                      <a:lnTo>
                        <a:pt x="48" y="27"/>
                      </a:lnTo>
                      <a:lnTo>
                        <a:pt x="41" y="20"/>
                      </a:lnTo>
                      <a:lnTo>
                        <a:pt x="30" y="20"/>
                      </a:lnTo>
                      <a:lnTo>
                        <a:pt x="22" y="26"/>
                      </a:lnTo>
                      <a:lnTo>
                        <a:pt x="15" y="37"/>
                      </a:lnTo>
                      <a:lnTo>
                        <a:pt x="13" y="51"/>
                      </a:lnTo>
                      <a:lnTo>
                        <a:pt x="13" y="69"/>
                      </a:lnTo>
                      <a:lnTo>
                        <a:pt x="13" y="367"/>
                      </a:lnTo>
                      <a:lnTo>
                        <a:pt x="0" y="367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8" name=""/>
                <p:cNvGrpSpPr/>
                <p:nvPr/>
              </p:nvGrpSpPr>
              <p:grpSpPr>
                <a:xfrm>
                  <a:off x="4361400" y="4098960"/>
                  <a:ext cx="400680" cy="64080"/>
                  <a:chOff x="4361400" y="4098960"/>
                  <a:chExt cx="400680" cy="6408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361400" y="4098960"/>
                    <a:ext cx="200160" cy="64080"/>
                    <a:chOff x="4361400" y="4098960"/>
                    <a:chExt cx="200160" cy="6408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4361400" y="4098960"/>
                      <a:ext cx="50040" cy="64080"/>
                      <a:chOff x="4361400" y="4098960"/>
                      <a:chExt cx="50040" cy="6408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436248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436140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4411440" y="4098960"/>
                      <a:ext cx="48960" cy="64080"/>
                      <a:chOff x="4411440" y="4098960"/>
                      <a:chExt cx="48960" cy="640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441288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441144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4460760" y="4098960"/>
                      <a:ext cx="50040" cy="64080"/>
                      <a:chOff x="4460760" y="4098960"/>
                      <a:chExt cx="50040" cy="64080"/>
                    </a:xfrm>
                  </p:grpSpPr>
                  <p:sp>
                    <p:nvSpPr>
                      <p:cNvPr id="227" name=""/>
                      <p:cNvSpPr/>
                      <p:nvPr/>
                    </p:nvSpPr>
                    <p:spPr>
                      <a:xfrm>
                        <a:off x="446184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8" name=""/>
                      <p:cNvSpPr/>
                      <p:nvPr/>
                    </p:nvSpPr>
                    <p:spPr>
                      <a:xfrm>
                        <a:off x="446076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9" name=""/>
                    <p:cNvGrpSpPr/>
                    <p:nvPr/>
                  </p:nvGrpSpPr>
                  <p:grpSpPr>
                    <a:xfrm>
                      <a:off x="4511160" y="4098960"/>
                      <a:ext cx="50400" cy="64080"/>
                      <a:chOff x="4511160" y="4098960"/>
                      <a:chExt cx="50400" cy="64080"/>
                    </a:xfrm>
                  </p:grpSpPr>
                  <p:sp>
                    <p:nvSpPr>
                      <p:cNvPr id="230" name=""/>
                      <p:cNvSpPr/>
                      <p:nvPr/>
                    </p:nvSpPr>
                    <p:spPr>
                      <a:xfrm>
                        <a:off x="451260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51116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44">
                            <a:moveTo>
                              <a:pt x="0" y="0"/>
                            </a:moveTo>
                            <a:lnTo>
                              <a:pt x="104" y="144"/>
                            </a:lnTo>
                            <a:lnTo>
                              <a:pt x="104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32" name=""/>
                  <p:cNvGrpSpPr/>
                  <p:nvPr/>
                </p:nvGrpSpPr>
                <p:grpSpPr>
                  <a:xfrm>
                    <a:off x="4561920" y="4098960"/>
                    <a:ext cx="200160" cy="64080"/>
                    <a:chOff x="4561920" y="4098960"/>
                    <a:chExt cx="200160" cy="64080"/>
                  </a:xfrm>
                </p:grpSpPr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561920" y="4098960"/>
                      <a:ext cx="48960" cy="64080"/>
                      <a:chOff x="4561920" y="4098960"/>
                      <a:chExt cx="48960" cy="6408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4563000" y="4100400"/>
                        <a:ext cx="4572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4561920" y="4098960"/>
                        <a:ext cx="4896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6" name=""/>
                    <p:cNvGrpSpPr/>
                    <p:nvPr/>
                  </p:nvGrpSpPr>
                  <p:grpSpPr>
                    <a:xfrm>
                      <a:off x="4610880" y="4098960"/>
                      <a:ext cx="50040" cy="64080"/>
                      <a:chOff x="4610880" y="4098960"/>
                      <a:chExt cx="50040" cy="64080"/>
                    </a:xfrm>
                  </p:grpSpPr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46119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8" name=""/>
                      <p:cNvSpPr/>
                      <p:nvPr/>
                    </p:nvSpPr>
                    <p:spPr>
                      <a:xfrm>
                        <a:off x="46108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661280" y="4098960"/>
                      <a:ext cx="50040" cy="64080"/>
                      <a:chOff x="4661280" y="4098960"/>
                      <a:chExt cx="50040" cy="6408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66236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4661280" y="4098960"/>
                        <a:ext cx="5004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44">
                            <a:moveTo>
                              <a:pt x="0" y="0"/>
                            </a:moveTo>
                            <a:lnTo>
                              <a:pt x="105" y="144"/>
                            </a:lnTo>
                            <a:lnTo>
                              <a:pt x="105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4711680" y="4098960"/>
                      <a:ext cx="50400" cy="64080"/>
                      <a:chOff x="4711680" y="4098960"/>
                      <a:chExt cx="50400" cy="64080"/>
                    </a:xfrm>
                  </p:grpSpPr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4713120" y="4100400"/>
                        <a:ext cx="47160" cy="6120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400" bIns="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>
                        <a:off x="4711680" y="4098960"/>
                        <a:ext cx="50400" cy="6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44">
                            <a:moveTo>
                              <a:pt x="0" y="0"/>
                            </a:moveTo>
                            <a:lnTo>
                              <a:pt x="103" y="144"/>
                            </a:lnTo>
                            <a:lnTo>
                              <a:pt x="103" y="0"/>
                            </a:lnTo>
                            <a:lnTo>
                              <a:pt x="0" y="144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5" name=""/>
                  <p:cNvSpPr/>
                  <p:nvPr/>
                </p:nvSpPr>
                <p:spPr>
                  <a:xfrm>
                    <a:off x="44866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6368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453564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458640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443628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4385880" y="4098960"/>
                    <a:ext cx="108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468720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4736160" y="4098960"/>
                    <a:ext cx="1440" cy="640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4285080" y="4066920"/>
                  <a:ext cx="438840" cy="30600"/>
                </a:xfrm>
                <a:custGeom>
                  <a:avLst/>
                  <a:gdLst/>
                  <a:ahLst/>
                  <a:rect l="l" t="t" r="r" b="b"/>
                  <a:pathLst>
                    <a:path w="913" h="68">
                      <a:moveTo>
                        <a:pt x="0" y="58"/>
                      </a:moveTo>
                      <a:lnTo>
                        <a:pt x="57" y="0"/>
                      </a:lnTo>
                      <a:lnTo>
                        <a:pt x="907" y="0"/>
                      </a:lnTo>
                      <a:lnTo>
                        <a:pt x="913" y="68"/>
                      </a:lnTo>
                    </a:path>
                  </a:pathLst>
                </a:custGeom>
                <a:noFill/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24440" y="3946680"/>
                  <a:ext cx="41400" cy="215280"/>
                </a:xfrm>
                <a:custGeom>
                  <a:avLst/>
                  <a:gdLst/>
                  <a:ahLst/>
                  <a:rect l="l" t="t" r="r" b="b"/>
                  <a:pathLst>
                    <a:path w="88" h="483">
                      <a:moveTo>
                        <a:pt x="0" y="81"/>
                      </a:moveTo>
                      <a:lnTo>
                        <a:pt x="1" y="55"/>
                      </a:lnTo>
                      <a:lnTo>
                        <a:pt x="7" y="31"/>
                      </a:lnTo>
                      <a:lnTo>
                        <a:pt x="18" y="12"/>
                      </a:lnTo>
                      <a:lnTo>
                        <a:pt x="34" y="0"/>
                      </a:lnTo>
                      <a:lnTo>
                        <a:pt x="52" y="0"/>
                      </a:lnTo>
                      <a:lnTo>
                        <a:pt x="63" y="7"/>
                      </a:lnTo>
                      <a:lnTo>
                        <a:pt x="76" y="20"/>
                      </a:lnTo>
                      <a:lnTo>
                        <a:pt x="82" y="36"/>
                      </a:lnTo>
                      <a:lnTo>
                        <a:pt x="86" y="53"/>
                      </a:lnTo>
                      <a:lnTo>
                        <a:pt x="87" y="65"/>
                      </a:lnTo>
                      <a:lnTo>
                        <a:pt x="88" y="84"/>
                      </a:lnTo>
                      <a:lnTo>
                        <a:pt x="72" y="84"/>
                      </a:lnTo>
                      <a:lnTo>
                        <a:pt x="72" y="55"/>
                      </a:lnTo>
                      <a:lnTo>
                        <a:pt x="64" y="36"/>
                      </a:lnTo>
                      <a:lnTo>
                        <a:pt x="54" y="27"/>
                      </a:lnTo>
                      <a:lnTo>
                        <a:pt x="41" y="27"/>
                      </a:lnTo>
                      <a:lnTo>
                        <a:pt x="31" y="33"/>
                      </a:lnTo>
                      <a:lnTo>
                        <a:pt x="20" y="48"/>
                      </a:lnTo>
                      <a:lnTo>
                        <a:pt x="17" y="68"/>
                      </a:lnTo>
                      <a:lnTo>
                        <a:pt x="17" y="91"/>
                      </a:lnTo>
                      <a:lnTo>
                        <a:pt x="17" y="483"/>
                      </a:lnTo>
                      <a:lnTo>
                        <a:pt x="0" y="483"/>
                      </a:lnTo>
                      <a:lnTo>
                        <a:pt x="0" y="81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"/>
                <p:cNvGrpSpPr/>
                <p:nvPr/>
              </p:nvGrpSpPr>
              <p:grpSpPr>
                <a:xfrm>
                  <a:off x="4831920" y="4110120"/>
                  <a:ext cx="80280" cy="53280"/>
                  <a:chOff x="4831920" y="4110120"/>
                  <a:chExt cx="80280" cy="532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4831920" y="4110120"/>
                    <a:ext cx="6048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122">
                        <a:moveTo>
                          <a:pt x="0" y="122"/>
                        </a:moveTo>
                        <a:lnTo>
                          <a:pt x="126" y="122"/>
                        </a:lnTo>
                        <a:lnTo>
                          <a:pt x="126" y="0"/>
                        </a:lnTo>
                        <a:lnTo>
                          <a:pt x="1" y="0"/>
                        </a:lnTo>
                        <a:lnTo>
                          <a:pt x="0" y="122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892400" y="4110120"/>
                    <a:ext cx="198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1">
                        <a:moveTo>
                          <a:pt x="0" y="0"/>
                        </a:moveTo>
                        <a:lnTo>
                          <a:pt x="0" y="121"/>
                        </a:lnTo>
                        <a:lnTo>
                          <a:pt x="41" y="116"/>
                        </a:lnTo>
                        <a:lnTo>
                          <a:pt x="41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5100840" y="4002840"/>
                  <a:ext cx="21600" cy="110880"/>
                </a:xfrm>
                <a:custGeom>
                  <a:avLst/>
                  <a:gdLst/>
                  <a:ahLst/>
                  <a:rect l="l" t="t" r="r" b="b"/>
                  <a:pathLst>
                    <a:path w="44" h="250">
                      <a:moveTo>
                        <a:pt x="0" y="42"/>
                      </a:moveTo>
                      <a:lnTo>
                        <a:pt x="1" y="28"/>
                      </a:lnTo>
                      <a:lnTo>
                        <a:pt x="3" y="15"/>
                      </a:lnTo>
                      <a:lnTo>
                        <a:pt x="9" y="6"/>
                      </a:lnTo>
                      <a:lnTo>
                        <a:pt x="18" y="0"/>
                      </a:lnTo>
                      <a:lnTo>
                        <a:pt x="26" y="0"/>
                      </a:lnTo>
                      <a:lnTo>
                        <a:pt x="32" y="4"/>
                      </a:lnTo>
                      <a:lnTo>
                        <a:pt x="38" y="10"/>
                      </a:lnTo>
                      <a:lnTo>
                        <a:pt x="41" y="18"/>
                      </a:lnTo>
                      <a:lnTo>
                        <a:pt x="43" y="27"/>
                      </a:lnTo>
                      <a:lnTo>
                        <a:pt x="43" y="34"/>
                      </a:lnTo>
                      <a:lnTo>
                        <a:pt x="44" y="42"/>
                      </a:lnTo>
                      <a:lnTo>
                        <a:pt x="36" y="42"/>
                      </a:lnTo>
                      <a:lnTo>
                        <a:pt x="36" y="28"/>
                      </a:lnTo>
                      <a:lnTo>
                        <a:pt x="33" y="18"/>
                      </a:lnTo>
                      <a:lnTo>
                        <a:pt x="27" y="14"/>
                      </a:lnTo>
                      <a:lnTo>
                        <a:pt x="21" y="14"/>
                      </a:lnTo>
                      <a:lnTo>
                        <a:pt x="15" y="17"/>
                      </a:lnTo>
                      <a:lnTo>
                        <a:pt x="10" y="25"/>
                      </a:lnTo>
                      <a:lnTo>
                        <a:pt x="9" y="35"/>
                      </a:lnTo>
                      <a:lnTo>
                        <a:pt x="9" y="48"/>
                      </a:lnTo>
                      <a:lnTo>
                        <a:pt x="9" y="250"/>
                      </a:lnTo>
                      <a:lnTo>
                        <a:pt x="0" y="25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5f5f7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4826520" y="3953520"/>
                  <a:ext cx="27360" cy="206280"/>
                  <a:chOff x="4826520" y="3953520"/>
                  <a:chExt cx="27360" cy="20628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4826520" y="4091040"/>
                    <a:ext cx="27360" cy="68760"/>
                    <a:chOff x="4826520" y="4091040"/>
                    <a:chExt cx="27360" cy="687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4826520" y="412416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826520" y="4125240"/>
                      <a:ext cx="25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4827600" y="409212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4826520" y="409104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4826520" y="4021560"/>
                    <a:ext cx="27360" cy="68760"/>
                    <a:chOff x="4826520" y="4021560"/>
                    <a:chExt cx="27360" cy="6876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4826520" y="4054680"/>
                      <a:ext cx="27360" cy="356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4826520" y="405576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4827600" y="4022640"/>
                      <a:ext cx="23040" cy="3168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4826520" y="4021560"/>
                      <a:ext cx="2556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8">
                          <a:moveTo>
                            <a:pt x="0" y="0"/>
                          </a:moveTo>
                          <a:lnTo>
                            <a:pt x="54" y="78"/>
                          </a:lnTo>
                          <a:lnTo>
                            <a:pt x="54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4826520" y="3953520"/>
                    <a:ext cx="27360" cy="69120"/>
                    <a:chOff x="4826520" y="3953520"/>
                    <a:chExt cx="27360" cy="6912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826520" y="3985200"/>
                      <a:ext cx="27360" cy="374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826520" y="3986640"/>
                      <a:ext cx="2556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827600" y="3954600"/>
                      <a:ext cx="23040" cy="30240"/>
                    </a:xfrm>
                    <a:prstGeom prst="rect">
                      <a:avLst/>
                    </a:prstGeom>
                    <a:noFill/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4826520" y="3953520"/>
                      <a:ext cx="255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77">
                          <a:moveTo>
                            <a:pt x="0" y="0"/>
                          </a:moveTo>
                          <a:lnTo>
                            <a:pt x="54" y="77"/>
                          </a:lnTo>
                          <a:lnTo>
                            <a:pt x="54" y="0"/>
                          </a:lnTo>
                          <a:lnTo>
                            <a:pt x="0" y="77"/>
                          </a:lnTo>
                        </a:path>
                      </a:pathLst>
                    </a:custGeom>
                    <a:noFill/>
                    <a:ln w="46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5" name=""/>
                <p:cNvSpPr/>
                <p:nvPr/>
              </p:nvSpPr>
              <p:spPr>
                <a:xfrm>
                  <a:off x="3798360" y="3799440"/>
                  <a:ext cx="926640" cy="255240"/>
                </a:xfrm>
                <a:custGeom>
                  <a:avLst/>
                  <a:gdLst/>
                  <a:ahLst/>
                  <a:rect l="l" t="t" r="r" b="b"/>
                  <a:pathLst>
                    <a:path w="1927" h="573">
                      <a:moveTo>
                        <a:pt x="1927" y="0"/>
                      </a:moveTo>
                      <a:lnTo>
                        <a:pt x="1927" y="109"/>
                      </a:lnTo>
                      <a:lnTo>
                        <a:pt x="1175" y="195"/>
                      </a:lnTo>
                      <a:lnTo>
                        <a:pt x="999" y="543"/>
                      </a:lnTo>
                      <a:lnTo>
                        <a:pt x="0" y="573"/>
                      </a:lnTo>
                      <a:lnTo>
                        <a:pt x="0" y="505"/>
                      </a:lnTo>
                      <a:lnTo>
                        <a:pt x="936" y="456"/>
                      </a:lnTo>
                      <a:lnTo>
                        <a:pt x="1133" y="99"/>
                      </a:lnTo>
                      <a:lnTo>
                        <a:pt x="192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4466880" y="3712320"/>
                  <a:ext cx="104760" cy="144360"/>
                  <a:chOff x="4466880" y="3712320"/>
                  <a:chExt cx="104760" cy="14436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4501440" y="3714840"/>
                    <a:ext cx="702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316">
                        <a:moveTo>
                          <a:pt x="75" y="0"/>
                        </a:moveTo>
                        <a:lnTo>
                          <a:pt x="147" y="45"/>
                        </a:lnTo>
                        <a:lnTo>
                          <a:pt x="147" y="137"/>
                        </a:lnTo>
                        <a:lnTo>
                          <a:pt x="84" y="142"/>
                        </a:lnTo>
                        <a:lnTo>
                          <a:pt x="49" y="298"/>
                        </a:lnTo>
                        <a:lnTo>
                          <a:pt x="0" y="316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466880" y="3712320"/>
                    <a:ext cx="7164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322">
                        <a:moveTo>
                          <a:pt x="78" y="29"/>
                        </a:moveTo>
                        <a:lnTo>
                          <a:pt x="149" y="0"/>
                        </a:lnTo>
                        <a:lnTo>
                          <a:pt x="71" y="315"/>
                        </a:lnTo>
                        <a:lnTo>
                          <a:pt x="0" y="322"/>
                        </a:lnTo>
                        <a:lnTo>
                          <a:pt x="78" y="2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617000" y="3672360"/>
                  <a:ext cx="118080" cy="164160"/>
                  <a:chOff x="4617000" y="3672360"/>
                  <a:chExt cx="118080" cy="1641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617000" y="3672360"/>
                    <a:ext cx="8352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370">
                        <a:moveTo>
                          <a:pt x="94" y="19"/>
                        </a:moveTo>
                        <a:lnTo>
                          <a:pt x="175" y="0"/>
                        </a:lnTo>
                        <a:lnTo>
                          <a:pt x="90" y="361"/>
                        </a:lnTo>
                        <a:lnTo>
                          <a:pt x="0" y="370"/>
                        </a:lnTo>
                        <a:lnTo>
                          <a:pt x="94" y="19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658760" y="3673440"/>
                    <a:ext cx="76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356">
                        <a:moveTo>
                          <a:pt x="86" y="0"/>
                        </a:moveTo>
                        <a:lnTo>
                          <a:pt x="0" y="356"/>
                        </a:lnTo>
                        <a:lnTo>
                          <a:pt x="54" y="322"/>
                        </a:lnTo>
                        <a:lnTo>
                          <a:pt x="89" y="168"/>
                        </a:lnTo>
                        <a:lnTo>
                          <a:pt x="159" y="159"/>
                        </a:lnTo>
                        <a:lnTo>
                          <a:pt x="159" y="61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7fffd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729320" y="4103280"/>
                  <a:ext cx="111960" cy="75960"/>
                  <a:chOff x="4729320" y="4103280"/>
                  <a:chExt cx="111960" cy="7596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729320" y="4103280"/>
                    <a:ext cx="82080" cy="74160"/>
                  </a:xfrm>
                  <a:prstGeom prst="rect">
                    <a:avLst/>
                  </a:prstGeom>
                  <a:solidFill>
                    <a:srgbClr val="009f9f"/>
                  </a:solidFill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12840" y="4103280"/>
                    <a:ext cx="2844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73">
                        <a:moveTo>
                          <a:pt x="0" y="0"/>
                        </a:moveTo>
                        <a:lnTo>
                          <a:pt x="0" y="173"/>
                        </a:lnTo>
                        <a:lnTo>
                          <a:pt x="58" y="164"/>
                        </a:lnTo>
                        <a:lnTo>
                          <a:pt x="58" y="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" name=""/>
                <p:cNvGrpSpPr/>
                <p:nvPr/>
              </p:nvGrpSpPr>
              <p:grpSpPr>
                <a:xfrm>
                  <a:off x="4359960" y="3893040"/>
                  <a:ext cx="291240" cy="278280"/>
                  <a:chOff x="4359960" y="3893040"/>
                  <a:chExt cx="291240" cy="2782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4361400" y="3902400"/>
                    <a:ext cx="1353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1" h="44">
                        <a:moveTo>
                          <a:pt x="0" y="20"/>
                        </a:moveTo>
                        <a:lnTo>
                          <a:pt x="254" y="0"/>
                        </a:lnTo>
                        <a:lnTo>
                          <a:pt x="281" y="34"/>
                        </a:lnTo>
                        <a:lnTo>
                          <a:pt x="25" y="44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4359960" y="3910320"/>
                    <a:ext cx="1296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570">
                        <a:moveTo>
                          <a:pt x="0" y="570"/>
                        </a:moveTo>
                        <a:lnTo>
                          <a:pt x="0" y="0"/>
                        </a:lnTo>
                        <a:lnTo>
                          <a:pt x="28" y="28"/>
                        </a:lnTo>
                        <a:lnTo>
                          <a:pt x="28" y="570"/>
                        </a:lnTo>
                        <a:lnTo>
                          <a:pt x="0" y="57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481280" y="3902400"/>
                    <a:ext cx="1260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600">
                        <a:moveTo>
                          <a:pt x="0" y="600"/>
                        </a:moveTo>
                        <a:lnTo>
                          <a:pt x="0" y="0"/>
                        </a:lnTo>
                        <a:lnTo>
                          <a:pt x="27" y="32"/>
                        </a:lnTo>
                        <a:lnTo>
                          <a:pt x="27" y="600"/>
                        </a:lnTo>
                        <a:lnTo>
                          <a:pt x="0" y="600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482360" y="3894480"/>
                    <a:ext cx="168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50" h="53">
                        <a:moveTo>
                          <a:pt x="0" y="19"/>
                        </a:moveTo>
                        <a:lnTo>
                          <a:pt x="305" y="0"/>
                        </a:lnTo>
                        <a:lnTo>
                          <a:pt x="350" y="34"/>
                        </a:lnTo>
                        <a:lnTo>
                          <a:pt x="30" y="53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4633920" y="3893040"/>
                    <a:ext cx="1584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624">
                        <a:moveTo>
                          <a:pt x="0" y="624"/>
                        </a:moveTo>
                        <a:lnTo>
                          <a:pt x="0" y="0"/>
                        </a:lnTo>
                        <a:lnTo>
                          <a:pt x="34" y="34"/>
                        </a:lnTo>
                        <a:lnTo>
                          <a:pt x="34" y="624"/>
                        </a:lnTo>
                        <a:lnTo>
                          <a:pt x="0" y="624"/>
                        </a:lnTo>
                        <a:close/>
                      </a:path>
                    </a:pathLst>
                  </a:custGeom>
                  <a:solidFill>
                    <a:srgbClr val="00bf9f"/>
                  </a:solidFill>
                  <a:ln w="46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3815640" y="4097880"/>
                  <a:ext cx="377280" cy="59760"/>
                  <a:chOff x="3815640" y="4097880"/>
                  <a:chExt cx="377280" cy="5976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815640" y="4097880"/>
                    <a:ext cx="188640" cy="59760"/>
                    <a:chOff x="3815640" y="4097880"/>
                    <a:chExt cx="188640" cy="59760"/>
                  </a:xfrm>
                </p:grpSpPr>
                <p:grpSp>
                  <p:nvGrpSpPr>
                    <p:cNvPr id="293" name=""/>
                    <p:cNvGrpSpPr/>
                    <p:nvPr/>
                  </p:nvGrpSpPr>
                  <p:grpSpPr>
                    <a:xfrm>
                      <a:off x="3815640" y="4097880"/>
                      <a:ext cx="46080" cy="59760"/>
                      <a:chOff x="3815640" y="4097880"/>
                      <a:chExt cx="46080" cy="59760"/>
                    </a:xfrm>
                  </p:grpSpPr>
                  <p:sp>
                    <p:nvSpPr>
                      <p:cNvPr id="294" name=""/>
                      <p:cNvSpPr/>
                      <p:nvPr/>
                    </p:nvSpPr>
                    <p:spPr>
                      <a:xfrm>
                        <a:off x="3816720" y="4098960"/>
                        <a:ext cx="4320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5" name=""/>
                      <p:cNvSpPr/>
                      <p:nvPr/>
                    </p:nvSpPr>
                    <p:spPr>
                      <a:xfrm>
                        <a:off x="381564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7" h="136">
                            <a:moveTo>
                              <a:pt x="0" y="0"/>
                            </a:moveTo>
                            <a:lnTo>
                              <a:pt x="97" y="136"/>
                            </a:lnTo>
                            <a:lnTo>
                              <a:pt x="97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6" name=""/>
                    <p:cNvGrpSpPr/>
                    <p:nvPr/>
                  </p:nvGrpSpPr>
                  <p:grpSpPr>
                    <a:xfrm>
                      <a:off x="3861720" y="4097880"/>
                      <a:ext cx="47520" cy="59760"/>
                      <a:chOff x="3861720" y="4097880"/>
                      <a:chExt cx="47520" cy="59760"/>
                    </a:xfrm>
                  </p:grpSpPr>
                  <p:sp>
                    <p:nvSpPr>
                      <p:cNvPr id="297" name=""/>
                      <p:cNvSpPr/>
                      <p:nvPr/>
                    </p:nvSpPr>
                    <p:spPr>
                      <a:xfrm>
                        <a:off x="386280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98" name=""/>
                      <p:cNvSpPr/>
                      <p:nvPr/>
                    </p:nvSpPr>
                    <p:spPr>
                      <a:xfrm>
                        <a:off x="386172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99" name=""/>
                    <p:cNvGrpSpPr/>
                    <p:nvPr/>
                  </p:nvGrpSpPr>
                  <p:grpSpPr>
                    <a:xfrm>
                      <a:off x="3909240" y="4097880"/>
                      <a:ext cx="47160" cy="59760"/>
                      <a:chOff x="3909240" y="4097880"/>
                      <a:chExt cx="47160" cy="59760"/>
                    </a:xfrm>
                  </p:grpSpPr>
                  <p:sp>
                    <p:nvSpPr>
                      <p:cNvPr id="300" name=""/>
                      <p:cNvSpPr/>
                      <p:nvPr/>
                    </p:nvSpPr>
                    <p:spPr>
                      <a:xfrm>
                        <a:off x="3910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092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2" name=""/>
                    <p:cNvGrpSpPr/>
                    <p:nvPr/>
                  </p:nvGrpSpPr>
                  <p:grpSpPr>
                    <a:xfrm>
                      <a:off x="3956760" y="4097880"/>
                      <a:ext cx="47520" cy="59760"/>
                      <a:chOff x="3956760" y="4097880"/>
                      <a:chExt cx="47520" cy="59760"/>
                    </a:xfrm>
                  </p:grpSpPr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957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95676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4004640" y="4097880"/>
                    <a:ext cx="188280" cy="59760"/>
                    <a:chOff x="4004640" y="4097880"/>
                    <a:chExt cx="188280" cy="59760"/>
                  </a:xfrm>
                </p:grpSpPr>
                <p:grpSp>
                  <p:nvGrpSpPr>
                    <p:cNvPr id="306" name=""/>
                    <p:cNvGrpSpPr/>
                    <p:nvPr/>
                  </p:nvGrpSpPr>
                  <p:grpSpPr>
                    <a:xfrm>
                      <a:off x="4004640" y="4097880"/>
                      <a:ext cx="47160" cy="59760"/>
                      <a:chOff x="4004640" y="4097880"/>
                      <a:chExt cx="47160" cy="59760"/>
                    </a:xfrm>
                  </p:grpSpPr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40057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400464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9" name=""/>
                    <p:cNvGrpSpPr/>
                    <p:nvPr/>
                  </p:nvGrpSpPr>
                  <p:grpSpPr>
                    <a:xfrm>
                      <a:off x="4051800" y="4097880"/>
                      <a:ext cx="46080" cy="59760"/>
                      <a:chOff x="4051800" y="4097880"/>
                      <a:chExt cx="46080" cy="59760"/>
                    </a:xfrm>
                  </p:grpSpPr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4053240" y="4098960"/>
                        <a:ext cx="4284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4051800" y="4097880"/>
                        <a:ext cx="4608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8" h="136">
                            <a:moveTo>
                              <a:pt x="0" y="0"/>
                            </a:moveTo>
                            <a:lnTo>
                              <a:pt x="98" y="136"/>
                            </a:lnTo>
                            <a:lnTo>
                              <a:pt x="98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4097880" y="4097880"/>
                      <a:ext cx="47520" cy="59760"/>
                      <a:chOff x="4097880" y="4097880"/>
                      <a:chExt cx="47520" cy="5976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409932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4097880" y="4097880"/>
                        <a:ext cx="4752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4145760" y="4097880"/>
                      <a:ext cx="47160" cy="59760"/>
                      <a:chOff x="4145760" y="4097880"/>
                      <a:chExt cx="47160" cy="5976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146840" y="4098960"/>
                        <a:ext cx="44280" cy="57240"/>
                      </a:xfrm>
                      <a:prstGeom prst="rect">
                        <a:avLst/>
                      </a:prstGeom>
                      <a:noFill/>
                      <a:ln w="46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>
                        <a:off x="4145760" y="4097880"/>
                        <a:ext cx="47160" cy="5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" h="136">
                            <a:moveTo>
                              <a:pt x="0" y="0"/>
                            </a:moveTo>
                            <a:lnTo>
                              <a:pt x="99" y="136"/>
                            </a:lnTo>
                            <a:lnTo>
                              <a:pt x="99" y="0"/>
                            </a:lnTo>
                            <a:lnTo>
                              <a:pt x="0" y="136"/>
                            </a:lnTo>
                          </a:path>
                        </a:pathLst>
                      </a:custGeom>
                      <a:noFill/>
                      <a:ln w="46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4d4d4d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18" name=""/>
                  <p:cNvSpPr/>
                  <p:nvPr/>
                </p:nvSpPr>
                <p:spPr>
                  <a:xfrm>
                    <a:off x="39322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075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398016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02768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3886200" y="4097880"/>
                    <a:ext cx="108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38383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412272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4168800" y="4097880"/>
                    <a:ext cx="1440" cy="5976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4d4d4d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383160" y="1282680"/>
            <a:ext cx="1363680" cy="122076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6383160" y="5072040"/>
            <a:ext cx="1333800" cy="731520"/>
            <a:chOff x="6383160" y="5072040"/>
            <a:chExt cx="1333800" cy="731520"/>
          </a:xfrm>
        </p:grpSpPr>
        <p:pic>
          <p:nvPicPr>
            <p:cNvPr id="328" name="" descr=""/>
            <p:cNvPicPr/>
            <p:nvPr/>
          </p:nvPicPr>
          <p:blipFill>
            <a:blip r:embed="rId4"/>
            <a:stretch/>
          </p:blipFill>
          <p:spPr>
            <a:xfrm>
              <a:off x="6383160" y="5072040"/>
              <a:ext cx="1333800" cy="37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5"/>
            <a:stretch/>
          </p:blipFill>
          <p:spPr>
            <a:xfrm>
              <a:off x="6383160" y="5426280"/>
              <a:ext cx="1333800" cy="37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0" name=""/>
          <p:cNvGrpSpPr/>
          <p:nvPr/>
        </p:nvGrpSpPr>
        <p:grpSpPr>
          <a:xfrm>
            <a:off x="4049280" y="4430880"/>
            <a:ext cx="1407600" cy="762480"/>
            <a:chOff x="4049280" y="4430880"/>
            <a:chExt cx="1407600" cy="762480"/>
          </a:xfrm>
        </p:grpSpPr>
        <p:sp>
          <p:nvSpPr>
            <p:cNvPr id="331" name=""/>
            <p:cNvSpPr/>
            <p:nvPr/>
          </p:nvSpPr>
          <p:spPr>
            <a:xfrm>
              <a:off x="4521240" y="4430880"/>
              <a:ext cx="212040" cy="437040"/>
            </a:xfrm>
            <a:prstGeom prst="upArrow">
              <a:avLst>
                <a:gd name="adj1" fmla="val 50000"/>
                <a:gd name="adj2" fmla="val 51528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49280" y="4886280"/>
              <a:ext cx="1407600" cy="307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63de8"/>
                  </a:solidFill>
                  <a:latin typeface="Times New Roman"/>
                </a:rPr>
                <a:t>TECNOLOGIA</a:t>
              </a:r>
              <a:endParaRPr b="0" lang="en-US" sz="1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7120" y="1321920"/>
            <a:ext cx="1074960" cy="4559400"/>
            <a:chOff x="7557120" y="1321920"/>
            <a:chExt cx="1074960" cy="4559400"/>
          </a:xfrm>
        </p:grpSpPr>
        <p:sp>
          <p:nvSpPr>
            <p:cNvPr id="334" name=""/>
            <p:cNvSpPr txBox="1"/>
            <p:nvPr/>
          </p:nvSpPr>
          <p:spPr>
            <a:xfrm>
              <a:off x="7911000" y="2959200"/>
              <a:ext cx="620280" cy="12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cc0000"/>
                    </a:solidFill>
                    <a:miter/>
                  </a:ln>
                  <a:solidFill>
                    <a:srgbClr val="00ff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$</a:t>
              </a:r>
              <a:endParaRPr b="0" lang="en-US" sz="2400" spc="1" strike="noStrike">
                <a:ln w="25560">
                  <a:solidFill>
                    <a:srgbClr val="cc0000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616880" y="1752840"/>
              <a:ext cx="982440" cy="620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620280"/>
                <a:gd name="textAreaBottom" fmla="*/ 62064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 rot="16200000">
              <a:off x="7587360" y="4786560"/>
              <a:ext cx="1041480" cy="620280"/>
            </a:xfrm>
            <a:custGeom>
              <a:avLst/>
              <a:gdLst>
                <a:gd name="textAreaLeft" fmla="*/ 0 w 1041480"/>
                <a:gd name="textAreaRight" fmla="*/ 1041840 w 1041480"/>
                <a:gd name="textAreaTop" fmla="*/ -360 h 620280"/>
                <a:gd name="textAreaBottom" fmla="*/ 620280 h 62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ffcc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37" name=""/>
            <p:cNvSpPr txBox="1"/>
            <p:nvPr/>
          </p:nvSpPr>
          <p:spPr>
            <a:xfrm rot="3013800">
              <a:off x="7633800" y="1545480"/>
              <a:ext cx="858960" cy="589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 rot="8940000">
              <a:off x="7630920" y="5137200"/>
              <a:ext cx="927000" cy="544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178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984040" y="1133640"/>
            <a:ext cx="1197720" cy="4923360"/>
            <a:chOff x="2984040" y="1133640"/>
            <a:chExt cx="1197720" cy="4923360"/>
          </a:xfrm>
        </p:grpSpPr>
        <p:sp>
          <p:nvSpPr>
            <p:cNvPr id="340" name=""/>
            <p:cNvSpPr/>
            <p:nvPr/>
          </p:nvSpPr>
          <p:spPr>
            <a:xfrm flipV="1" rot="16200000">
              <a:off x="2903400" y="4652640"/>
              <a:ext cx="1347480" cy="902160"/>
            </a:xfrm>
            <a:custGeom>
              <a:avLst/>
              <a:gdLst>
                <a:gd name="textAreaLeft" fmla="*/ 0 w 1347480"/>
                <a:gd name="textAreaRight" fmla="*/ 1347840 w 1347480"/>
                <a:gd name="textAreaTop" fmla="*/ 360 h 902160"/>
                <a:gd name="textAreaBottom" fmla="*/ 902880 h 90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0000"/>
                </a:gs>
              </a:gsLst>
              <a:lin ang="81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2885760" y="1588320"/>
              <a:ext cx="1347840" cy="866880"/>
            </a:xfrm>
            <a:custGeom>
              <a:avLst/>
              <a:gdLst>
                <a:gd name="textAreaLeft" fmla="*/ 0 w 1347840"/>
                <a:gd name="textAreaRight" fmla="*/ 1348200 w 134784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f0000"/>
                </a:gs>
              </a:gsLst>
              <a:lin ang="13500000"/>
            </a:gra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26240" y="3273480"/>
              <a:ext cx="554400" cy="6429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 rot="2065800">
              <a:off x="3057120" y="1347840"/>
              <a:ext cx="92700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 rot="8136600">
              <a:off x="3194640" y="5263920"/>
              <a:ext cx="928440" cy="54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95294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99ff"/>
                  </a:solidFill>
                  <a:latin typeface="Arial Black"/>
                </a:rPr>
                <a:t>P*Q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055520" y="3075120"/>
            <a:ext cx="2492640" cy="1611000"/>
            <a:chOff x="1055520" y="3075120"/>
            <a:chExt cx="2492640" cy="1611000"/>
          </a:xfrm>
        </p:grpSpPr>
        <p:sp>
          <p:nvSpPr>
            <p:cNvPr id="346" name=""/>
            <p:cNvSpPr/>
            <p:nvPr/>
          </p:nvSpPr>
          <p:spPr>
            <a:xfrm>
              <a:off x="1055520" y="4105440"/>
              <a:ext cx="249264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d4d4d"/>
                  </a:solidFill>
                  <a:latin typeface="Times New Roman"/>
                </a:rPr>
                <a:t>RECURSOS MATERIALES</a:t>
              </a:r>
              <a:endParaRPr b="0" lang="en-US" sz="16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347" name="" descr=""/>
            <p:cNvPicPr/>
            <p:nvPr/>
          </p:nvPicPr>
          <p:blipFill>
            <a:blip r:embed="rId6"/>
            <a:stretch/>
          </p:blipFill>
          <p:spPr>
            <a:xfrm>
              <a:off x="1527120" y="3075120"/>
              <a:ext cx="1529640" cy="95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"/>
          <p:cNvSpPr/>
          <p:nvPr/>
        </p:nvSpPr>
        <p:spPr>
          <a:xfrm>
            <a:off x="966960" y="3465360"/>
            <a:ext cx="554040" cy="190800"/>
          </a:xfrm>
          <a:custGeom>
            <a:avLst/>
            <a:gdLst/>
            <a:ahLst/>
            <a:rect l="l" t="t" r="r" b="b"/>
            <a:pathLst>
              <a:path w="378" h="120">
                <a:moveTo>
                  <a:pt x="288" y="0"/>
                </a:moveTo>
                <a:lnTo>
                  <a:pt x="288" y="30"/>
                </a:lnTo>
                <a:lnTo>
                  <a:pt x="0" y="30"/>
                </a:lnTo>
                <a:lnTo>
                  <a:pt x="0" y="90"/>
                </a:lnTo>
                <a:lnTo>
                  <a:pt x="288" y="90"/>
                </a:lnTo>
                <a:lnTo>
                  <a:pt x="288" y="120"/>
                </a:lnTo>
                <a:lnTo>
                  <a:pt x="378" y="60"/>
                </a:lnTo>
                <a:lnTo>
                  <a:pt x="288" y="0"/>
                </a:lnTo>
                <a:close/>
              </a:path>
            </a:pathLst>
          </a:custGeom>
          <a:solidFill>
            <a:srgbClr val="ffcc00"/>
          </a:solidFill>
          <a:ln cap="rnd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81040" y="548964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9640" y="2766960"/>
            <a:ext cx="215928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19520" y="256536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3500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640" y="4121280"/>
            <a:ext cx="21592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19520" y="407664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1600" y="4854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71600" y="216216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960" y="1413000"/>
            <a:ext cx="215892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95480" y="134136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l proyecto como un proce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1143000" y="149400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48436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00400" y="34750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9720" y="438948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24600" y="544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17980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50752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0" y="4160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29000" y="317016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560880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5227560"/>
            <a:ext cx="739116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80000" y="15098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53038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3300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560680"/>
            <a:ext cx="263520" cy="2438280"/>
          </a:xfrm>
          <a:custGeom>
            <a:avLst/>
            <a:gdLst>
              <a:gd name="textAreaLeft" fmla="*/ 0 w 263520"/>
              <a:gd name="textAreaRight" fmla="*/ 95040 w 2635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98920"/>
            <a:ext cx="1523880" cy="719280"/>
          </a:xfrm>
          <a:prstGeom prst="flowChartAlternateProcess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9640" y="3573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3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52880" y="543096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8059320" y="4646520"/>
            <a:ext cx="203400" cy="1273320"/>
          </a:xfrm>
          <a:custGeom>
            <a:avLst/>
            <a:gdLst>
              <a:gd name="textAreaLeft" fmla="*/ 129960 w 203400"/>
              <a:gd name="textAreaRight" fmla="*/ 203760 w 20340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76"/>
                </a:lnTo>
                <a:cubicBezTo>
                  <a:pt x="10800" y="9576"/>
                  <a:pt x="5400" y="10476"/>
                  <a:pt x="0" y="10476"/>
                </a:cubicBezTo>
                <a:cubicBezTo>
                  <a:pt x="5400" y="10476"/>
                  <a:pt x="10800" y="11376"/>
                  <a:pt x="10800" y="1227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51640" y="4724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1341360"/>
            <a:ext cx="160200" cy="990720"/>
          </a:xfrm>
          <a:custGeom>
            <a:avLst/>
            <a:gdLst>
              <a:gd name="textAreaLeft" fmla="*/ 0 w 160200"/>
              <a:gd name="textAreaRight" fmla="*/ 57960 w 160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3640" y="1581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30592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Ciclo de Vida de un Proyec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flipV="1">
            <a:off x="1657440" y="471600"/>
            <a:ext cx="0" cy="28764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638360" y="2666880"/>
            <a:ext cx="28411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4716360" y="982800"/>
            <a:ext cx="304848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166015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166015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rot="21477600">
            <a:off x="6375960" y="157320"/>
            <a:ext cx="3048840" cy="159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0033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003386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216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956720" y="3284640"/>
            <a:ext cx="933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5600" y="3762360"/>
            <a:ext cx="0" cy="26100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012000" y="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d4d4d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borda en forma explícita el problema de la asignación de recursos escasos en forma óptim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120000"/>
              </a:lnSpc>
              <a:spcAft>
                <a:spcPts val="11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dentifica, mide y valoriza, cuantitativa y cualitativamente, los beneficios y costos para la(s) persona(s) o instituciones relevant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>
              <a:spcAft>
                <a:spcPts val="11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tapas de la Ev. de Proyec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496280" cy="22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Proceso iterativo, etapas de idea y preinvers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763640" y="2133720"/>
            <a:ext cx="5802480" cy="2542320"/>
            <a:chOff x="1763640" y="2133720"/>
            <a:chExt cx="5802480" cy="2542320"/>
          </a:xfrm>
        </p:grpSpPr>
        <p:grpSp>
          <p:nvGrpSpPr>
            <p:cNvPr id="420" name=""/>
            <p:cNvGrpSpPr/>
            <p:nvPr/>
          </p:nvGrpSpPr>
          <p:grpSpPr>
            <a:xfrm>
              <a:off x="1774800" y="2133720"/>
              <a:ext cx="5791320" cy="685080"/>
              <a:chOff x="1774800" y="2133720"/>
              <a:chExt cx="5791320" cy="685080"/>
            </a:xfrm>
          </p:grpSpPr>
          <p:sp>
            <p:nvSpPr>
              <p:cNvPr id="421" name=""/>
              <p:cNvSpPr/>
              <p:nvPr/>
            </p:nvSpPr>
            <p:spPr>
              <a:xfrm>
                <a:off x="1774800" y="213372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65720" y="259056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1763640" y="2847960"/>
              <a:ext cx="5791320" cy="1828080"/>
              <a:chOff x="1763640" y="2847960"/>
              <a:chExt cx="5791320" cy="1828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1763640" y="2847960"/>
                <a:ext cx="5791320" cy="685080"/>
                <a:chOff x="1763640" y="2847960"/>
                <a:chExt cx="5791320" cy="6850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1763640" y="284796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4560" y="330480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1763640" y="42192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4d4d4d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1763640" y="3533400"/>
                <a:ext cx="5791320" cy="685080"/>
                <a:chOff x="1763640" y="3533400"/>
                <a:chExt cx="5791320" cy="68508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1763640" y="353340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4d4d4d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354560" y="399024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1" name=""/>
          <p:cNvSpPr/>
          <p:nvPr/>
        </p:nvSpPr>
        <p:spPr>
          <a:xfrm rot="10516200">
            <a:off x="971280" y="2205000"/>
            <a:ext cx="504720" cy="2160720"/>
          </a:xfrm>
          <a:custGeom>
            <a:avLst/>
            <a:gdLst>
              <a:gd name="textAreaLeft" fmla="*/ 67320 w 504720"/>
              <a:gd name="textAreaRight" fmla="*/ 437400 w 50472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Docentes: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 clases de cátedra semanales (asistencia y particip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se realizarán clases auxiliares;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horario de clase auxiliar se realizarán los contro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4d4d4d"/>
                </a:solidFill>
                <a:latin typeface="Verdana"/>
              </a:rPr>
              <a:t>Trabajo Personal y Grupal</a:t>
            </a:r>
            <a:endParaRPr b="0" lang="en-US" sz="33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ecturas y estudio clase a clas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4280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are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ctividad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784080" y="1197000"/>
            <a:ext cx="77104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fundamental contar con un buen diagnóstic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idea debe surgir de necesidades insatisfechas, de objetivos y/o políticas generales de la organización, de un plan de desarrollo, etc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e debe establecer su magnitud, a quienes afecta y la confiabilidad de la información utilizada. Así como también las alternativas disponi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l análisis surgirá la especificación precisa del bien que se desea construir o el servicio que se pretende dar.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575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optar la decisión de abandonar, postergar o profundizar la idea de proyect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250560" y="368280"/>
            <a:ext cx="8893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cc3300"/>
                </a:solidFill>
                <a:latin typeface="Verdana"/>
              </a:rPr>
              <a:t>Generación y Análisis de la Idea del Proyecto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a nivel de Perfi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buscan los antecedentes que permiten establecer un juicio respecto de la conveniencia y factibilidad técnico-económica de la idea de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Debe incluir un análisis preliminar de los aspectos técnicos, estudios de mercado y los de evaluación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Se utilizan estimaciones gruesas de los beneficios y costos, generalmente basadas en información existente, juicio común y experiencia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Aft>
                <a:spcPts val="1100"/>
              </a:spcAft>
              <a:buClr>
                <a:srgbClr val="cc0000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cc3300"/>
                </a:solidFill>
                <a:latin typeface="Verdana"/>
              </a:rPr>
              <a:t>Se decide abandonar, postergar o profund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9992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l énfasis de esta etapa es medir los beneficios y costos identificados en la etapa de perfil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e basa en información de fuentes secundaria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or lo anterior, conviene sensibilizar los resultados de la evaluación a cambios en las variables más importa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199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3300"/>
                </a:solidFill>
                <a:latin typeface="Verdana"/>
              </a:rPr>
              <a:t>Se decide abandonar el proyecto, postergar o profundizar la evaluación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Se analizan en detalle los siguientes aspectos: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estudio de mercad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es la base para estimar los ingresos, e incluirá un estudio de la oferta y demanda, así como de los precios de comercializa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tecnológico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incluye equipos, materias primas y procesos, que permiten determinar los costos del proyec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tamaño y localización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administrativo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determinar algunas componentes de costo fijo y la organización de los recursos humanos, físicos y financie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l </a:t>
            </a:r>
            <a:r>
              <a:rPr b="0" i="1" lang="es-ES_tradnl" sz="2100" spc="-1" strike="noStrike" u="sng">
                <a:solidFill>
                  <a:srgbClr val="4d4d4d"/>
                </a:solidFill>
                <a:uFillTx/>
                <a:latin typeface="Verdana"/>
              </a:rPr>
              <a:t>análisis de los aspectos legales</a:t>
            </a: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 permite conocer las restricciones de ese tipo que limitan al proyecto (tributación, permisos, contaminación ambiental, etc.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 algn="just">
              <a:lnSpc>
                <a:spcPct val="75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studio a nivel de Prefacti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98984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Fuentes, condiciones y plazos de financiamiento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Estudio de Facti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54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8000"/>
                </a:solidFill>
                <a:uFillTx/>
                <a:latin typeface="Verdana"/>
              </a:rPr>
              <a:t>1. Según para quien se evalú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yectos afectan de diferente manera a los agentes involucrados, quienes tienen, por lo general, diferentes objetivos e intereses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or ejemplo: Proyecto de vertedero para las comunas del centro-sur de Santiag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Inversionis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 municipalidad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Vecinos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 algn="just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í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842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Privada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: se realiza desde la perspectiva de un agente económico privado o individual (persona, empresa, grupo, etc.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l proyecto, con independencia de quien provee los fon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rentabilidad de los recursos propios invertidos (dueño del proyecto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edir la capacidad del proyecto para enfrentar compromisos de pago de las deudas (bancos, acreedore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Evaluación Social</a:t>
            </a:r>
            <a:r>
              <a:rPr b="0" i="1" lang="es-CL" sz="22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realiza desde la perspectiva del conjunto del país (sociedad)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2. Según el momento en que se realice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Ante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en el período de preinversión, entrega una recomendación sobre la conveniencia de realizar el proyect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8000"/>
                </a:solidFill>
                <a:latin typeface="Verdana"/>
              </a:rPr>
              <a:t>Ex Post: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se realiza una vez ejecutado el proyecto, sirve para estimar los verdaderos beneficios del proyecto, encontrar las fuentes de error y generar aprendizaj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3. Según la finalidad de la invers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crear nuevos negocios o empresa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 algn="just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oyectos que buscan evaluar un cambio, mejora o modernización en una empresa existente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305560" cy="511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 (4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2 controles y un examen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Tareas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3 tareas durante el semestr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Aft>
                <a:spcPts val="130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Nota Controles de Lectura (30%):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se realizarán 7 controles de lectura cortos y se elimina una nota. No se puede eliminar el últim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ES_tradnl" sz="2600" spc="-1" strike="noStrike">
                <a:solidFill>
                  <a:srgbClr val="4d4d4d"/>
                </a:solidFill>
                <a:latin typeface="Verdana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690480" y="1360080"/>
            <a:ext cx="77709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8000"/>
                </a:solidFill>
                <a:uFillTx/>
                <a:latin typeface="Verdana"/>
              </a:rPr>
              <a:t>4. Según la forma de evalu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Tradicional o mono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un solo objetivo, generalmente riqueza. Requiere que cada beneficio y costo sea identificado, medido y valorad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spcBef>
                <a:spcPts val="55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8000"/>
                </a:solidFill>
                <a:latin typeface="Verdana"/>
              </a:rPr>
              <a:t>Multicriterio:</a:t>
            </a: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 tiene más de un objetivo, riqueza, distribución del ingreso, salud de los habitantes….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- semáforo: 5 millone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1" lang="es-CL" sz="1300" spc="-1" strike="noStrike">
                <a:solidFill>
                  <a:srgbClr val="4d4d4d"/>
                </a:solidFill>
                <a:latin typeface="Verdana"/>
              </a:rPr>
              <a:t>No sirve para ver conveniencia, sino para comparar alternativas.</a:t>
            </a: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Tipos de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951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Cualquiera sea la profundidad con que se evalúe un proyecto, se distinguen dos etapas: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Formulación y preparación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Identificar los beneficios y costos del proyecto y calcular su magnitud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Recopilar (crear) y estimar información (estudios de mercado, técnico,  legal, organizacional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Construcción del flujo de caj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8000"/>
                </a:solidFill>
                <a:uFillTx/>
                <a:latin typeface="Verdana"/>
              </a:rPr>
              <a:t>Evaluación</a:t>
            </a:r>
            <a:r>
              <a:rPr b="1" lang="es-CL" sz="2400" spc="-1" strike="noStrike">
                <a:solidFill>
                  <a:srgbClr val="008000"/>
                </a:solidFill>
                <a:latin typeface="Verdana"/>
              </a:rPr>
              <a:t>:</a:t>
            </a: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 a partir del flujo de caja, medir la rentabilidad de la inversión en el proyecto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cc3300"/>
                </a:solidFill>
                <a:latin typeface="Verdana"/>
              </a:rPr>
              <a:t>Dos etapas en la evalu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6560" y="119664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Ejecu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tecedentes General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l Merc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Diagnóstico y Optimización Situación Actu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oluciones Propues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álisis de prefactibi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valuación económic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Resumen y conclu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nex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23640" y="1196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) Antecedentes genera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Ámbito o sector productivo del proyect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Ubicación de la zona geográfica del estudio y sus características (culturales, económicas, políticas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Identificación de segmentos producto - mercado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Características generales de los gestores del proyecto (aspectos organizacionales, marco legal, cultura organizativa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4d4d4d"/>
                </a:solidFill>
                <a:latin typeface="Verdana"/>
              </a:rPr>
              <a:t>Otras informaciones  relevantes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vistas con expertos en el tem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pilación bibliográfic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792504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b)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800" spc="-1" strike="noStrike">
                <a:solidFill>
                  <a:srgbClr val="4d4d4d"/>
                </a:solidFill>
                <a:latin typeface="Verdana"/>
              </a:rPr>
              <a:t>Análisis del Mercado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8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Oferta</a:t>
            </a: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Especificación de los productos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 ofertados</a:t>
            </a: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histórica y sus factores de incidenci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Políticas y métodos de tarificación y preci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Oferta actual y proyeccione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Localización y concentración de la oferta.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Cobertura geográfica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8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4d4d4d"/>
                </a:solidFill>
                <a:latin typeface="Verdana"/>
              </a:rPr>
              <a:t>Restricciones de disponibilidad de recur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histórica y factores de incidenci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actual y proyeccion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gment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calización de la demanda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oncentración de la demanda (por áreas geográficas, por segmentos, por ingreso, etc.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ipo de consumo (residencial, comercial, industrial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Diagnóstic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tecedentes generales + análisis delmercado  </a:t>
            </a:r>
            <a:r>
              <a:rPr b="0" lang="es-CL" sz="2100" spc="-1" strike="noStrike">
                <a:solidFill>
                  <a:srgbClr val="4d4d4d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" sz="2100" spc="-1" strike="noStrike">
                <a:solidFill>
                  <a:srgbClr val="4d4d4d"/>
                </a:solidFill>
                <a:latin typeface="Verdana"/>
              </a:rPr>
              <a:t>definición de situación sin proyecto.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s diagnóstico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 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manda insatisfech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ala calidad de los servicio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) Optimización de la situación actu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Ejemplo de optimizaciones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(1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Rediseño de procesos y reingeniería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2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ejoras en la gestión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; (3)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Modificaciones que impliquen inversiones marginales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)  Generación de alternativas 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s alternativas generadas deben 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técn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económicamente facti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fundamentalmente distintas entre sí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r comparables en términos de resultados.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7853400" cy="45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f) Selección (preselección) de alternativ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ara la alternativa seleccionada se debe analizar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Tamaño óptimo d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Localización óptima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omento óptimo para realizar el proyect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ediseño (obras civiles, equipamiento, insum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8083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a) Estimación de beneficios y cos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Depende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n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 del agente que hace la estimación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rivad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 (valorables), no cuantificabl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ci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Directos, indirec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uantificables, no cuantificable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468440" indent="-228600">
              <a:buClr>
                <a:srgbClr val="cc0000"/>
              </a:buClr>
              <a:buSzPct val="75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Externalidad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5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5,5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Tareas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25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Nota Controles de Lectura 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  <a:ea typeface="Tahoma"/>
              </a:rPr>
              <a:t>≥</a:t>
            </a:r>
            <a:r>
              <a:rPr b="0" lang="es-ES_tradnl" sz="3400" spc="-1" strike="noStrike">
                <a:solidFill>
                  <a:srgbClr val="4d4d4d"/>
                </a:solidFill>
                <a:latin typeface="Verdana"/>
              </a:rPr>
              <a:t> 5,0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ximi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8026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Los 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beneficios y costos </a:t>
            </a: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lnSpc>
                <a:spcPct val="90000"/>
              </a:lnSpc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Verdana"/>
              </a:rPr>
              <a:t>Ejemplo : beneficio no (o menos) cuantificable de un proyecto de semaforización : disminución de accidentes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b) Cálculo de indica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Valor presente neto (VPN o VAN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Tasa interna de retorno (TIR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Período de recuperación del capital (PRC)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Otros.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8097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4d4d4d"/>
                </a:solidFill>
                <a:latin typeface="Verdana"/>
              </a:rPr>
              <a:t>c) Financiamien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378000" indent="-28908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4d4d4d"/>
                </a:solidFill>
                <a:latin typeface="Verdana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4d4d4d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orcentajes de capital propio vs. Deuda.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olicitud de préstam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bon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1049400" indent="-285840">
              <a:buClr>
                <a:srgbClr val="cc0000"/>
              </a:buClr>
              <a:buSzPct val="70000"/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Emisión de accion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cc3300"/>
                </a:solidFill>
                <a:latin typeface="Verdana"/>
              </a:rPr>
              <a:t>Ejemplo: presentación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 finalizar el curso los alumnos serán capaces de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stimar beneficios y costos relevantes en un proyecto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67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4d4d4d"/>
                </a:solidFill>
                <a:latin typeface="Verdana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 General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0920" y="1267920"/>
            <a:ext cx="830556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ormulación de Proyect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máticas Financier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aboración del Flujo de Caja Privad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es de Evalu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ptimización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de Proyectos bajo Incertidumbr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>
              <a:spcAft>
                <a:spcPts val="751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aluación Social de Proyect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920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. Formulación de Proyectos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84080" y="1617480"/>
            <a:ext cx="778032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400" spc="-1" strike="noStrike">
                <a:solidFill>
                  <a:srgbClr val="4d4d4d"/>
                </a:solidFill>
                <a:latin typeface="Verdana"/>
              </a:rPr>
              <a:t>Aprender a identificar y definir proyectos,  organizando secuencialmente el proceso de evaluación de un proyecto de inversión.</a:t>
            </a:r>
            <a:endParaRPr b="0" lang="en-US" sz="3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84080" y="1196640"/>
            <a:ext cx="77803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Concepto de Proyecto, contexto de mercado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La formulación y evaluación de proyectos: ciclo de vida de un proyecto, niveles de evaluación. 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evaluación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Tipos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Bef>
                <a:spcPts val="72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4d4d4d"/>
                </a:solidFill>
                <a:latin typeface="Verdana"/>
              </a:rPr>
              <a:t>Presentación de proyectos.</a:t>
            </a: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ontenid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odelco</cp:lastModifiedBy>
  <cp:lastPrinted>2002-11-13T13:47:55Z</cp:lastPrinted>
  <dcterms:modified xsi:type="dcterms:W3CDTF">2007-07-24T23:40:21Z</dcterms:modified>
  <cp:revision>366</cp:revision>
  <dc:subject/>
  <dc:title>Formulación de Proyectos</dc:title>
</cp:coreProperties>
</file>