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7F47-04C4-4A22-A78D-845BAE76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69E9-5EB5-4E8F-9B75-F9023110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C469-1455-4FE3-9000-B592BBAE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8F6C-AE39-4E44-9A3D-9872240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3F88D-FB79-4A90-B363-48566883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B7150-6054-432A-8376-EDE092B3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5A659-D4F5-4D70-BCAE-0919806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C9B57-1590-4CB8-A5F2-B8046EE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4940-2021-469D-97B0-82EE442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0955D-F90D-408A-BAC0-0115549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A0ED3-71BF-4DD7-9798-5CE13ED8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BA19D-E914-414E-A541-ADA604C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9CAA-D2D3-4958-AC50-D232680504FC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601640" y="3454200"/>
            <a:ext cx="4816440" cy="346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3b2c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a3b2c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654520" y="3306600"/>
            <a:ext cx="2313000" cy="578160"/>
          </a:xfrm>
          <a:custGeom>
            <a:avLst/>
            <a:gdLst>
              <a:gd name="textAreaLeft" fmla="*/ 289080 w 2313000"/>
              <a:gd name="textAreaRight" fmla="*/ 2023920 w 231300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a3b2c1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Bienes y Servici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8280" y="1398600"/>
            <a:ext cx="1014120" cy="133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780200">
            <a:off x="5314680" y="4346640"/>
            <a:ext cx="1015920" cy="138600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5457960"/>
            <a:ext cx="554040" cy="191880"/>
          </a:xfrm>
          <a:prstGeom prst="rightArrow">
            <a:avLst>
              <a:gd name="adj1" fmla="val 50000"/>
              <a:gd name="adj2" fmla="val 72186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9560" y="1668600"/>
            <a:ext cx="554040" cy="193680"/>
          </a:xfrm>
          <a:prstGeom prst="rightArrow">
            <a:avLst>
              <a:gd name="adj1" fmla="val 50000"/>
              <a:gd name="adj2" fmla="val 71515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3440" y="1219320"/>
            <a:ext cx="1523880" cy="1429560"/>
            <a:chOff x="1603440" y="1219320"/>
            <a:chExt cx="1523880" cy="1429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603440" y="1219320"/>
              <a:ext cx="15238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56800" y="231156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CAPITAL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24080" y="4879800"/>
            <a:ext cx="2079360" cy="1477800"/>
            <a:chOff x="1324080" y="4879800"/>
            <a:chExt cx="2079360" cy="14778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671120" y="4879800"/>
              <a:ext cx="13860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24080" y="5776920"/>
              <a:ext cx="207936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HUMANO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51120" y="2695680"/>
            <a:ext cx="1977840" cy="1743120"/>
            <a:chOff x="3651120" y="2695680"/>
            <a:chExt cx="1977840" cy="1743120"/>
          </a:xfrm>
        </p:grpSpPr>
        <p:sp>
          <p:nvSpPr>
            <p:cNvPr id="120" name=""/>
            <p:cNvSpPr/>
            <p:nvPr/>
          </p:nvSpPr>
          <p:spPr>
            <a:xfrm>
              <a:off x="3680280" y="2728800"/>
              <a:ext cx="1919520" cy="167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8360" y="2760840"/>
              <a:ext cx="504360" cy="465120"/>
            </a:xfrm>
            <a:custGeom>
              <a:avLst/>
              <a:gdLst/>
              <a:ahLst/>
              <a:rect l="l" t="t" r="r" b="b"/>
              <a:pathLst>
                <a:path w="1006" h="1003">
                  <a:moveTo>
                    <a:pt x="0" y="795"/>
                  </a:moveTo>
                  <a:lnTo>
                    <a:pt x="10" y="774"/>
                  </a:lnTo>
                  <a:lnTo>
                    <a:pt x="19" y="757"/>
                  </a:lnTo>
                  <a:lnTo>
                    <a:pt x="28" y="739"/>
                  </a:lnTo>
                  <a:lnTo>
                    <a:pt x="37" y="722"/>
                  </a:lnTo>
                  <a:lnTo>
                    <a:pt x="48" y="704"/>
                  </a:lnTo>
                  <a:lnTo>
                    <a:pt x="59" y="686"/>
                  </a:lnTo>
                  <a:lnTo>
                    <a:pt x="70" y="669"/>
                  </a:lnTo>
                  <a:lnTo>
                    <a:pt x="80" y="651"/>
                  </a:lnTo>
                  <a:lnTo>
                    <a:pt x="94" y="630"/>
                  </a:lnTo>
                  <a:lnTo>
                    <a:pt x="110" y="610"/>
                  </a:lnTo>
                  <a:lnTo>
                    <a:pt x="122" y="593"/>
                  </a:lnTo>
                  <a:lnTo>
                    <a:pt x="136" y="576"/>
                  </a:lnTo>
                  <a:lnTo>
                    <a:pt x="150" y="556"/>
                  </a:lnTo>
                  <a:lnTo>
                    <a:pt x="166" y="536"/>
                  </a:lnTo>
                  <a:lnTo>
                    <a:pt x="181" y="518"/>
                  </a:lnTo>
                  <a:lnTo>
                    <a:pt x="198" y="498"/>
                  </a:lnTo>
                  <a:lnTo>
                    <a:pt x="213" y="483"/>
                  </a:lnTo>
                  <a:lnTo>
                    <a:pt x="233" y="461"/>
                  </a:lnTo>
                  <a:lnTo>
                    <a:pt x="250" y="442"/>
                  </a:lnTo>
                  <a:lnTo>
                    <a:pt x="267" y="427"/>
                  </a:lnTo>
                  <a:lnTo>
                    <a:pt x="286" y="409"/>
                  </a:lnTo>
                  <a:lnTo>
                    <a:pt x="300" y="396"/>
                  </a:lnTo>
                  <a:lnTo>
                    <a:pt x="318" y="380"/>
                  </a:lnTo>
                  <a:lnTo>
                    <a:pt x="337" y="365"/>
                  </a:lnTo>
                  <a:lnTo>
                    <a:pt x="359" y="348"/>
                  </a:lnTo>
                  <a:lnTo>
                    <a:pt x="377" y="334"/>
                  </a:lnTo>
                  <a:lnTo>
                    <a:pt x="397" y="317"/>
                  </a:lnTo>
                  <a:lnTo>
                    <a:pt x="422" y="300"/>
                  </a:lnTo>
                  <a:lnTo>
                    <a:pt x="444" y="283"/>
                  </a:lnTo>
                  <a:lnTo>
                    <a:pt x="469" y="266"/>
                  </a:lnTo>
                  <a:lnTo>
                    <a:pt x="493" y="251"/>
                  </a:lnTo>
                  <a:lnTo>
                    <a:pt x="519" y="237"/>
                  </a:lnTo>
                  <a:lnTo>
                    <a:pt x="546" y="221"/>
                  </a:lnTo>
                  <a:lnTo>
                    <a:pt x="570" y="211"/>
                  </a:lnTo>
                  <a:lnTo>
                    <a:pt x="592" y="198"/>
                  </a:lnTo>
                  <a:lnTo>
                    <a:pt x="618" y="187"/>
                  </a:lnTo>
                  <a:lnTo>
                    <a:pt x="636" y="180"/>
                  </a:lnTo>
                  <a:lnTo>
                    <a:pt x="558" y="0"/>
                  </a:lnTo>
                  <a:lnTo>
                    <a:pt x="1006" y="256"/>
                  </a:lnTo>
                  <a:lnTo>
                    <a:pt x="890" y="788"/>
                  </a:lnTo>
                  <a:lnTo>
                    <a:pt x="817" y="630"/>
                  </a:lnTo>
                  <a:lnTo>
                    <a:pt x="787" y="644"/>
                  </a:lnTo>
                  <a:lnTo>
                    <a:pt x="759" y="660"/>
                  </a:lnTo>
                  <a:lnTo>
                    <a:pt x="728" y="679"/>
                  </a:lnTo>
                  <a:lnTo>
                    <a:pt x="694" y="701"/>
                  </a:lnTo>
                  <a:lnTo>
                    <a:pt x="668" y="721"/>
                  </a:lnTo>
                  <a:lnTo>
                    <a:pt x="642" y="743"/>
                  </a:lnTo>
                  <a:lnTo>
                    <a:pt x="616" y="764"/>
                  </a:lnTo>
                  <a:lnTo>
                    <a:pt x="594" y="786"/>
                  </a:lnTo>
                  <a:lnTo>
                    <a:pt x="574" y="809"/>
                  </a:lnTo>
                  <a:lnTo>
                    <a:pt x="550" y="834"/>
                  </a:lnTo>
                  <a:lnTo>
                    <a:pt x="531" y="858"/>
                  </a:lnTo>
                  <a:lnTo>
                    <a:pt x="511" y="883"/>
                  </a:lnTo>
                  <a:lnTo>
                    <a:pt x="495" y="905"/>
                  </a:lnTo>
                  <a:lnTo>
                    <a:pt x="477" y="935"/>
                  </a:lnTo>
                  <a:lnTo>
                    <a:pt x="460" y="962"/>
                  </a:lnTo>
                  <a:lnTo>
                    <a:pt x="451" y="982"/>
                  </a:lnTo>
                  <a:lnTo>
                    <a:pt x="439" y="1003"/>
                  </a:lnTo>
                  <a:lnTo>
                    <a:pt x="0" y="795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0280" y="3146400"/>
              <a:ext cx="407520" cy="747720"/>
            </a:xfrm>
            <a:custGeom>
              <a:avLst/>
              <a:gdLst/>
              <a:ahLst/>
              <a:rect l="l" t="t" r="r" b="b"/>
              <a:pathLst>
                <a:path w="886" h="1117">
                  <a:moveTo>
                    <a:pt x="886" y="462"/>
                  </a:moveTo>
                  <a:lnTo>
                    <a:pt x="661" y="370"/>
                  </a:lnTo>
                  <a:lnTo>
                    <a:pt x="652" y="391"/>
                  </a:lnTo>
                  <a:lnTo>
                    <a:pt x="646" y="411"/>
                  </a:lnTo>
                  <a:lnTo>
                    <a:pt x="640" y="433"/>
                  </a:lnTo>
                  <a:lnTo>
                    <a:pt x="635" y="457"/>
                  </a:lnTo>
                  <a:lnTo>
                    <a:pt x="628" y="487"/>
                  </a:lnTo>
                  <a:lnTo>
                    <a:pt x="624" y="511"/>
                  </a:lnTo>
                  <a:lnTo>
                    <a:pt x="621" y="538"/>
                  </a:lnTo>
                  <a:lnTo>
                    <a:pt x="618" y="568"/>
                  </a:lnTo>
                  <a:lnTo>
                    <a:pt x="615" y="599"/>
                  </a:lnTo>
                  <a:lnTo>
                    <a:pt x="615" y="655"/>
                  </a:lnTo>
                  <a:lnTo>
                    <a:pt x="617" y="683"/>
                  </a:lnTo>
                  <a:lnTo>
                    <a:pt x="618" y="711"/>
                  </a:lnTo>
                  <a:lnTo>
                    <a:pt x="622" y="738"/>
                  </a:lnTo>
                  <a:lnTo>
                    <a:pt x="627" y="765"/>
                  </a:lnTo>
                  <a:lnTo>
                    <a:pt x="632" y="791"/>
                  </a:lnTo>
                  <a:lnTo>
                    <a:pt x="639" y="822"/>
                  </a:lnTo>
                  <a:lnTo>
                    <a:pt x="648" y="851"/>
                  </a:lnTo>
                  <a:lnTo>
                    <a:pt x="224" y="1117"/>
                  </a:lnTo>
                  <a:lnTo>
                    <a:pt x="215" y="1090"/>
                  </a:lnTo>
                  <a:lnTo>
                    <a:pt x="206" y="1067"/>
                  </a:lnTo>
                  <a:lnTo>
                    <a:pt x="198" y="1045"/>
                  </a:lnTo>
                  <a:lnTo>
                    <a:pt x="190" y="1020"/>
                  </a:lnTo>
                  <a:lnTo>
                    <a:pt x="184" y="999"/>
                  </a:lnTo>
                  <a:lnTo>
                    <a:pt x="176" y="976"/>
                  </a:lnTo>
                  <a:lnTo>
                    <a:pt x="171" y="954"/>
                  </a:lnTo>
                  <a:lnTo>
                    <a:pt x="166" y="933"/>
                  </a:lnTo>
                  <a:lnTo>
                    <a:pt x="161" y="911"/>
                  </a:lnTo>
                  <a:lnTo>
                    <a:pt x="154" y="885"/>
                  </a:lnTo>
                  <a:lnTo>
                    <a:pt x="150" y="858"/>
                  </a:lnTo>
                  <a:lnTo>
                    <a:pt x="145" y="834"/>
                  </a:lnTo>
                  <a:lnTo>
                    <a:pt x="140" y="809"/>
                  </a:lnTo>
                  <a:lnTo>
                    <a:pt x="137" y="781"/>
                  </a:lnTo>
                  <a:lnTo>
                    <a:pt x="135" y="753"/>
                  </a:lnTo>
                  <a:lnTo>
                    <a:pt x="132" y="722"/>
                  </a:lnTo>
                  <a:lnTo>
                    <a:pt x="130" y="693"/>
                  </a:lnTo>
                  <a:lnTo>
                    <a:pt x="130" y="663"/>
                  </a:lnTo>
                  <a:lnTo>
                    <a:pt x="130" y="632"/>
                  </a:lnTo>
                  <a:lnTo>
                    <a:pt x="130" y="593"/>
                  </a:lnTo>
                  <a:lnTo>
                    <a:pt x="131" y="558"/>
                  </a:lnTo>
                  <a:lnTo>
                    <a:pt x="132" y="535"/>
                  </a:lnTo>
                  <a:lnTo>
                    <a:pt x="135" y="506"/>
                  </a:lnTo>
                  <a:lnTo>
                    <a:pt x="137" y="479"/>
                  </a:lnTo>
                  <a:lnTo>
                    <a:pt x="141" y="446"/>
                  </a:lnTo>
                  <a:lnTo>
                    <a:pt x="146" y="418"/>
                  </a:lnTo>
                  <a:lnTo>
                    <a:pt x="152" y="392"/>
                  </a:lnTo>
                  <a:lnTo>
                    <a:pt x="158" y="360"/>
                  </a:lnTo>
                  <a:lnTo>
                    <a:pt x="165" y="334"/>
                  </a:lnTo>
                  <a:lnTo>
                    <a:pt x="171" y="303"/>
                  </a:lnTo>
                  <a:lnTo>
                    <a:pt x="179" y="277"/>
                  </a:lnTo>
                  <a:lnTo>
                    <a:pt x="188" y="248"/>
                  </a:lnTo>
                  <a:lnTo>
                    <a:pt x="197" y="220"/>
                  </a:lnTo>
                  <a:lnTo>
                    <a:pt x="210" y="185"/>
                  </a:lnTo>
                  <a:lnTo>
                    <a:pt x="0" y="97"/>
                  </a:lnTo>
                  <a:lnTo>
                    <a:pt x="552" y="0"/>
                  </a:lnTo>
                  <a:lnTo>
                    <a:pt x="886" y="46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3852720"/>
              <a:ext cx="514440" cy="481320"/>
            </a:xfrm>
            <a:custGeom>
              <a:avLst/>
              <a:gdLst/>
              <a:ahLst/>
              <a:rect l="l" t="t" r="r" b="b"/>
              <a:pathLst>
                <a:path w="1007" h="957">
                  <a:moveTo>
                    <a:pt x="800" y="957"/>
                  </a:moveTo>
                  <a:lnTo>
                    <a:pt x="779" y="946"/>
                  </a:lnTo>
                  <a:lnTo>
                    <a:pt x="762" y="937"/>
                  </a:lnTo>
                  <a:lnTo>
                    <a:pt x="744" y="928"/>
                  </a:lnTo>
                  <a:lnTo>
                    <a:pt x="727" y="919"/>
                  </a:lnTo>
                  <a:lnTo>
                    <a:pt x="709" y="909"/>
                  </a:lnTo>
                  <a:lnTo>
                    <a:pt x="691" y="899"/>
                  </a:lnTo>
                  <a:lnTo>
                    <a:pt x="674" y="887"/>
                  </a:lnTo>
                  <a:lnTo>
                    <a:pt x="656" y="877"/>
                  </a:lnTo>
                  <a:lnTo>
                    <a:pt x="636" y="862"/>
                  </a:lnTo>
                  <a:lnTo>
                    <a:pt x="614" y="848"/>
                  </a:lnTo>
                  <a:lnTo>
                    <a:pt x="597" y="835"/>
                  </a:lnTo>
                  <a:lnTo>
                    <a:pt x="581" y="821"/>
                  </a:lnTo>
                  <a:lnTo>
                    <a:pt x="561" y="807"/>
                  </a:lnTo>
                  <a:lnTo>
                    <a:pt x="540" y="791"/>
                  </a:lnTo>
                  <a:lnTo>
                    <a:pt x="522" y="776"/>
                  </a:lnTo>
                  <a:lnTo>
                    <a:pt x="503" y="759"/>
                  </a:lnTo>
                  <a:lnTo>
                    <a:pt x="487" y="744"/>
                  </a:lnTo>
                  <a:lnTo>
                    <a:pt x="465" y="724"/>
                  </a:lnTo>
                  <a:lnTo>
                    <a:pt x="447" y="707"/>
                  </a:lnTo>
                  <a:lnTo>
                    <a:pt x="432" y="690"/>
                  </a:lnTo>
                  <a:lnTo>
                    <a:pt x="413" y="671"/>
                  </a:lnTo>
                  <a:lnTo>
                    <a:pt x="400" y="656"/>
                  </a:lnTo>
                  <a:lnTo>
                    <a:pt x="385" y="638"/>
                  </a:lnTo>
                  <a:lnTo>
                    <a:pt x="369" y="620"/>
                  </a:lnTo>
                  <a:lnTo>
                    <a:pt x="353" y="598"/>
                  </a:lnTo>
                  <a:lnTo>
                    <a:pt x="337" y="580"/>
                  </a:lnTo>
                  <a:lnTo>
                    <a:pt x="321" y="559"/>
                  </a:lnTo>
                  <a:lnTo>
                    <a:pt x="303" y="535"/>
                  </a:lnTo>
                  <a:lnTo>
                    <a:pt x="288" y="513"/>
                  </a:lnTo>
                  <a:lnTo>
                    <a:pt x="271" y="488"/>
                  </a:lnTo>
                  <a:lnTo>
                    <a:pt x="255" y="463"/>
                  </a:lnTo>
                  <a:lnTo>
                    <a:pt x="241" y="438"/>
                  </a:lnTo>
                  <a:lnTo>
                    <a:pt x="226" y="410"/>
                  </a:lnTo>
                  <a:lnTo>
                    <a:pt x="215" y="387"/>
                  </a:lnTo>
                  <a:lnTo>
                    <a:pt x="202" y="365"/>
                  </a:lnTo>
                  <a:lnTo>
                    <a:pt x="192" y="340"/>
                  </a:lnTo>
                  <a:lnTo>
                    <a:pt x="0" y="431"/>
                  </a:lnTo>
                  <a:lnTo>
                    <a:pt x="316" y="0"/>
                  </a:lnTo>
                  <a:lnTo>
                    <a:pt x="851" y="46"/>
                  </a:lnTo>
                  <a:lnTo>
                    <a:pt x="636" y="142"/>
                  </a:lnTo>
                  <a:lnTo>
                    <a:pt x="649" y="169"/>
                  </a:lnTo>
                  <a:lnTo>
                    <a:pt x="665" y="198"/>
                  </a:lnTo>
                  <a:lnTo>
                    <a:pt x="684" y="229"/>
                  </a:lnTo>
                  <a:lnTo>
                    <a:pt x="706" y="263"/>
                  </a:lnTo>
                  <a:lnTo>
                    <a:pt x="726" y="289"/>
                  </a:lnTo>
                  <a:lnTo>
                    <a:pt x="748" y="314"/>
                  </a:lnTo>
                  <a:lnTo>
                    <a:pt x="768" y="340"/>
                  </a:lnTo>
                  <a:lnTo>
                    <a:pt x="790" y="362"/>
                  </a:lnTo>
                  <a:lnTo>
                    <a:pt x="814" y="383"/>
                  </a:lnTo>
                  <a:lnTo>
                    <a:pt x="838" y="406"/>
                  </a:lnTo>
                  <a:lnTo>
                    <a:pt x="863" y="426"/>
                  </a:lnTo>
                  <a:lnTo>
                    <a:pt x="886" y="445"/>
                  </a:lnTo>
                  <a:lnTo>
                    <a:pt x="910" y="462"/>
                  </a:lnTo>
                  <a:lnTo>
                    <a:pt x="938" y="480"/>
                  </a:lnTo>
                  <a:lnTo>
                    <a:pt x="967" y="497"/>
                  </a:lnTo>
                  <a:lnTo>
                    <a:pt x="987" y="506"/>
                  </a:lnTo>
                  <a:lnTo>
                    <a:pt x="1007" y="517"/>
                  </a:lnTo>
                  <a:lnTo>
                    <a:pt x="800" y="957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560" y="4108320"/>
              <a:ext cx="788760" cy="330480"/>
            </a:xfrm>
            <a:custGeom>
              <a:avLst/>
              <a:gdLst/>
              <a:ahLst/>
              <a:rect l="l" t="t" r="r" b="b"/>
              <a:pathLst>
                <a:path w="1094" h="874">
                  <a:moveTo>
                    <a:pt x="438" y="0"/>
                  </a:moveTo>
                  <a:lnTo>
                    <a:pt x="347" y="225"/>
                  </a:lnTo>
                  <a:lnTo>
                    <a:pt x="368" y="234"/>
                  </a:lnTo>
                  <a:lnTo>
                    <a:pt x="387" y="240"/>
                  </a:lnTo>
                  <a:lnTo>
                    <a:pt x="409" y="246"/>
                  </a:lnTo>
                  <a:lnTo>
                    <a:pt x="434" y="252"/>
                  </a:lnTo>
                  <a:lnTo>
                    <a:pt x="463" y="258"/>
                  </a:lnTo>
                  <a:lnTo>
                    <a:pt x="489" y="262"/>
                  </a:lnTo>
                  <a:lnTo>
                    <a:pt x="514" y="265"/>
                  </a:lnTo>
                  <a:lnTo>
                    <a:pt x="544" y="269"/>
                  </a:lnTo>
                  <a:lnTo>
                    <a:pt x="575" y="272"/>
                  </a:lnTo>
                  <a:lnTo>
                    <a:pt x="631" y="272"/>
                  </a:lnTo>
                  <a:lnTo>
                    <a:pt x="661" y="271"/>
                  </a:lnTo>
                  <a:lnTo>
                    <a:pt x="687" y="268"/>
                  </a:lnTo>
                  <a:lnTo>
                    <a:pt x="714" y="264"/>
                  </a:lnTo>
                  <a:lnTo>
                    <a:pt x="742" y="259"/>
                  </a:lnTo>
                  <a:lnTo>
                    <a:pt x="767" y="255"/>
                  </a:lnTo>
                  <a:lnTo>
                    <a:pt x="798" y="247"/>
                  </a:lnTo>
                  <a:lnTo>
                    <a:pt x="827" y="238"/>
                  </a:lnTo>
                  <a:lnTo>
                    <a:pt x="1094" y="660"/>
                  </a:lnTo>
                  <a:lnTo>
                    <a:pt x="1068" y="671"/>
                  </a:lnTo>
                  <a:lnTo>
                    <a:pt x="1043" y="680"/>
                  </a:lnTo>
                  <a:lnTo>
                    <a:pt x="1021" y="688"/>
                  </a:lnTo>
                  <a:lnTo>
                    <a:pt x="998" y="695"/>
                  </a:lnTo>
                  <a:lnTo>
                    <a:pt x="976" y="702"/>
                  </a:lnTo>
                  <a:lnTo>
                    <a:pt x="952" y="710"/>
                  </a:lnTo>
                  <a:lnTo>
                    <a:pt x="932" y="715"/>
                  </a:lnTo>
                  <a:lnTo>
                    <a:pt x="910" y="720"/>
                  </a:lnTo>
                  <a:lnTo>
                    <a:pt x="888" y="725"/>
                  </a:lnTo>
                  <a:lnTo>
                    <a:pt x="863" y="732"/>
                  </a:lnTo>
                  <a:lnTo>
                    <a:pt x="834" y="736"/>
                  </a:lnTo>
                  <a:lnTo>
                    <a:pt x="811" y="741"/>
                  </a:lnTo>
                  <a:lnTo>
                    <a:pt x="785" y="746"/>
                  </a:lnTo>
                  <a:lnTo>
                    <a:pt x="758" y="750"/>
                  </a:lnTo>
                  <a:lnTo>
                    <a:pt x="730" y="752"/>
                  </a:lnTo>
                  <a:lnTo>
                    <a:pt x="698" y="754"/>
                  </a:lnTo>
                  <a:lnTo>
                    <a:pt x="669" y="756"/>
                  </a:lnTo>
                  <a:lnTo>
                    <a:pt x="640" y="756"/>
                  </a:lnTo>
                  <a:lnTo>
                    <a:pt x="609" y="756"/>
                  </a:lnTo>
                  <a:lnTo>
                    <a:pt x="570" y="756"/>
                  </a:lnTo>
                  <a:lnTo>
                    <a:pt x="535" y="755"/>
                  </a:lnTo>
                  <a:lnTo>
                    <a:pt x="511" y="754"/>
                  </a:lnTo>
                  <a:lnTo>
                    <a:pt x="483" y="752"/>
                  </a:lnTo>
                  <a:lnTo>
                    <a:pt x="455" y="750"/>
                  </a:lnTo>
                  <a:lnTo>
                    <a:pt x="422" y="745"/>
                  </a:lnTo>
                  <a:lnTo>
                    <a:pt x="395" y="739"/>
                  </a:lnTo>
                  <a:lnTo>
                    <a:pt x="368" y="736"/>
                  </a:lnTo>
                  <a:lnTo>
                    <a:pt x="336" y="728"/>
                  </a:lnTo>
                  <a:lnTo>
                    <a:pt x="311" y="721"/>
                  </a:lnTo>
                  <a:lnTo>
                    <a:pt x="280" y="715"/>
                  </a:lnTo>
                  <a:lnTo>
                    <a:pt x="253" y="707"/>
                  </a:lnTo>
                  <a:lnTo>
                    <a:pt x="226" y="699"/>
                  </a:lnTo>
                  <a:lnTo>
                    <a:pt x="197" y="689"/>
                  </a:lnTo>
                  <a:lnTo>
                    <a:pt x="162" y="676"/>
                  </a:lnTo>
                  <a:lnTo>
                    <a:pt x="79" y="874"/>
                  </a:lnTo>
                  <a:lnTo>
                    <a:pt x="0" y="313"/>
                  </a:lnTo>
                  <a:lnTo>
                    <a:pt x="4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3916440"/>
              <a:ext cx="454320" cy="522360"/>
            </a:xfrm>
            <a:custGeom>
              <a:avLst/>
              <a:gdLst/>
              <a:ahLst/>
              <a:rect l="l" t="t" r="r" b="b"/>
              <a:pathLst>
                <a:path w="950" h="949">
                  <a:moveTo>
                    <a:pt x="950" y="208"/>
                  </a:moveTo>
                  <a:lnTo>
                    <a:pt x="938" y="229"/>
                  </a:lnTo>
                  <a:lnTo>
                    <a:pt x="930" y="246"/>
                  </a:lnTo>
                  <a:lnTo>
                    <a:pt x="920" y="264"/>
                  </a:lnTo>
                  <a:lnTo>
                    <a:pt x="912" y="281"/>
                  </a:lnTo>
                  <a:lnTo>
                    <a:pt x="902" y="299"/>
                  </a:lnTo>
                  <a:lnTo>
                    <a:pt x="890" y="317"/>
                  </a:lnTo>
                  <a:lnTo>
                    <a:pt x="880" y="334"/>
                  </a:lnTo>
                  <a:lnTo>
                    <a:pt x="868" y="352"/>
                  </a:lnTo>
                  <a:lnTo>
                    <a:pt x="854" y="372"/>
                  </a:lnTo>
                  <a:lnTo>
                    <a:pt x="840" y="392"/>
                  </a:lnTo>
                  <a:lnTo>
                    <a:pt x="828" y="409"/>
                  </a:lnTo>
                  <a:lnTo>
                    <a:pt x="814" y="426"/>
                  </a:lnTo>
                  <a:lnTo>
                    <a:pt x="798" y="447"/>
                  </a:lnTo>
                  <a:lnTo>
                    <a:pt x="783" y="467"/>
                  </a:lnTo>
                  <a:lnTo>
                    <a:pt x="767" y="486"/>
                  </a:lnTo>
                  <a:lnTo>
                    <a:pt x="750" y="505"/>
                  </a:lnTo>
                  <a:lnTo>
                    <a:pt x="736" y="521"/>
                  </a:lnTo>
                  <a:lnTo>
                    <a:pt x="715" y="543"/>
                  </a:lnTo>
                  <a:lnTo>
                    <a:pt x="698" y="561"/>
                  </a:lnTo>
                  <a:lnTo>
                    <a:pt x="682" y="576"/>
                  </a:lnTo>
                  <a:lnTo>
                    <a:pt x="662" y="594"/>
                  </a:lnTo>
                  <a:lnTo>
                    <a:pt x="648" y="607"/>
                  </a:lnTo>
                  <a:lnTo>
                    <a:pt x="630" y="623"/>
                  </a:lnTo>
                  <a:lnTo>
                    <a:pt x="612" y="638"/>
                  </a:lnTo>
                  <a:lnTo>
                    <a:pt x="591" y="655"/>
                  </a:lnTo>
                  <a:lnTo>
                    <a:pt x="573" y="670"/>
                  </a:lnTo>
                  <a:lnTo>
                    <a:pt x="552" y="685"/>
                  </a:lnTo>
                  <a:lnTo>
                    <a:pt x="526" y="703"/>
                  </a:lnTo>
                  <a:lnTo>
                    <a:pt x="504" y="719"/>
                  </a:lnTo>
                  <a:lnTo>
                    <a:pt x="481" y="736"/>
                  </a:lnTo>
                  <a:lnTo>
                    <a:pt x="456" y="752"/>
                  </a:lnTo>
                  <a:lnTo>
                    <a:pt x="430" y="767"/>
                  </a:lnTo>
                  <a:lnTo>
                    <a:pt x="561" y="949"/>
                  </a:lnTo>
                  <a:lnTo>
                    <a:pt x="39" y="715"/>
                  </a:lnTo>
                  <a:lnTo>
                    <a:pt x="0" y="251"/>
                  </a:lnTo>
                  <a:lnTo>
                    <a:pt x="109" y="382"/>
                  </a:lnTo>
                  <a:lnTo>
                    <a:pt x="134" y="370"/>
                  </a:lnTo>
                  <a:lnTo>
                    <a:pt x="158" y="357"/>
                  </a:lnTo>
                  <a:lnTo>
                    <a:pt x="191" y="342"/>
                  </a:lnTo>
                  <a:lnTo>
                    <a:pt x="222" y="324"/>
                  </a:lnTo>
                  <a:lnTo>
                    <a:pt x="254" y="302"/>
                  </a:lnTo>
                  <a:lnTo>
                    <a:pt x="281" y="282"/>
                  </a:lnTo>
                  <a:lnTo>
                    <a:pt x="307" y="260"/>
                  </a:lnTo>
                  <a:lnTo>
                    <a:pt x="333" y="238"/>
                  </a:lnTo>
                  <a:lnTo>
                    <a:pt x="354" y="218"/>
                  </a:lnTo>
                  <a:lnTo>
                    <a:pt x="376" y="194"/>
                  </a:lnTo>
                  <a:lnTo>
                    <a:pt x="399" y="168"/>
                  </a:lnTo>
                  <a:lnTo>
                    <a:pt x="419" y="145"/>
                  </a:lnTo>
                  <a:lnTo>
                    <a:pt x="438" y="120"/>
                  </a:lnTo>
                  <a:lnTo>
                    <a:pt x="455" y="98"/>
                  </a:lnTo>
                  <a:lnTo>
                    <a:pt x="473" y="69"/>
                  </a:lnTo>
                  <a:lnTo>
                    <a:pt x="490" y="41"/>
                  </a:lnTo>
                  <a:lnTo>
                    <a:pt x="499" y="21"/>
                  </a:lnTo>
                  <a:lnTo>
                    <a:pt x="508" y="0"/>
                  </a:lnTo>
                  <a:lnTo>
                    <a:pt x="950" y="20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6480" y="3273480"/>
              <a:ext cx="492480" cy="741240"/>
            </a:xfrm>
            <a:custGeom>
              <a:avLst/>
              <a:gdLst/>
              <a:ahLst/>
              <a:rect l="l" t="t" r="r" b="b"/>
              <a:pathLst>
                <a:path w="875" h="1104">
                  <a:moveTo>
                    <a:pt x="0" y="702"/>
                  </a:moveTo>
                  <a:lnTo>
                    <a:pt x="217" y="783"/>
                  </a:lnTo>
                  <a:lnTo>
                    <a:pt x="229" y="756"/>
                  </a:lnTo>
                  <a:lnTo>
                    <a:pt x="238" y="730"/>
                  </a:lnTo>
                  <a:lnTo>
                    <a:pt x="244" y="706"/>
                  </a:lnTo>
                  <a:lnTo>
                    <a:pt x="251" y="683"/>
                  </a:lnTo>
                  <a:lnTo>
                    <a:pt x="257" y="659"/>
                  </a:lnTo>
                  <a:lnTo>
                    <a:pt x="263" y="630"/>
                  </a:lnTo>
                  <a:lnTo>
                    <a:pt x="266" y="604"/>
                  </a:lnTo>
                  <a:lnTo>
                    <a:pt x="270" y="579"/>
                  </a:lnTo>
                  <a:lnTo>
                    <a:pt x="274" y="549"/>
                  </a:lnTo>
                  <a:lnTo>
                    <a:pt x="276" y="518"/>
                  </a:lnTo>
                  <a:lnTo>
                    <a:pt x="276" y="462"/>
                  </a:lnTo>
                  <a:lnTo>
                    <a:pt x="274" y="432"/>
                  </a:lnTo>
                  <a:lnTo>
                    <a:pt x="273" y="406"/>
                  </a:lnTo>
                  <a:lnTo>
                    <a:pt x="269" y="379"/>
                  </a:lnTo>
                  <a:lnTo>
                    <a:pt x="264" y="351"/>
                  </a:lnTo>
                  <a:lnTo>
                    <a:pt x="259" y="326"/>
                  </a:lnTo>
                  <a:lnTo>
                    <a:pt x="252" y="295"/>
                  </a:lnTo>
                  <a:lnTo>
                    <a:pt x="243" y="265"/>
                  </a:lnTo>
                  <a:lnTo>
                    <a:pt x="665" y="0"/>
                  </a:lnTo>
                  <a:lnTo>
                    <a:pt x="676" y="26"/>
                  </a:lnTo>
                  <a:lnTo>
                    <a:pt x="685" y="50"/>
                  </a:lnTo>
                  <a:lnTo>
                    <a:pt x="693" y="72"/>
                  </a:lnTo>
                  <a:lnTo>
                    <a:pt x="700" y="96"/>
                  </a:lnTo>
                  <a:lnTo>
                    <a:pt x="707" y="118"/>
                  </a:lnTo>
                  <a:lnTo>
                    <a:pt x="715" y="141"/>
                  </a:lnTo>
                  <a:lnTo>
                    <a:pt x="720" y="162"/>
                  </a:lnTo>
                  <a:lnTo>
                    <a:pt x="725" y="184"/>
                  </a:lnTo>
                  <a:lnTo>
                    <a:pt x="730" y="206"/>
                  </a:lnTo>
                  <a:lnTo>
                    <a:pt x="737" y="230"/>
                  </a:lnTo>
                  <a:lnTo>
                    <a:pt x="741" y="259"/>
                  </a:lnTo>
                  <a:lnTo>
                    <a:pt x="746" y="282"/>
                  </a:lnTo>
                  <a:lnTo>
                    <a:pt x="751" y="308"/>
                  </a:lnTo>
                  <a:lnTo>
                    <a:pt x="755" y="335"/>
                  </a:lnTo>
                  <a:lnTo>
                    <a:pt x="756" y="364"/>
                  </a:lnTo>
                  <a:lnTo>
                    <a:pt x="759" y="395"/>
                  </a:lnTo>
                  <a:lnTo>
                    <a:pt x="761" y="424"/>
                  </a:lnTo>
                  <a:lnTo>
                    <a:pt x="761" y="453"/>
                  </a:lnTo>
                  <a:lnTo>
                    <a:pt x="761" y="484"/>
                  </a:lnTo>
                  <a:lnTo>
                    <a:pt x="761" y="523"/>
                  </a:lnTo>
                  <a:lnTo>
                    <a:pt x="760" y="558"/>
                  </a:lnTo>
                  <a:lnTo>
                    <a:pt x="759" y="582"/>
                  </a:lnTo>
                  <a:lnTo>
                    <a:pt x="756" y="610"/>
                  </a:lnTo>
                  <a:lnTo>
                    <a:pt x="755" y="638"/>
                  </a:lnTo>
                  <a:lnTo>
                    <a:pt x="750" y="671"/>
                  </a:lnTo>
                  <a:lnTo>
                    <a:pt x="745" y="698"/>
                  </a:lnTo>
                  <a:lnTo>
                    <a:pt x="739" y="725"/>
                  </a:lnTo>
                  <a:lnTo>
                    <a:pt x="733" y="757"/>
                  </a:lnTo>
                  <a:lnTo>
                    <a:pt x="726" y="782"/>
                  </a:lnTo>
                  <a:lnTo>
                    <a:pt x="720" y="813"/>
                  </a:lnTo>
                  <a:lnTo>
                    <a:pt x="712" y="840"/>
                  </a:lnTo>
                  <a:lnTo>
                    <a:pt x="703" y="867"/>
                  </a:lnTo>
                  <a:lnTo>
                    <a:pt x="694" y="896"/>
                  </a:lnTo>
                  <a:lnTo>
                    <a:pt x="682" y="931"/>
                  </a:lnTo>
                  <a:lnTo>
                    <a:pt x="669" y="966"/>
                  </a:lnTo>
                  <a:lnTo>
                    <a:pt x="875" y="1050"/>
                  </a:lnTo>
                  <a:lnTo>
                    <a:pt x="358" y="1104"/>
                  </a:lnTo>
                  <a:lnTo>
                    <a:pt x="0" y="70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8600" y="2824200"/>
              <a:ext cx="552600" cy="466560"/>
            </a:xfrm>
            <a:custGeom>
              <a:avLst/>
              <a:gdLst/>
              <a:ahLst/>
              <a:rect l="l" t="t" r="r" b="b"/>
              <a:pathLst>
                <a:path w="1025" h="975">
                  <a:moveTo>
                    <a:pt x="208" y="0"/>
                  </a:moveTo>
                  <a:lnTo>
                    <a:pt x="229" y="10"/>
                  </a:lnTo>
                  <a:lnTo>
                    <a:pt x="246" y="19"/>
                  </a:lnTo>
                  <a:lnTo>
                    <a:pt x="264" y="28"/>
                  </a:lnTo>
                  <a:lnTo>
                    <a:pt x="281" y="37"/>
                  </a:lnTo>
                  <a:lnTo>
                    <a:pt x="299" y="48"/>
                  </a:lnTo>
                  <a:lnTo>
                    <a:pt x="316" y="59"/>
                  </a:lnTo>
                  <a:lnTo>
                    <a:pt x="333" y="70"/>
                  </a:lnTo>
                  <a:lnTo>
                    <a:pt x="350" y="80"/>
                  </a:lnTo>
                  <a:lnTo>
                    <a:pt x="370" y="94"/>
                  </a:lnTo>
                  <a:lnTo>
                    <a:pt x="392" y="110"/>
                  </a:lnTo>
                  <a:lnTo>
                    <a:pt x="409" y="121"/>
                  </a:lnTo>
                  <a:lnTo>
                    <a:pt x="426" y="136"/>
                  </a:lnTo>
                  <a:lnTo>
                    <a:pt x="447" y="150"/>
                  </a:lnTo>
                  <a:lnTo>
                    <a:pt x="468" y="165"/>
                  </a:lnTo>
                  <a:lnTo>
                    <a:pt x="486" y="181"/>
                  </a:lnTo>
                  <a:lnTo>
                    <a:pt x="504" y="198"/>
                  </a:lnTo>
                  <a:lnTo>
                    <a:pt x="521" y="213"/>
                  </a:lnTo>
                  <a:lnTo>
                    <a:pt x="541" y="233"/>
                  </a:lnTo>
                  <a:lnTo>
                    <a:pt x="560" y="250"/>
                  </a:lnTo>
                  <a:lnTo>
                    <a:pt x="575" y="266"/>
                  </a:lnTo>
                  <a:lnTo>
                    <a:pt x="593" y="286"/>
                  </a:lnTo>
                  <a:lnTo>
                    <a:pt x="608" y="300"/>
                  </a:lnTo>
                  <a:lnTo>
                    <a:pt x="623" y="318"/>
                  </a:lnTo>
                  <a:lnTo>
                    <a:pt x="639" y="336"/>
                  </a:lnTo>
                  <a:lnTo>
                    <a:pt x="655" y="358"/>
                  </a:lnTo>
                  <a:lnTo>
                    <a:pt x="670" y="376"/>
                  </a:lnTo>
                  <a:lnTo>
                    <a:pt x="685" y="397"/>
                  </a:lnTo>
                  <a:lnTo>
                    <a:pt x="703" y="422"/>
                  </a:lnTo>
                  <a:lnTo>
                    <a:pt x="719" y="444"/>
                  </a:lnTo>
                  <a:lnTo>
                    <a:pt x="736" y="468"/>
                  </a:lnTo>
                  <a:lnTo>
                    <a:pt x="751" y="493"/>
                  </a:lnTo>
                  <a:lnTo>
                    <a:pt x="766" y="519"/>
                  </a:lnTo>
                  <a:lnTo>
                    <a:pt x="781" y="546"/>
                  </a:lnTo>
                  <a:lnTo>
                    <a:pt x="793" y="569"/>
                  </a:lnTo>
                  <a:lnTo>
                    <a:pt x="804" y="591"/>
                  </a:lnTo>
                  <a:lnTo>
                    <a:pt x="815" y="617"/>
                  </a:lnTo>
                  <a:lnTo>
                    <a:pt x="821" y="635"/>
                  </a:lnTo>
                  <a:lnTo>
                    <a:pt x="1025" y="555"/>
                  </a:lnTo>
                  <a:lnTo>
                    <a:pt x="709" y="975"/>
                  </a:lnTo>
                  <a:lnTo>
                    <a:pt x="149" y="906"/>
                  </a:lnTo>
                  <a:lnTo>
                    <a:pt x="370" y="817"/>
                  </a:lnTo>
                  <a:lnTo>
                    <a:pt x="356" y="787"/>
                  </a:lnTo>
                  <a:lnTo>
                    <a:pt x="342" y="759"/>
                  </a:lnTo>
                  <a:lnTo>
                    <a:pt x="322" y="727"/>
                  </a:lnTo>
                  <a:lnTo>
                    <a:pt x="300" y="695"/>
                  </a:lnTo>
                  <a:lnTo>
                    <a:pt x="281" y="668"/>
                  </a:lnTo>
                  <a:lnTo>
                    <a:pt x="260" y="642"/>
                  </a:lnTo>
                  <a:lnTo>
                    <a:pt x="238" y="616"/>
                  </a:lnTo>
                  <a:lnTo>
                    <a:pt x="216" y="594"/>
                  </a:lnTo>
                  <a:lnTo>
                    <a:pt x="194" y="573"/>
                  </a:lnTo>
                  <a:lnTo>
                    <a:pt x="168" y="550"/>
                  </a:lnTo>
                  <a:lnTo>
                    <a:pt x="144" y="531"/>
                  </a:lnTo>
                  <a:lnTo>
                    <a:pt x="120" y="511"/>
                  </a:lnTo>
                  <a:lnTo>
                    <a:pt x="97" y="494"/>
                  </a:lnTo>
                  <a:lnTo>
                    <a:pt x="69" y="476"/>
                  </a:lnTo>
                  <a:lnTo>
                    <a:pt x="40" y="459"/>
                  </a:lnTo>
                  <a:lnTo>
                    <a:pt x="21" y="450"/>
                  </a:lnTo>
                  <a:lnTo>
                    <a:pt x="0" y="439"/>
                  </a:lnTo>
                  <a:lnTo>
                    <a:pt x="20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04880" y="2695680"/>
              <a:ext cx="715320" cy="322200"/>
            </a:xfrm>
            <a:custGeom>
              <a:avLst/>
              <a:gdLst/>
              <a:ahLst/>
              <a:rect l="l" t="t" r="r" b="b"/>
              <a:pathLst>
                <a:path w="991" h="799">
                  <a:moveTo>
                    <a:pt x="529" y="799"/>
                  </a:moveTo>
                  <a:lnTo>
                    <a:pt x="593" y="644"/>
                  </a:lnTo>
                  <a:lnTo>
                    <a:pt x="573" y="637"/>
                  </a:lnTo>
                  <a:lnTo>
                    <a:pt x="549" y="632"/>
                  </a:lnTo>
                  <a:lnTo>
                    <a:pt x="520" y="625"/>
                  </a:lnTo>
                  <a:lnTo>
                    <a:pt x="495" y="622"/>
                  </a:lnTo>
                  <a:lnTo>
                    <a:pt x="468" y="618"/>
                  </a:lnTo>
                  <a:lnTo>
                    <a:pt x="438" y="615"/>
                  </a:lnTo>
                  <a:lnTo>
                    <a:pt x="407" y="613"/>
                  </a:lnTo>
                  <a:lnTo>
                    <a:pt x="351" y="613"/>
                  </a:lnTo>
                  <a:lnTo>
                    <a:pt x="323" y="614"/>
                  </a:lnTo>
                  <a:lnTo>
                    <a:pt x="296" y="616"/>
                  </a:lnTo>
                  <a:lnTo>
                    <a:pt x="268" y="619"/>
                  </a:lnTo>
                  <a:lnTo>
                    <a:pt x="241" y="624"/>
                  </a:lnTo>
                  <a:lnTo>
                    <a:pt x="215" y="629"/>
                  </a:lnTo>
                  <a:lnTo>
                    <a:pt x="184" y="636"/>
                  </a:lnTo>
                  <a:lnTo>
                    <a:pt x="157" y="645"/>
                  </a:lnTo>
                  <a:lnTo>
                    <a:pt x="228" y="316"/>
                  </a:lnTo>
                  <a:lnTo>
                    <a:pt x="0" y="185"/>
                  </a:lnTo>
                  <a:lnTo>
                    <a:pt x="12" y="181"/>
                  </a:lnTo>
                  <a:lnTo>
                    <a:pt x="35" y="173"/>
                  </a:lnTo>
                  <a:lnTo>
                    <a:pt x="53" y="168"/>
                  </a:lnTo>
                  <a:lnTo>
                    <a:pt x="74" y="162"/>
                  </a:lnTo>
                  <a:lnTo>
                    <a:pt x="99" y="157"/>
                  </a:lnTo>
                  <a:lnTo>
                    <a:pt x="119" y="151"/>
                  </a:lnTo>
                  <a:lnTo>
                    <a:pt x="147" y="145"/>
                  </a:lnTo>
                  <a:lnTo>
                    <a:pt x="170" y="141"/>
                  </a:lnTo>
                  <a:lnTo>
                    <a:pt x="197" y="137"/>
                  </a:lnTo>
                  <a:lnTo>
                    <a:pt x="226" y="133"/>
                  </a:lnTo>
                  <a:lnTo>
                    <a:pt x="253" y="131"/>
                  </a:lnTo>
                  <a:lnTo>
                    <a:pt x="284" y="129"/>
                  </a:lnTo>
                  <a:lnTo>
                    <a:pt x="314" y="127"/>
                  </a:lnTo>
                  <a:lnTo>
                    <a:pt x="343" y="127"/>
                  </a:lnTo>
                  <a:lnTo>
                    <a:pt x="375" y="127"/>
                  </a:lnTo>
                  <a:lnTo>
                    <a:pt x="413" y="127"/>
                  </a:lnTo>
                  <a:lnTo>
                    <a:pt x="448" y="128"/>
                  </a:lnTo>
                  <a:lnTo>
                    <a:pt x="472" y="129"/>
                  </a:lnTo>
                  <a:lnTo>
                    <a:pt x="500" y="132"/>
                  </a:lnTo>
                  <a:lnTo>
                    <a:pt x="527" y="135"/>
                  </a:lnTo>
                  <a:lnTo>
                    <a:pt x="560" y="139"/>
                  </a:lnTo>
                  <a:lnTo>
                    <a:pt x="587" y="144"/>
                  </a:lnTo>
                  <a:lnTo>
                    <a:pt x="613" y="149"/>
                  </a:lnTo>
                  <a:lnTo>
                    <a:pt x="647" y="155"/>
                  </a:lnTo>
                  <a:lnTo>
                    <a:pt x="673" y="162"/>
                  </a:lnTo>
                  <a:lnTo>
                    <a:pt x="704" y="170"/>
                  </a:lnTo>
                  <a:lnTo>
                    <a:pt x="730" y="176"/>
                  </a:lnTo>
                  <a:lnTo>
                    <a:pt x="758" y="185"/>
                  </a:lnTo>
                  <a:lnTo>
                    <a:pt x="787" y="194"/>
                  </a:lnTo>
                  <a:lnTo>
                    <a:pt x="871" y="0"/>
                  </a:lnTo>
                  <a:lnTo>
                    <a:pt x="991" y="541"/>
                  </a:lnTo>
                  <a:lnTo>
                    <a:pt x="5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50840" y="2824200"/>
              <a:ext cx="1724760" cy="1355040"/>
              <a:chOff x="3750840" y="2824200"/>
              <a:chExt cx="1724760" cy="1355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452480" y="3400560"/>
                <a:ext cx="1023120" cy="727920"/>
                <a:chOff x="4452480" y="3400560"/>
                <a:chExt cx="1023120" cy="727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142240" y="3582360"/>
                  <a:ext cx="333360" cy="493560"/>
                  <a:chOff x="5142240" y="3582360"/>
                  <a:chExt cx="333360" cy="4935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142240" y="3582360"/>
                    <a:ext cx="333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70" y="22"/>
                        </a:lnTo>
                        <a:lnTo>
                          <a:pt x="498" y="39"/>
                        </a:lnTo>
                        <a:lnTo>
                          <a:pt x="510" y="52"/>
                        </a:lnTo>
                        <a:lnTo>
                          <a:pt x="504" y="115"/>
                        </a:lnTo>
                        <a:lnTo>
                          <a:pt x="501" y="178"/>
                        </a:lnTo>
                        <a:lnTo>
                          <a:pt x="501" y="238"/>
                        </a:lnTo>
                        <a:lnTo>
                          <a:pt x="501" y="286"/>
                        </a:lnTo>
                        <a:lnTo>
                          <a:pt x="503" y="333"/>
                        </a:lnTo>
                        <a:lnTo>
                          <a:pt x="508" y="368"/>
                        </a:lnTo>
                        <a:lnTo>
                          <a:pt x="512" y="401"/>
                        </a:lnTo>
                        <a:lnTo>
                          <a:pt x="517" y="428"/>
                        </a:lnTo>
                        <a:lnTo>
                          <a:pt x="525" y="461"/>
                        </a:lnTo>
                        <a:lnTo>
                          <a:pt x="532" y="490"/>
                        </a:lnTo>
                        <a:lnTo>
                          <a:pt x="539" y="514"/>
                        </a:lnTo>
                        <a:lnTo>
                          <a:pt x="553" y="563"/>
                        </a:lnTo>
                        <a:lnTo>
                          <a:pt x="570" y="618"/>
                        </a:lnTo>
                        <a:lnTo>
                          <a:pt x="594" y="690"/>
                        </a:lnTo>
                        <a:lnTo>
                          <a:pt x="620" y="761"/>
                        </a:lnTo>
                        <a:lnTo>
                          <a:pt x="649" y="831"/>
                        </a:lnTo>
                        <a:lnTo>
                          <a:pt x="665" y="872"/>
                        </a:lnTo>
                        <a:lnTo>
                          <a:pt x="693" y="918"/>
                        </a:lnTo>
                        <a:lnTo>
                          <a:pt x="693" y="1054"/>
                        </a:lnTo>
                        <a:lnTo>
                          <a:pt x="652" y="1073"/>
                        </a:lnTo>
                        <a:lnTo>
                          <a:pt x="607" y="1083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142240" y="3582360"/>
                    <a:ext cx="261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37" y="62"/>
                        </a:lnTo>
                        <a:lnTo>
                          <a:pt x="435" y="113"/>
                        </a:lnTo>
                        <a:lnTo>
                          <a:pt x="433" y="172"/>
                        </a:lnTo>
                        <a:lnTo>
                          <a:pt x="432" y="234"/>
                        </a:lnTo>
                        <a:lnTo>
                          <a:pt x="432" y="289"/>
                        </a:lnTo>
                        <a:lnTo>
                          <a:pt x="431" y="348"/>
                        </a:lnTo>
                        <a:lnTo>
                          <a:pt x="432" y="405"/>
                        </a:lnTo>
                        <a:lnTo>
                          <a:pt x="434" y="450"/>
                        </a:lnTo>
                        <a:lnTo>
                          <a:pt x="437" y="500"/>
                        </a:lnTo>
                        <a:lnTo>
                          <a:pt x="440" y="545"/>
                        </a:lnTo>
                        <a:lnTo>
                          <a:pt x="443" y="586"/>
                        </a:lnTo>
                        <a:lnTo>
                          <a:pt x="449" y="629"/>
                        </a:lnTo>
                        <a:lnTo>
                          <a:pt x="453" y="668"/>
                        </a:lnTo>
                        <a:lnTo>
                          <a:pt x="458" y="707"/>
                        </a:lnTo>
                        <a:lnTo>
                          <a:pt x="466" y="749"/>
                        </a:lnTo>
                        <a:lnTo>
                          <a:pt x="478" y="786"/>
                        </a:lnTo>
                        <a:lnTo>
                          <a:pt x="497" y="846"/>
                        </a:lnTo>
                        <a:lnTo>
                          <a:pt x="519" y="920"/>
                        </a:lnTo>
                        <a:lnTo>
                          <a:pt x="536" y="960"/>
                        </a:lnTo>
                        <a:lnTo>
                          <a:pt x="543" y="992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39120" y="3486240"/>
                  <a:ext cx="415800" cy="616680"/>
                  <a:chOff x="4839120" y="3486240"/>
                  <a:chExt cx="415800" cy="616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39120" y="3486240"/>
                    <a:ext cx="4158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6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88" y="30"/>
                        </a:lnTo>
                        <a:lnTo>
                          <a:pt x="622" y="50"/>
                        </a:lnTo>
                        <a:lnTo>
                          <a:pt x="638" y="67"/>
                        </a:lnTo>
                        <a:lnTo>
                          <a:pt x="630" y="145"/>
                        </a:lnTo>
                        <a:lnTo>
                          <a:pt x="626" y="222"/>
                        </a:lnTo>
                        <a:lnTo>
                          <a:pt x="626" y="298"/>
                        </a:lnTo>
                        <a:lnTo>
                          <a:pt x="626" y="359"/>
                        </a:lnTo>
                        <a:lnTo>
                          <a:pt x="629" y="416"/>
                        </a:lnTo>
                        <a:lnTo>
                          <a:pt x="634" y="461"/>
                        </a:lnTo>
                        <a:lnTo>
                          <a:pt x="639" y="500"/>
                        </a:lnTo>
                        <a:lnTo>
                          <a:pt x="647" y="534"/>
                        </a:lnTo>
                        <a:lnTo>
                          <a:pt x="656" y="575"/>
                        </a:lnTo>
                        <a:lnTo>
                          <a:pt x="664" y="610"/>
                        </a:lnTo>
                        <a:lnTo>
                          <a:pt x="673" y="642"/>
                        </a:lnTo>
                        <a:lnTo>
                          <a:pt x="691" y="704"/>
                        </a:lnTo>
                        <a:lnTo>
                          <a:pt x="711" y="770"/>
                        </a:lnTo>
                        <a:lnTo>
                          <a:pt x="742" y="859"/>
                        </a:lnTo>
                        <a:lnTo>
                          <a:pt x="775" y="948"/>
                        </a:lnTo>
                        <a:lnTo>
                          <a:pt x="810" y="1037"/>
                        </a:lnTo>
                        <a:lnTo>
                          <a:pt x="830" y="1086"/>
                        </a:lnTo>
                        <a:lnTo>
                          <a:pt x="866" y="1143"/>
                        </a:lnTo>
                        <a:lnTo>
                          <a:pt x="866" y="1314"/>
                        </a:lnTo>
                        <a:lnTo>
                          <a:pt x="814" y="1338"/>
                        </a:lnTo>
                        <a:lnTo>
                          <a:pt x="758" y="1349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39120" y="3486240"/>
                    <a:ext cx="32508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46" y="80"/>
                        </a:lnTo>
                        <a:lnTo>
                          <a:pt x="544" y="142"/>
                        </a:lnTo>
                        <a:lnTo>
                          <a:pt x="541" y="217"/>
                        </a:lnTo>
                        <a:lnTo>
                          <a:pt x="539" y="293"/>
                        </a:lnTo>
                        <a:lnTo>
                          <a:pt x="539" y="363"/>
                        </a:lnTo>
                        <a:lnTo>
                          <a:pt x="539" y="435"/>
                        </a:lnTo>
                        <a:lnTo>
                          <a:pt x="541" y="505"/>
                        </a:lnTo>
                        <a:lnTo>
                          <a:pt x="543" y="561"/>
                        </a:lnTo>
                        <a:lnTo>
                          <a:pt x="547" y="623"/>
                        </a:lnTo>
                        <a:lnTo>
                          <a:pt x="550" y="680"/>
                        </a:lnTo>
                        <a:lnTo>
                          <a:pt x="553" y="729"/>
                        </a:lnTo>
                        <a:lnTo>
                          <a:pt x="560" y="784"/>
                        </a:lnTo>
                        <a:lnTo>
                          <a:pt x="566" y="832"/>
                        </a:lnTo>
                        <a:lnTo>
                          <a:pt x="573" y="882"/>
                        </a:lnTo>
                        <a:lnTo>
                          <a:pt x="583" y="934"/>
                        </a:lnTo>
                        <a:lnTo>
                          <a:pt x="597" y="979"/>
                        </a:lnTo>
                        <a:lnTo>
                          <a:pt x="621" y="1054"/>
                        </a:lnTo>
                        <a:lnTo>
                          <a:pt x="649" y="1146"/>
                        </a:lnTo>
                        <a:lnTo>
                          <a:pt x="669" y="1196"/>
                        </a:lnTo>
                        <a:lnTo>
                          <a:pt x="677" y="1236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452480" y="3400560"/>
                  <a:ext cx="493560" cy="727920"/>
                  <a:chOff x="4452480" y="3400560"/>
                  <a:chExt cx="493560" cy="7279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452480" y="3400560"/>
                    <a:ext cx="49356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97" y="35"/>
                        </a:lnTo>
                        <a:lnTo>
                          <a:pt x="737" y="59"/>
                        </a:lnTo>
                        <a:lnTo>
                          <a:pt x="755" y="78"/>
                        </a:lnTo>
                        <a:lnTo>
                          <a:pt x="746" y="171"/>
                        </a:lnTo>
                        <a:lnTo>
                          <a:pt x="741" y="261"/>
                        </a:lnTo>
                        <a:lnTo>
                          <a:pt x="741" y="353"/>
                        </a:lnTo>
                        <a:lnTo>
                          <a:pt x="741" y="424"/>
                        </a:lnTo>
                        <a:lnTo>
                          <a:pt x="745" y="491"/>
                        </a:lnTo>
                        <a:lnTo>
                          <a:pt x="751" y="545"/>
                        </a:lnTo>
                        <a:lnTo>
                          <a:pt x="757" y="592"/>
                        </a:lnTo>
                        <a:lnTo>
                          <a:pt x="765" y="631"/>
                        </a:lnTo>
                        <a:lnTo>
                          <a:pt x="777" y="681"/>
                        </a:lnTo>
                        <a:lnTo>
                          <a:pt x="787" y="722"/>
                        </a:lnTo>
                        <a:lnTo>
                          <a:pt x="796" y="757"/>
                        </a:lnTo>
                        <a:lnTo>
                          <a:pt x="818" y="832"/>
                        </a:lnTo>
                        <a:lnTo>
                          <a:pt x="841" y="909"/>
                        </a:lnTo>
                        <a:lnTo>
                          <a:pt x="878" y="1015"/>
                        </a:lnTo>
                        <a:lnTo>
                          <a:pt x="917" y="1121"/>
                        </a:lnTo>
                        <a:lnTo>
                          <a:pt x="959" y="1226"/>
                        </a:lnTo>
                        <a:lnTo>
                          <a:pt x="983" y="1285"/>
                        </a:lnTo>
                        <a:lnTo>
                          <a:pt x="1026" y="1350"/>
                        </a:lnTo>
                        <a:lnTo>
                          <a:pt x="1026" y="1553"/>
                        </a:lnTo>
                        <a:lnTo>
                          <a:pt x="964" y="1581"/>
                        </a:lnTo>
                        <a:lnTo>
                          <a:pt x="898" y="1594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2480" y="3400560"/>
                    <a:ext cx="3852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46" y="93"/>
                        </a:lnTo>
                        <a:lnTo>
                          <a:pt x="643" y="167"/>
                        </a:lnTo>
                        <a:lnTo>
                          <a:pt x="641" y="256"/>
                        </a:lnTo>
                        <a:lnTo>
                          <a:pt x="638" y="347"/>
                        </a:lnTo>
                        <a:lnTo>
                          <a:pt x="637" y="428"/>
                        </a:lnTo>
                        <a:lnTo>
                          <a:pt x="637" y="515"/>
                        </a:lnTo>
                        <a:lnTo>
                          <a:pt x="637" y="596"/>
                        </a:lnTo>
                        <a:lnTo>
                          <a:pt x="642" y="662"/>
                        </a:lnTo>
                        <a:lnTo>
                          <a:pt x="647" y="736"/>
                        </a:lnTo>
                        <a:lnTo>
                          <a:pt x="650" y="803"/>
                        </a:lnTo>
                        <a:lnTo>
                          <a:pt x="655" y="861"/>
                        </a:lnTo>
                        <a:lnTo>
                          <a:pt x="663" y="926"/>
                        </a:lnTo>
                        <a:lnTo>
                          <a:pt x="669" y="983"/>
                        </a:lnTo>
                        <a:lnTo>
                          <a:pt x="677" y="1042"/>
                        </a:lnTo>
                        <a:lnTo>
                          <a:pt x="690" y="1103"/>
                        </a:lnTo>
                        <a:lnTo>
                          <a:pt x="707" y="1156"/>
                        </a:lnTo>
                        <a:lnTo>
                          <a:pt x="736" y="1245"/>
                        </a:lnTo>
                        <a:lnTo>
                          <a:pt x="767" y="1354"/>
                        </a:lnTo>
                        <a:lnTo>
                          <a:pt x="792" y="1415"/>
                        </a:lnTo>
                        <a:lnTo>
                          <a:pt x="802" y="1461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4832280" y="2824200"/>
                <a:ext cx="89640" cy="1280160"/>
                <a:chOff x="4832280" y="2824200"/>
                <a:chExt cx="89640" cy="1280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32280" y="2824200"/>
                  <a:ext cx="89640" cy="53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32280" y="2849400"/>
                  <a:ext cx="89640" cy="125496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4833720" y="2825280"/>
                  <a:ext cx="87840" cy="1277640"/>
                  <a:chOff x="4833720" y="2825280"/>
                  <a:chExt cx="87840" cy="12776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33720" y="2825280"/>
                    <a:ext cx="87840" cy="1277640"/>
                    <a:chOff x="4833720" y="2825280"/>
                    <a:chExt cx="87840" cy="12776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33720" y="2825280"/>
                      <a:ext cx="87840" cy="507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720" y="2850480"/>
                      <a:ext cx="87840" cy="12524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844880" y="2825280"/>
                    <a:ext cx="50040" cy="1274760"/>
                    <a:chOff x="4844880" y="2825280"/>
                    <a:chExt cx="50040" cy="1274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4880" y="2825280"/>
                      <a:ext cx="50040" cy="5076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844880" y="2850480"/>
                      <a:ext cx="50040" cy="124956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3750840" y="3526560"/>
                <a:ext cx="1371600" cy="652680"/>
                <a:chOff x="3750840" y="3526560"/>
                <a:chExt cx="1371600" cy="652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50840" y="4044240"/>
                  <a:ext cx="64800" cy="86760"/>
                </a:xfrm>
                <a:custGeom>
                  <a:avLst/>
                  <a:gdLst/>
                  <a:ahLst/>
                  <a:rect l="l" t="t" r="r" b="b"/>
                  <a:pathLst>
                    <a:path w="134" h="194">
                      <a:moveTo>
                        <a:pt x="134" y="0"/>
                      </a:moveTo>
                      <a:lnTo>
                        <a:pt x="0" y="40"/>
                      </a:lnTo>
                      <a:lnTo>
                        <a:pt x="0" y="107"/>
                      </a:lnTo>
                      <a:lnTo>
                        <a:pt x="21" y="107"/>
                      </a:lnTo>
                      <a:lnTo>
                        <a:pt x="21" y="194"/>
                      </a:lnTo>
                      <a:lnTo>
                        <a:pt x="56" y="194"/>
                      </a:lnTo>
                      <a:lnTo>
                        <a:pt x="56" y="107"/>
                      </a:lnTo>
                      <a:lnTo>
                        <a:pt x="129" y="107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3811680" y="3542400"/>
                  <a:ext cx="1266480" cy="618120"/>
                  <a:chOff x="3811680" y="3542400"/>
                  <a:chExt cx="1266480" cy="6181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371480" y="3658320"/>
                    <a:ext cx="706680" cy="495000"/>
                    <a:chOff x="4371480" y="3658320"/>
                    <a:chExt cx="706680" cy="4950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47120" y="4014000"/>
                      <a:ext cx="1310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220">
                          <a:moveTo>
                            <a:pt x="0" y="55"/>
                          </a:moveTo>
                          <a:lnTo>
                            <a:pt x="84" y="55"/>
                          </a:lnTo>
                          <a:lnTo>
                            <a:pt x="84" y="7"/>
                          </a:lnTo>
                          <a:lnTo>
                            <a:pt x="141" y="0"/>
                          </a:lnTo>
                          <a:lnTo>
                            <a:pt x="141" y="55"/>
                          </a:lnTo>
                          <a:lnTo>
                            <a:pt x="175" y="65"/>
                          </a:lnTo>
                          <a:lnTo>
                            <a:pt x="175" y="27"/>
                          </a:lnTo>
                          <a:lnTo>
                            <a:pt x="226" y="27"/>
                          </a:lnTo>
                          <a:lnTo>
                            <a:pt x="226" y="75"/>
                          </a:lnTo>
                          <a:lnTo>
                            <a:pt x="275" y="94"/>
                          </a:lnTo>
                          <a:lnTo>
                            <a:pt x="275" y="220"/>
                          </a:lnTo>
                          <a:lnTo>
                            <a:pt x="0" y="22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371480" y="3658320"/>
                      <a:ext cx="591480" cy="495000"/>
                      <a:chOff x="4371480" y="3658320"/>
                      <a:chExt cx="591480" cy="495000"/>
                    </a:xfrm>
                  </p:grpSpPr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4857840" y="3840120"/>
                        <a:ext cx="105120" cy="302400"/>
                        <a:chOff x="4857840" y="3840120"/>
                        <a:chExt cx="105120" cy="3024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857840" y="3840120"/>
                          <a:ext cx="105120" cy="30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679">
                              <a:moveTo>
                                <a:pt x="0" y="0"/>
                              </a:moveTo>
                              <a:lnTo>
                                <a:pt x="78" y="49"/>
                              </a:lnTo>
                              <a:lnTo>
                                <a:pt x="78" y="137"/>
                              </a:lnTo>
                              <a:lnTo>
                                <a:pt x="170" y="175"/>
                              </a:lnTo>
                              <a:lnTo>
                                <a:pt x="170" y="127"/>
                              </a:lnTo>
                              <a:lnTo>
                                <a:pt x="219" y="146"/>
                              </a:lnTo>
                              <a:lnTo>
                                <a:pt x="219" y="617"/>
                              </a:lnTo>
                              <a:lnTo>
                                <a:pt x="0" y="67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858920" y="3941640"/>
                          <a:ext cx="50040" cy="19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425">
                              <a:moveTo>
                                <a:pt x="0" y="0"/>
                              </a:moveTo>
                              <a:lnTo>
                                <a:pt x="106" y="58"/>
                              </a:lnTo>
                              <a:lnTo>
                                <a:pt x="106" y="415"/>
                              </a:lnTo>
                              <a:lnTo>
                                <a:pt x="71" y="425"/>
                              </a:lnTo>
                              <a:lnTo>
                                <a:pt x="71" y="66"/>
                              </a:lnTo>
                              <a:lnTo>
                                <a:pt x="0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4371480" y="3658320"/>
                        <a:ext cx="523080" cy="495000"/>
                        <a:chOff x="4371480" y="3658320"/>
                        <a:chExt cx="523080" cy="4950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71480" y="3658320"/>
                          <a:ext cx="40932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1111">
                              <a:moveTo>
                                <a:pt x="0" y="240"/>
                              </a:moveTo>
                              <a:lnTo>
                                <a:pt x="850" y="0"/>
                              </a:lnTo>
                              <a:lnTo>
                                <a:pt x="850" y="1111"/>
                              </a:lnTo>
                              <a:lnTo>
                                <a:pt x="0" y="1111"/>
                              </a:lnTo>
                              <a:lnTo>
                                <a:pt x="0" y="2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4779720" y="3658320"/>
                          <a:ext cx="11484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1109">
                              <a:moveTo>
                                <a:pt x="154" y="5"/>
                              </a:moveTo>
                              <a:lnTo>
                                <a:pt x="154" y="53"/>
                              </a:lnTo>
                              <a:lnTo>
                                <a:pt x="0" y="0"/>
                              </a:lnTo>
                              <a:lnTo>
                                <a:pt x="0" y="1109"/>
                              </a:lnTo>
                              <a:lnTo>
                                <a:pt x="161" y="1081"/>
                              </a:lnTo>
                              <a:lnTo>
                                <a:pt x="161" y="238"/>
                              </a:lnTo>
                              <a:lnTo>
                                <a:pt x="239" y="256"/>
                              </a:lnTo>
                              <a:lnTo>
                                <a:pt x="239" y="34"/>
                              </a:lnTo>
                              <a:lnTo>
                                <a:pt x="154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4551840" y="3691800"/>
                        <a:ext cx="88920" cy="363600"/>
                        <a:chOff x="4551840" y="3691800"/>
                        <a:chExt cx="88920" cy="363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551840" y="3691800"/>
                          <a:ext cx="63360" cy="29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659">
                              <a:moveTo>
                                <a:pt x="134" y="0"/>
                              </a:moveTo>
                              <a:lnTo>
                                <a:pt x="134" y="649"/>
                              </a:lnTo>
                              <a:lnTo>
                                <a:pt x="0" y="659"/>
                              </a:lnTo>
                              <a:lnTo>
                                <a:pt x="0" y="28"/>
                              </a:lnTo>
                              <a:lnTo>
                                <a:pt x="1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551840" y="3980520"/>
                          <a:ext cx="83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49">
                              <a:moveTo>
                                <a:pt x="0" y="10"/>
                              </a:moveTo>
                              <a:lnTo>
                                <a:pt x="134" y="0"/>
                              </a:lnTo>
                              <a:lnTo>
                                <a:pt x="176" y="146"/>
                              </a:lnTo>
                              <a:lnTo>
                                <a:pt x="59" y="14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4616280" y="3691800"/>
                          <a:ext cx="2448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815">
                              <a:moveTo>
                                <a:pt x="0" y="0"/>
                              </a:moveTo>
                              <a:lnTo>
                                <a:pt x="53" y="5"/>
                              </a:lnTo>
                              <a:lnTo>
                                <a:pt x="53" y="815"/>
                              </a:lnTo>
                              <a:lnTo>
                                <a:pt x="0" y="65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407480" y="3730680"/>
                        <a:ext cx="99000" cy="327240"/>
                        <a:chOff x="4407480" y="3730680"/>
                        <a:chExt cx="99000" cy="32724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471920" y="3730680"/>
                          <a:ext cx="34560" cy="32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32">
                              <a:moveTo>
                                <a:pt x="0" y="0"/>
                              </a:moveTo>
                              <a:lnTo>
                                <a:pt x="0" y="582"/>
                              </a:lnTo>
                              <a:lnTo>
                                <a:pt x="71" y="732"/>
                              </a:lnTo>
                              <a:lnTo>
                                <a:pt x="71" y="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411440" y="3730680"/>
                          <a:ext cx="60480" cy="26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601">
                              <a:moveTo>
                                <a:pt x="0" y="30"/>
                              </a:moveTo>
                              <a:lnTo>
                                <a:pt x="126" y="0"/>
                              </a:lnTo>
                              <a:lnTo>
                                <a:pt x="126" y="592"/>
                              </a:lnTo>
                              <a:lnTo>
                                <a:pt x="0" y="601"/>
                              </a:lnTo>
                              <a:lnTo>
                                <a:pt x="0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407480" y="3989880"/>
                          <a:ext cx="979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155">
                              <a:moveTo>
                                <a:pt x="0" y="10"/>
                              </a:moveTo>
                              <a:lnTo>
                                <a:pt x="133" y="0"/>
                              </a:lnTo>
                              <a:lnTo>
                                <a:pt x="204" y="155"/>
                              </a:lnTo>
                              <a:lnTo>
                                <a:pt x="69" y="155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4681800" y="3660840"/>
                        <a:ext cx="91800" cy="292680"/>
                        <a:chOff x="4681800" y="3660840"/>
                        <a:chExt cx="91800" cy="2926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82880" y="3853080"/>
                          <a:ext cx="8928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218">
                              <a:moveTo>
                                <a:pt x="0" y="4"/>
                              </a:moveTo>
                              <a:lnTo>
                                <a:pt x="123" y="0"/>
                              </a:lnTo>
                              <a:lnTo>
                                <a:pt x="187" y="218"/>
                              </a:lnTo>
                              <a:lnTo>
                                <a:pt x="67" y="21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681800" y="3660840"/>
                          <a:ext cx="60480" cy="19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446">
                              <a:moveTo>
                                <a:pt x="0" y="446"/>
                              </a:moveTo>
                              <a:lnTo>
                                <a:pt x="126" y="426"/>
                              </a:lnTo>
                              <a:lnTo>
                                <a:pt x="126" y="0"/>
                              </a:lnTo>
                              <a:lnTo>
                                <a:pt x="0" y="27"/>
                              </a:lnTo>
                              <a:lnTo>
                                <a:pt x="0" y="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40840" y="3660840"/>
                          <a:ext cx="3276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655">
                              <a:moveTo>
                                <a:pt x="0" y="0"/>
                              </a:moveTo>
                              <a:lnTo>
                                <a:pt x="0" y="432"/>
                              </a:lnTo>
                              <a:lnTo>
                                <a:pt x="67" y="655"/>
                              </a:lnTo>
                              <a:lnTo>
                                <a:pt x="67" y="1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4540320" y="3714480"/>
                        <a:ext cx="70200" cy="246960"/>
                        <a:chOff x="4540320" y="3714480"/>
                        <a:chExt cx="70200" cy="24696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40320" y="3714480"/>
                          <a:ext cx="3564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354">
                              <a:moveTo>
                                <a:pt x="0" y="14"/>
                              </a:moveTo>
                              <a:lnTo>
                                <a:pt x="77" y="0"/>
                              </a:lnTo>
                              <a:lnTo>
                                <a:pt x="77" y="354"/>
                              </a:lnTo>
                              <a:lnTo>
                                <a:pt x="0" y="354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40320" y="3871800"/>
                          <a:ext cx="68760" cy="8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198">
                              <a:moveTo>
                                <a:pt x="0" y="0"/>
                              </a:moveTo>
                              <a:lnTo>
                                <a:pt x="77" y="0"/>
                              </a:lnTo>
                              <a:lnTo>
                                <a:pt x="144" y="198"/>
                              </a:lnTo>
                              <a:lnTo>
                                <a:pt x="70" y="1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4575960" y="3714480"/>
                          <a:ext cx="34560" cy="24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554">
                              <a:moveTo>
                                <a:pt x="70" y="554"/>
                              </a:moveTo>
                              <a:lnTo>
                                <a:pt x="70" y="24"/>
                              </a:lnTo>
                              <a:lnTo>
                                <a:pt x="0" y="0"/>
                              </a:lnTo>
                              <a:lnTo>
                                <a:pt x="0" y="364"/>
                              </a:lnTo>
                              <a:lnTo>
                                <a:pt x="70" y="5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400280" y="3773520"/>
                        <a:ext cx="65880" cy="194760"/>
                        <a:chOff x="4400280" y="3773520"/>
                        <a:chExt cx="65880" cy="1947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400280" y="3884400"/>
                          <a:ext cx="6444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83">
                              <a:moveTo>
                                <a:pt x="57" y="183"/>
                              </a:moveTo>
                              <a:lnTo>
                                <a:pt x="134" y="183"/>
                              </a:lnTo>
                              <a:lnTo>
                                <a:pt x="77" y="0"/>
                              </a:lnTo>
                              <a:lnTo>
                                <a:pt x="0" y="0"/>
                              </a:lnTo>
                              <a:lnTo>
                                <a:pt x="57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00280" y="3773520"/>
                          <a:ext cx="385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249">
                              <a:moveTo>
                                <a:pt x="0" y="249"/>
                              </a:moveTo>
                              <a:lnTo>
                                <a:pt x="77" y="249"/>
                              </a:lnTo>
                              <a:lnTo>
                                <a:pt x="81" y="0"/>
                              </a:lnTo>
                              <a:lnTo>
                                <a:pt x="0" y="16"/>
                              </a:lnTo>
                              <a:lnTo>
                                <a:pt x="0" y="2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37720" y="3776040"/>
                          <a:ext cx="28440" cy="19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32">
                              <a:moveTo>
                                <a:pt x="0" y="0"/>
                              </a:moveTo>
                              <a:lnTo>
                                <a:pt x="0" y="244"/>
                              </a:lnTo>
                              <a:lnTo>
                                <a:pt x="61" y="432"/>
                              </a:lnTo>
                              <a:lnTo>
                                <a:pt x="57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836160" y="3542400"/>
                    <a:ext cx="546480" cy="618120"/>
                    <a:chOff x="3836160" y="3542400"/>
                    <a:chExt cx="546480" cy="618120"/>
                  </a:xfrm>
                </p:grpSpPr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3836160" y="3542400"/>
                      <a:ext cx="546480" cy="618120"/>
                      <a:chOff x="3836160" y="3542400"/>
                      <a:chExt cx="546480" cy="6181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76080" y="3709440"/>
                        <a:ext cx="106560" cy="44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988">
                            <a:moveTo>
                              <a:pt x="62" y="0"/>
                            </a:moveTo>
                            <a:lnTo>
                              <a:pt x="62" y="116"/>
                            </a:lnTo>
                            <a:lnTo>
                              <a:pt x="0" y="97"/>
                            </a:lnTo>
                            <a:lnTo>
                              <a:pt x="0" y="988"/>
                            </a:lnTo>
                            <a:lnTo>
                              <a:pt x="223" y="978"/>
                            </a:lnTo>
                            <a:lnTo>
                              <a:pt x="223" y="116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258800" y="3709440"/>
                        <a:ext cx="4608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65">
                            <a:moveTo>
                              <a:pt x="98" y="0"/>
                            </a:moveTo>
                            <a:lnTo>
                              <a:pt x="0" y="30"/>
                            </a:lnTo>
                            <a:lnTo>
                              <a:pt x="0" y="165"/>
                            </a:lnTo>
                            <a:lnTo>
                              <a:pt x="98" y="165"/>
                            </a:lnTo>
                            <a:lnTo>
                              <a:pt x="9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3836160" y="3542400"/>
                        <a:ext cx="292680" cy="61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1" h="1385">
                            <a:moveTo>
                              <a:pt x="0" y="256"/>
                            </a:moveTo>
                            <a:lnTo>
                              <a:pt x="611" y="0"/>
                            </a:lnTo>
                            <a:lnTo>
                              <a:pt x="611" y="1385"/>
                            </a:lnTo>
                            <a:lnTo>
                              <a:pt x="1" y="1360"/>
                            </a:lnTo>
                            <a:lnTo>
                              <a:pt x="0" y="256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130280" y="3544920"/>
                        <a:ext cx="148320" cy="61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1381">
                            <a:moveTo>
                              <a:pt x="0" y="0"/>
                            </a:moveTo>
                            <a:lnTo>
                              <a:pt x="49" y="20"/>
                            </a:lnTo>
                            <a:lnTo>
                              <a:pt x="120" y="10"/>
                            </a:lnTo>
                            <a:lnTo>
                              <a:pt x="191" y="30"/>
                            </a:lnTo>
                            <a:lnTo>
                              <a:pt x="191" y="78"/>
                            </a:lnTo>
                            <a:lnTo>
                              <a:pt x="310" y="140"/>
                            </a:lnTo>
                            <a:lnTo>
                              <a:pt x="310" y="1332"/>
                            </a:lnTo>
                            <a:lnTo>
                              <a:pt x="0" y="138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19280" y="3731040"/>
                      <a:ext cx="5436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45">
                          <a:moveTo>
                            <a:pt x="0" y="0"/>
                          </a:moveTo>
                          <a:lnTo>
                            <a:pt x="0" y="78"/>
                          </a:lnTo>
                          <a:lnTo>
                            <a:pt x="112" y="145"/>
                          </a:lnTo>
                          <a:lnTo>
                            <a:pt x="112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811680" y="3745440"/>
                    <a:ext cx="65880" cy="406800"/>
                    <a:chOff x="3811680" y="3745440"/>
                    <a:chExt cx="65880" cy="4068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811680" y="3745440"/>
                      <a:ext cx="65880" cy="406800"/>
                      <a:chOff x="3811680" y="3745440"/>
                      <a:chExt cx="65880" cy="40680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811680" y="3745440"/>
                        <a:ext cx="37080" cy="40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11">
                            <a:moveTo>
                              <a:pt x="0" y="28"/>
                            </a:moveTo>
                            <a:lnTo>
                              <a:pt x="77" y="0"/>
                            </a:lnTo>
                            <a:lnTo>
                              <a:pt x="77" y="911"/>
                            </a:lnTo>
                            <a:lnTo>
                              <a:pt x="0" y="911"/>
                            </a:lnTo>
                            <a:lnTo>
                              <a:pt x="0" y="2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850200" y="3746880"/>
                        <a:ext cx="27360" cy="4035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63160" y="3762720"/>
                      <a:ext cx="360" cy="168840"/>
                      <a:chOff x="3863160" y="3762720"/>
                      <a:chExt cx="360" cy="168840"/>
                    </a:xfrm>
                  </p:grpSpPr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3863160" y="3762720"/>
                        <a:ext cx="360" cy="73440"/>
                        <a:chOff x="3863160" y="3762720"/>
                        <a:chExt cx="360" cy="7344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863160" y="376272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3863160" y="380808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63160" y="3858840"/>
                        <a:ext cx="360" cy="72720"/>
                        <a:chOff x="3863160" y="3858840"/>
                        <a:chExt cx="360" cy="7272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63160" y="385884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863160" y="3903840"/>
                          <a:ext cx="360" cy="27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893760" y="3526560"/>
                  <a:ext cx="195840" cy="107640"/>
                  <a:chOff x="3893760" y="3526560"/>
                  <a:chExt cx="195840" cy="10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893760" y="3595680"/>
                    <a:ext cx="17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7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34" y="73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006080" y="35517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2" y="74"/>
                        </a:lnTo>
                        <a:lnTo>
                          <a:pt x="3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51000" y="3573000"/>
                    <a:ext cx="15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72320" y="3526560"/>
                    <a:ext cx="172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186800" y="3724560"/>
                  <a:ext cx="113760" cy="437400"/>
                  <a:chOff x="4186800" y="3724560"/>
                  <a:chExt cx="113760" cy="4374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186800" y="3724560"/>
                    <a:ext cx="113760" cy="437400"/>
                    <a:chOff x="4186800" y="3724560"/>
                    <a:chExt cx="113760" cy="4374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22440" y="3724560"/>
                      <a:ext cx="7812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978">
                          <a:moveTo>
                            <a:pt x="0" y="0"/>
                          </a:moveTo>
                          <a:lnTo>
                            <a:pt x="162" y="48"/>
                          </a:lnTo>
                          <a:lnTo>
                            <a:pt x="162" y="956"/>
                          </a:lnTo>
                          <a:lnTo>
                            <a:pt x="0" y="9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86800" y="3724560"/>
                      <a:ext cx="356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980">
                          <a:moveTo>
                            <a:pt x="74" y="0"/>
                          </a:moveTo>
                          <a:lnTo>
                            <a:pt x="74" y="980"/>
                          </a:lnTo>
                          <a:lnTo>
                            <a:pt x="0" y="963"/>
                          </a:lnTo>
                          <a:lnTo>
                            <a:pt x="0" y="2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253040" y="3787200"/>
                    <a:ext cx="360" cy="168840"/>
                    <a:chOff x="4253040" y="3787200"/>
                    <a:chExt cx="360" cy="1688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4253040" y="3787200"/>
                      <a:ext cx="360" cy="72720"/>
                      <a:chOff x="4253040" y="3787200"/>
                      <a:chExt cx="360" cy="7272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253040" y="3787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253040" y="3832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4253040" y="3881880"/>
                      <a:ext cx="360" cy="74160"/>
                      <a:chOff x="4253040" y="3881880"/>
                      <a:chExt cx="360" cy="741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253040" y="3881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253040" y="3926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4276440" y="3864960"/>
                  <a:ext cx="176040" cy="284760"/>
                </a:xfrm>
                <a:custGeom>
                  <a:avLst/>
                  <a:gdLst/>
                  <a:ahLst/>
                  <a:rect l="l" t="t" r="r" b="b"/>
                  <a:pathLst>
                    <a:path w="365" h="638">
                      <a:moveTo>
                        <a:pt x="0" y="638"/>
                      </a:moveTo>
                      <a:lnTo>
                        <a:pt x="365" y="638"/>
                      </a:lnTo>
                      <a:lnTo>
                        <a:pt x="365" y="0"/>
                      </a:lnTo>
                      <a:lnTo>
                        <a:pt x="140" y="18"/>
                      </a:lnTo>
                      <a:lnTo>
                        <a:pt x="140" y="475"/>
                      </a:lnTo>
                      <a:lnTo>
                        <a:pt x="0" y="513"/>
                      </a:lnTo>
                      <a:lnTo>
                        <a:pt x="0" y="6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18040" y="3971880"/>
                  <a:ext cx="31680" cy="164520"/>
                </a:xfrm>
                <a:custGeom>
                  <a:avLst/>
                  <a:gdLst/>
                  <a:ahLst/>
                  <a:rect l="l" t="t" r="r" b="b"/>
                  <a:pathLst>
                    <a:path w="66" h="367">
                      <a:moveTo>
                        <a:pt x="0" y="61"/>
                      </a:moveTo>
                      <a:lnTo>
                        <a:pt x="1" y="43"/>
                      </a:lnTo>
                      <a:lnTo>
                        <a:pt x="5" y="24"/>
                      </a:lnTo>
                      <a:lnTo>
                        <a:pt x="14" y="9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47" y="6"/>
                      </a:lnTo>
                      <a:lnTo>
                        <a:pt x="56" y="16"/>
                      </a:lnTo>
                      <a:lnTo>
                        <a:pt x="62" y="27"/>
                      </a:lnTo>
                      <a:lnTo>
                        <a:pt x="65" y="40"/>
                      </a:lnTo>
                      <a:lnTo>
                        <a:pt x="66" y="50"/>
                      </a:lnTo>
                      <a:lnTo>
                        <a:pt x="66" y="64"/>
                      </a:lnTo>
                      <a:lnTo>
                        <a:pt x="53" y="64"/>
                      </a:lnTo>
                      <a:lnTo>
                        <a:pt x="53" y="43"/>
                      </a:lnTo>
                      <a:lnTo>
                        <a:pt x="48" y="27"/>
                      </a:lnTo>
                      <a:lnTo>
                        <a:pt x="41" y="20"/>
                      </a:lnTo>
                      <a:lnTo>
                        <a:pt x="30" y="20"/>
                      </a:lnTo>
                      <a:lnTo>
                        <a:pt x="22" y="26"/>
                      </a:lnTo>
                      <a:lnTo>
                        <a:pt x="15" y="37"/>
                      </a:lnTo>
                      <a:lnTo>
                        <a:pt x="13" y="51"/>
                      </a:lnTo>
                      <a:lnTo>
                        <a:pt x="13" y="69"/>
                      </a:lnTo>
                      <a:lnTo>
                        <a:pt x="13" y="367"/>
                      </a:lnTo>
                      <a:lnTo>
                        <a:pt x="0" y="367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361400" y="4098960"/>
                  <a:ext cx="400680" cy="64080"/>
                  <a:chOff x="4361400" y="4098960"/>
                  <a:chExt cx="400680" cy="640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361400" y="4098960"/>
                    <a:ext cx="200160" cy="64080"/>
                    <a:chOff x="4361400" y="4098960"/>
                    <a:chExt cx="200160" cy="640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361400" y="4098960"/>
                      <a:ext cx="50040" cy="64080"/>
                      <a:chOff x="4361400" y="4098960"/>
                      <a:chExt cx="50040" cy="64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36248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36140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4411440" y="4098960"/>
                      <a:ext cx="48960" cy="64080"/>
                      <a:chOff x="4411440" y="4098960"/>
                      <a:chExt cx="48960" cy="640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441288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41144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4460760" y="4098960"/>
                      <a:ext cx="50040" cy="64080"/>
                      <a:chOff x="4460760" y="4098960"/>
                      <a:chExt cx="50040" cy="6408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6184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46076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11160" y="4098960"/>
                      <a:ext cx="50400" cy="64080"/>
                      <a:chOff x="4511160" y="4098960"/>
                      <a:chExt cx="50400" cy="6408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51260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51116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561920" y="4098960"/>
                    <a:ext cx="200160" cy="64080"/>
                    <a:chOff x="4561920" y="4098960"/>
                    <a:chExt cx="200160" cy="6408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561920" y="4098960"/>
                      <a:ext cx="48960" cy="64080"/>
                      <a:chOff x="4561920" y="4098960"/>
                      <a:chExt cx="48960" cy="640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6300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56192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0880" y="4098960"/>
                      <a:ext cx="50040" cy="64080"/>
                      <a:chOff x="4610880" y="4098960"/>
                      <a:chExt cx="50040" cy="64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19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108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661280" y="4098960"/>
                      <a:ext cx="50040" cy="64080"/>
                      <a:chOff x="4661280" y="4098960"/>
                      <a:chExt cx="50040" cy="6408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6623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6612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4711680" y="4098960"/>
                      <a:ext cx="50400" cy="64080"/>
                      <a:chOff x="4711680" y="4098960"/>
                      <a:chExt cx="50400" cy="640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71312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71168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44866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6368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3564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864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4362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8588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8720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3616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4285080" y="4066920"/>
                  <a:ext cx="438840" cy="30600"/>
                </a:xfrm>
                <a:custGeom>
                  <a:avLst/>
                  <a:gdLst/>
                  <a:ahLst/>
                  <a:rect l="l" t="t" r="r" b="b"/>
                  <a:pathLst>
                    <a:path w="913" h="68">
                      <a:moveTo>
                        <a:pt x="0" y="58"/>
                      </a:moveTo>
                      <a:lnTo>
                        <a:pt x="57" y="0"/>
                      </a:lnTo>
                      <a:lnTo>
                        <a:pt x="907" y="0"/>
                      </a:lnTo>
                      <a:lnTo>
                        <a:pt x="913" y="6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4440" y="3946680"/>
                  <a:ext cx="41400" cy="215280"/>
                </a:xfrm>
                <a:custGeom>
                  <a:avLst/>
                  <a:gdLst/>
                  <a:ahLst/>
                  <a:rect l="l" t="t" r="r" b="b"/>
                  <a:pathLst>
                    <a:path w="88" h="483">
                      <a:moveTo>
                        <a:pt x="0" y="81"/>
                      </a:moveTo>
                      <a:lnTo>
                        <a:pt x="1" y="55"/>
                      </a:lnTo>
                      <a:lnTo>
                        <a:pt x="7" y="31"/>
                      </a:lnTo>
                      <a:lnTo>
                        <a:pt x="18" y="12"/>
                      </a:lnTo>
                      <a:lnTo>
                        <a:pt x="34" y="0"/>
                      </a:lnTo>
                      <a:lnTo>
                        <a:pt x="52" y="0"/>
                      </a:lnTo>
                      <a:lnTo>
                        <a:pt x="63" y="7"/>
                      </a:lnTo>
                      <a:lnTo>
                        <a:pt x="76" y="20"/>
                      </a:lnTo>
                      <a:lnTo>
                        <a:pt x="82" y="36"/>
                      </a:lnTo>
                      <a:lnTo>
                        <a:pt x="86" y="53"/>
                      </a:lnTo>
                      <a:lnTo>
                        <a:pt x="87" y="65"/>
                      </a:lnTo>
                      <a:lnTo>
                        <a:pt x="88" y="84"/>
                      </a:lnTo>
                      <a:lnTo>
                        <a:pt x="72" y="84"/>
                      </a:lnTo>
                      <a:lnTo>
                        <a:pt x="72" y="55"/>
                      </a:lnTo>
                      <a:lnTo>
                        <a:pt x="64" y="36"/>
                      </a:lnTo>
                      <a:lnTo>
                        <a:pt x="54" y="27"/>
                      </a:lnTo>
                      <a:lnTo>
                        <a:pt x="41" y="27"/>
                      </a:lnTo>
                      <a:lnTo>
                        <a:pt x="31" y="33"/>
                      </a:lnTo>
                      <a:lnTo>
                        <a:pt x="20" y="48"/>
                      </a:lnTo>
                      <a:lnTo>
                        <a:pt x="17" y="68"/>
                      </a:lnTo>
                      <a:lnTo>
                        <a:pt x="17" y="91"/>
                      </a:lnTo>
                      <a:lnTo>
                        <a:pt x="17" y="483"/>
                      </a:lnTo>
                      <a:lnTo>
                        <a:pt x="0" y="48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4831920" y="4110120"/>
                  <a:ext cx="80280" cy="53280"/>
                  <a:chOff x="4831920" y="4110120"/>
                  <a:chExt cx="80280" cy="532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831920" y="4110120"/>
                    <a:ext cx="60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2">
                        <a:moveTo>
                          <a:pt x="0" y="122"/>
                        </a:moveTo>
                        <a:lnTo>
                          <a:pt x="126" y="122"/>
                        </a:lnTo>
                        <a:lnTo>
                          <a:pt x="126" y="0"/>
                        </a:lnTo>
                        <a:lnTo>
                          <a:pt x="1" y="0"/>
                        </a:lnTo>
                        <a:lnTo>
                          <a:pt x="0" y="12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892400" y="4110120"/>
                    <a:ext cx="19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1">
                        <a:moveTo>
                          <a:pt x="0" y="0"/>
                        </a:moveTo>
                        <a:lnTo>
                          <a:pt x="0" y="121"/>
                        </a:lnTo>
                        <a:lnTo>
                          <a:pt x="41" y="116"/>
                        </a:lnTo>
                        <a:lnTo>
                          <a:pt x="4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5100840" y="4002840"/>
                  <a:ext cx="216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250">
                      <a:moveTo>
                        <a:pt x="0" y="42"/>
                      </a:moveTo>
                      <a:lnTo>
                        <a:pt x="1" y="28"/>
                      </a:lnTo>
                      <a:lnTo>
                        <a:pt x="3" y="15"/>
                      </a:lnTo>
                      <a:lnTo>
                        <a:pt x="9" y="6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2" y="4"/>
                      </a:lnTo>
                      <a:lnTo>
                        <a:pt x="38" y="10"/>
                      </a:lnTo>
                      <a:lnTo>
                        <a:pt x="41" y="18"/>
                      </a:lnTo>
                      <a:lnTo>
                        <a:pt x="43" y="27"/>
                      </a:lnTo>
                      <a:lnTo>
                        <a:pt x="43" y="34"/>
                      </a:lnTo>
                      <a:lnTo>
                        <a:pt x="44" y="42"/>
                      </a:lnTo>
                      <a:lnTo>
                        <a:pt x="36" y="42"/>
                      </a:lnTo>
                      <a:lnTo>
                        <a:pt x="36" y="28"/>
                      </a:lnTo>
                      <a:lnTo>
                        <a:pt x="33" y="18"/>
                      </a:lnTo>
                      <a:lnTo>
                        <a:pt x="27" y="14"/>
                      </a:lnTo>
                      <a:lnTo>
                        <a:pt x="21" y="14"/>
                      </a:lnTo>
                      <a:lnTo>
                        <a:pt x="15" y="17"/>
                      </a:lnTo>
                      <a:lnTo>
                        <a:pt x="10" y="25"/>
                      </a:lnTo>
                      <a:lnTo>
                        <a:pt x="9" y="35"/>
                      </a:lnTo>
                      <a:lnTo>
                        <a:pt x="9" y="48"/>
                      </a:lnTo>
                      <a:lnTo>
                        <a:pt x="9" y="250"/>
                      </a:lnTo>
                      <a:lnTo>
                        <a:pt x="0" y="2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826520" y="3953520"/>
                  <a:ext cx="27360" cy="206280"/>
                  <a:chOff x="4826520" y="3953520"/>
                  <a:chExt cx="27360" cy="2062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826520" y="4091040"/>
                    <a:ext cx="27360" cy="68760"/>
                    <a:chOff x="4826520" y="4091040"/>
                    <a:chExt cx="27360" cy="68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826520" y="412416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826520" y="4125240"/>
                      <a:ext cx="25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827600" y="409212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826520" y="409104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826520" y="4021560"/>
                    <a:ext cx="27360" cy="68760"/>
                    <a:chOff x="4826520" y="4021560"/>
                    <a:chExt cx="27360" cy="687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826520" y="405468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826520" y="405576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827600" y="402264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26520" y="402156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826520" y="3953520"/>
                    <a:ext cx="27360" cy="69120"/>
                    <a:chOff x="4826520" y="3953520"/>
                    <a:chExt cx="27360" cy="691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26520" y="3985200"/>
                      <a:ext cx="27360" cy="374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826520" y="398664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827600" y="3954600"/>
                      <a:ext cx="23040" cy="302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826520" y="3953520"/>
                      <a:ext cx="25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3798360" y="3799440"/>
                  <a:ext cx="926640" cy="255240"/>
                </a:xfrm>
                <a:custGeom>
                  <a:avLst/>
                  <a:gdLst/>
                  <a:ahLst/>
                  <a:rect l="l" t="t" r="r" b="b"/>
                  <a:pathLst>
                    <a:path w="1927" h="573">
                      <a:moveTo>
                        <a:pt x="1927" y="0"/>
                      </a:moveTo>
                      <a:lnTo>
                        <a:pt x="1927" y="109"/>
                      </a:lnTo>
                      <a:lnTo>
                        <a:pt x="1175" y="195"/>
                      </a:lnTo>
                      <a:lnTo>
                        <a:pt x="999" y="543"/>
                      </a:lnTo>
                      <a:lnTo>
                        <a:pt x="0" y="573"/>
                      </a:lnTo>
                      <a:lnTo>
                        <a:pt x="0" y="505"/>
                      </a:lnTo>
                      <a:lnTo>
                        <a:pt x="936" y="456"/>
                      </a:lnTo>
                      <a:lnTo>
                        <a:pt x="1133" y="99"/>
                      </a:lnTo>
                      <a:lnTo>
                        <a:pt x="192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4466880" y="3712320"/>
                  <a:ext cx="104760" cy="144360"/>
                  <a:chOff x="4466880" y="3712320"/>
                  <a:chExt cx="104760" cy="1443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501440" y="3714840"/>
                    <a:ext cx="702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16">
                        <a:moveTo>
                          <a:pt x="75" y="0"/>
                        </a:moveTo>
                        <a:lnTo>
                          <a:pt x="147" y="45"/>
                        </a:lnTo>
                        <a:lnTo>
                          <a:pt x="147" y="137"/>
                        </a:lnTo>
                        <a:lnTo>
                          <a:pt x="84" y="142"/>
                        </a:lnTo>
                        <a:lnTo>
                          <a:pt x="49" y="298"/>
                        </a:lnTo>
                        <a:lnTo>
                          <a:pt x="0" y="316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466880" y="3712320"/>
                    <a:ext cx="71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22">
                        <a:moveTo>
                          <a:pt x="78" y="29"/>
                        </a:moveTo>
                        <a:lnTo>
                          <a:pt x="149" y="0"/>
                        </a:lnTo>
                        <a:lnTo>
                          <a:pt x="71" y="315"/>
                        </a:lnTo>
                        <a:lnTo>
                          <a:pt x="0" y="322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617000" y="3672360"/>
                  <a:ext cx="118080" cy="164160"/>
                  <a:chOff x="4617000" y="3672360"/>
                  <a:chExt cx="118080" cy="164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617000" y="3672360"/>
                    <a:ext cx="835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70">
                        <a:moveTo>
                          <a:pt x="94" y="19"/>
                        </a:moveTo>
                        <a:lnTo>
                          <a:pt x="175" y="0"/>
                        </a:lnTo>
                        <a:lnTo>
                          <a:pt x="90" y="361"/>
                        </a:lnTo>
                        <a:lnTo>
                          <a:pt x="0" y="370"/>
                        </a:lnTo>
                        <a:lnTo>
                          <a:pt x="94" y="1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658760" y="3673440"/>
                    <a:ext cx="76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56">
                        <a:moveTo>
                          <a:pt x="86" y="0"/>
                        </a:moveTo>
                        <a:lnTo>
                          <a:pt x="0" y="356"/>
                        </a:lnTo>
                        <a:lnTo>
                          <a:pt x="54" y="322"/>
                        </a:lnTo>
                        <a:lnTo>
                          <a:pt x="89" y="168"/>
                        </a:lnTo>
                        <a:lnTo>
                          <a:pt x="159" y="159"/>
                        </a:lnTo>
                        <a:lnTo>
                          <a:pt x="159" y="61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729320" y="4103280"/>
                  <a:ext cx="111960" cy="75960"/>
                  <a:chOff x="4729320" y="4103280"/>
                  <a:chExt cx="111960" cy="759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729320" y="4103280"/>
                    <a:ext cx="82080" cy="74160"/>
                  </a:xfrm>
                  <a:prstGeom prst="rect">
                    <a:avLst/>
                  </a:pr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12840" y="4103280"/>
                    <a:ext cx="284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73">
                        <a:moveTo>
                          <a:pt x="0" y="0"/>
                        </a:moveTo>
                        <a:lnTo>
                          <a:pt x="0" y="173"/>
                        </a:lnTo>
                        <a:lnTo>
                          <a:pt x="58" y="164"/>
                        </a:lnTo>
                        <a:lnTo>
                          <a:pt x="58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359960" y="3893040"/>
                  <a:ext cx="291240" cy="278280"/>
                  <a:chOff x="4359960" y="3893040"/>
                  <a:chExt cx="291240" cy="2782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361400" y="3902400"/>
                    <a:ext cx="1353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44">
                        <a:moveTo>
                          <a:pt x="0" y="20"/>
                        </a:moveTo>
                        <a:lnTo>
                          <a:pt x="254" y="0"/>
                        </a:lnTo>
                        <a:lnTo>
                          <a:pt x="281" y="34"/>
                        </a:lnTo>
                        <a:lnTo>
                          <a:pt x="25" y="44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59960" y="3910320"/>
                    <a:ext cx="129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70">
                        <a:moveTo>
                          <a:pt x="0" y="570"/>
                        </a:moveTo>
                        <a:lnTo>
                          <a:pt x="0" y="0"/>
                        </a:lnTo>
                        <a:lnTo>
                          <a:pt x="28" y="28"/>
                        </a:lnTo>
                        <a:lnTo>
                          <a:pt x="28" y="570"/>
                        </a:lnTo>
                        <a:lnTo>
                          <a:pt x="0" y="57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481280" y="3902400"/>
                    <a:ext cx="1260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00">
                        <a:moveTo>
                          <a:pt x="0" y="600"/>
                        </a:moveTo>
                        <a:lnTo>
                          <a:pt x="0" y="0"/>
                        </a:lnTo>
                        <a:lnTo>
                          <a:pt x="27" y="32"/>
                        </a:lnTo>
                        <a:lnTo>
                          <a:pt x="27" y="60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482360" y="3894480"/>
                    <a:ext cx="168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53">
                        <a:moveTo>
                          <a:pt x="0" y="19"/>
                        </a:moveTo>
                        <a:lnTo>
                          <a:pt x="305" y="0"/>
                        </a:lnTo>
                        <a:lnTo>
                          <a:pt x="350" y="34"/>
                        </a:lnTo>
                        <a:lnTo>
                          <a:pt x="30" y="53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633920" y="3893040"/>
                    <a:ext cx="158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624">
                        <a:moveTo>
                          <a:pt x="0" y="624"/>
                        </a:moveTo>
                        <a:lnTo>
                          <a:pt x="0" y="0"/>
                        </a:lnTo>
                        <a:lnTo>
                          <a:pt x="34" y="34"/>
                        </a:lnTo>
                        <a:lnTo>
                          <a:pt x="34" y="624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15640" y="4097880"/>
                  <a:ext cx="377280" cy="59760"/>
                  <a:chOff x="3815640" y="4097880"/>
                  <a:chExt cx="377280" cy="59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815640" y="4097880"/>
                    <a:ext cx="188640" cy="59760"/>
                    <a:chOff x="3815640" y="4097880"/>
                    <a:chExt cx="188640" cy="59760"/>
                  </a:xfrm>
                </p:grpSpPr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815640" y="4097880"/>
                      <a:ext cx="46080" cy="59760"/>
                      <a:chOff x="3815640" y="4097880"/>
                      <a:chExt cx="46080" cy="597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816720" y="4098960"/>
                        <a:ext cx="4320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81564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6">
                            <a:moveTo>
                              <a:pt x="0" y="0"/>
                            </a:moveTo>
                            <a:lnTo>
                              <a:pt x="97" y="136"/>
                            </a:lnTo>
                            <a:lnTo>
                              <a:pt x="97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861720" y="4097880"/>
                      <a:ext cx="47520" cy="59760"/>
                      <a:chOff x="3861720" y="4097880"/>
                      <a:chExt cx="47520" cy="5976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86280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86172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3909240" y="4097880"/>
                      <a:ext cx="47160" cy="59760"/>
                      <a:chOff x="3909240" y="4097880"/>
                      <a:chExt cx="47160" cy="5976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3910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092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956760" y="4097880"/>
                      <a:ext cx="47520" cy="59760"/>
                      <a:chOff x="3956760" y="4097880"/>
                      <a:chExt cx="47520" cy="5976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57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5676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4004640" y="4097880"/>
                    <a:ext cx="188280" cy="59760"/>
                    <a:chOff x="4004640" y="4097880"/>
                    <a:chExt cx="188280" cy="5976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4004640" y="4097880"/>
                      <a:ext cx="47160" cy="59760"/>
                      <a:chOff x="4004640" y="4097880"/>
                      <a:chExt cx="47160" cy="5976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40057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40046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4051800" y="4097880"/>
                      <a:ext cx="46080" cy="59760"/>
                      <a:chOff x="4051800" y="4097880"/>
                      <a:chExt cx="46080" cy="5976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4053240" y="4098960"/>
                        <a:ext cx="4284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405180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4097880" y="4097880"/>
                      <a:ext cx="47520" cy="59760"/>
                      <a:chOff x="4097880" y="4097880"/>
                      <a:chExt cx="47520" cy="59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4099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09788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4145760" y="4097880"/>
                      <a:ext cx="47160" cy="59760"/>
                      <a:chOff x="4145760" y="4097880"/>
                      <a:chExt cx="47160" cy="5976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146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14576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39322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75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8016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0276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886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8383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227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880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383160" y="1282680"/>
            <a:ext cx="1363680" cy="1220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383160" y="5072040"/>
            <a:ext cx="1333800" cy="731520"/>
            <a:chOff x="6383160" y="5072040"/>
            <a:chExt cx="1333800" cy="7315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383160" y="5072040"/>
              <a:ext cx="13338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6383160" y="5426280"/>
              <a:ext cx="133380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049280" y="4430880"/>
            <a:ext cx="1407600" cy="762480"/>
            <a:chOff x="4049280" y="4430880"/>
            <a:chExt cx="1407600" cy="762480"/>
          </a:xfrm>
        </p:grpSpPr>
        <p:sp>
          <p:nvSpPr>
            <p:cNvPr id="331" name=""/>
            <p:cNvSpPr/>
            <p:nvPr/>
          </p:nvSpPr>
          <p:spPr>
            <a:xfrm>
              <a:off x="4521240" y="4430880"/>
              <a:ext cx="212040" cy="437040"/>
            </a:xfrm>
            <a:prstGeom prst="upArrow">
              <a:avLst>
                <a:gd name="adj1" fmla="val 50000"/>
                <a:gd name="adj2" fmla="val 5152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9280" y="4886280"/>
              <a:ext cx="14076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63de8"/>
                  </a:solidFill>
                  <a:latin typeface="Times New Roman"/>
                </a:rPr>
                <a:t>TECNOLOG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7120" y="1321920"/>
            <a:ext cx="1074960" cy="4559400"/>
            <a:chOff x="7557120" y="1321920"/>
            <a:chExt cx="1074960" cy="4559400"/>
          </a:xfrm>
        </p:grpSpPr>
        <p:sp>
          <p:nvSpPr>
            <p:cNvPr id="334" name=""/>
            <p:cNvSpPr txBox="1"/>
            <p:nvPr/>
          </p:nvSpPr>
          <p:spPr>
            <a:xfrm>
              <a:off x="7911000" y="2959200"/>
              <a:ext cx="620280" cy="12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cc0000"/>
                    </a:solidFill>
                    <a:miter/>
                  </a:ln>
                  <a:solidFill>
                    <a:srgbClr val="00ff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$</a:t>
              </a:r>
              <a:endParaRPr b="0" lang="en-US" sz="24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616880" y="1752840"/>
              <a:ext cx="982440" cy="620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16200000">
              <a:off x="7587360" y="4786560"/>
              <a:ext cx="1041480" cy="62028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-360 h 620280"/>
                <a:gd name="textAreaBottom" fmla="*/ 62028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3013800">
              <a:off x="7633800" y="1545480"/>
              <a:ext cx="85896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8940000">
              <a:off x="7630920" y="5137200"/>
              <a:ext cx="927000" cy="54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178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984040" y="1133640"/>
            <a:ext cx="1197720" cy="4923360"/>
            <a:chOff x="2984040" y="1133640"/>
            <a:chExt cx="1197720" cy="4923360"/>
          </a:xfrm>
        </p:grpSpPr>
        <p:sp>
          <p:nvSpPr>
            <p:cNvPr id="340" name=""/>
            <p:cNvSpPr/>
            <p:nvPr/>
          </p:nvSpPr>
          <p:spPr>
            <a:xfrm flipV="1" rot="16200000">
              <a:off x="2903400" y="4652640"/>
              <a:ext cx="1347480" cy="90216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360 h 902160"/>
                <a:gd name="textAreaBottom" fmla="*/ 90288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885760" y="1588320"/>
              <a:ext cx="1347840" cy="866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6240" y="3273480"/>
              <a:ext cx="554400" cy="642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2065800">
              <a:off x="3057120" y="1347840"/>
              <a:ext cx="92700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8136600">
              <a:off x="3194640" y="5263920"/>
              <a:ext cx="92844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055520" y="3075120"/>
            <a:ext cx="2492640" cy="1611000"/>
            <a:chOff x="1055520" y="3075120"/>
            <a:chExt cx="2492640" cy="1611000"/>
          </a:xfrm>
        </p:grpSpPr>
        <p:sp>
          <p:nvSpPr>
            <p:cNvPr id="346" name=""/>
            <p:cNvSpPr/>
            <p:nvPr/>
          </p:nvSpPr>
          <p:spPr>
            <a:xfrm>
              <a:off x="1055520" y="4105440"/>
              <a:ext cx="249264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MATERIALE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1527120" y="3075120"/>
              <a:ext cx="1529640" cy="95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966960" y="3465360"/>
            <a:ext cx="554040" cy="190800"/>
          </a:xfrm>
          <a:custGeom>
            <a:avLst/>
            <a:gdLst/>
            <a:ahLst/>
            <a:rect l="l" t="t" r="r" b="b"/>
            <a:pathLst>
              <a:path w="378" h="120">
                <a:moveTo>
                  <a:pt x="288" y="0"/>
                </a:moveTo>
                <a:lnTo>
                  <a:pt x="288" y="30"/>
                </a:lnTo>
                <a:lnTo>
                  <a:pt x="0" y="30"/>
                </a:lnTo>
                <a:lnTo>
                  <a:pt x="0" y="90"/>
                </a:lnTo>
                <a:lnTo>
                  <a:pt x="288" y="90"/>
                </a:lnTo>
                <a:lnTo>
                  <a:pt x="288" y="120"/>
                </a:lnTo>
                <a:lnTo>
                  <a:pt x="378" y="60"/>
                </a:lnTo>
                <a:lnTo>
                  <a:pt x="288" y="0"/>
                </a:lnTo>
                <a:close/>
              </a:path>
            </a:pathLst>
          </a:custGeom>
          <a:solidFill>
            <a:srgbClr val="ffcc00"/>
          </a:solidFill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420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24T23:40:21Z</dcterms:modified>
  <cp:revision>366</cp:revision>
  <dc:subject/>
  <dc:title>Formulación de Proyectos</dc:title>
</cp:coreProperties>
</file>