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0F8-32E5-4270-8288-F5BA3DDD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D166-E619-477E-9A2A-5873FC1F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32BA-6490-46E7-A103-F329DB90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78A-06FF-4B00-B5F8-C0FE6DD1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8E6F-2119-4E02-99A8-81B8F1C3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F88A-A062-4A20-84A4-73D4E77B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8890-C140-430A-977C-213779F0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C135-0080-4A30-931B-B867D73E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4F88-D5A2-4203-96D4-FC378DA8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E376-F268-4688-B290-C4F643E7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DE64-E8B7-4B71-9EBD-C564E09A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4E2B-666F-4A56-BE8C-F32CA7A5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1DE8-853F-44A0-BAAB-435BDEC4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97C1-0372-46AE-B881-10E5CE4E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0F4F-81A8-440D-B48C-23E44D7A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8761-5049-4445-A77F-0CBE0F6C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6CCE-9427-47BC-BB28-C281C378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B99-F2D4-437B-B903-28993533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5732-21E8-4D4C-9136-9EE4C731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E3A-0DE2-480D-9B5B-5DF2219F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ED3-CA17-4941-8914-880117E2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F24-71CA-4103-BE7B-776EE081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459-F992-4E90-A865-0B483DD3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82A9-7AD4-4F15-ABE8-351EB8B7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8B9E-2446-41C1-AA90-8D63D03F437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D855-0561-49E5-A6F4-ABB2C39D225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Acerca de la Historia del Pensamiento Económico</a:t>
            </a:r>
            <a:br>
              <a:rPr sz="5000"/>
            </a:br>
            <a:br>
              <a:rPr sz="5000"/>
            </a:b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¿Por qué estudiar “ideas equivocadas de economistas muertos”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¿Qué es la HP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studia el pensamiento económico en su proceso históric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l “pensamiento económico” puede incluir varios aspecto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ciencia económica (teorías y contexto social y pers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"filosofía" de l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modo en que las personas piensan “la economía”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(mentalid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</a:t>
            </a: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estrictamente en la evolución “lineal” del pensamiento (asociación con ciencias “duras”…  ¿“darwinismo vulgar?” ) o en la vocación “práctica” de la 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ada: mejor dedicar ese tiempo a aprender cosas mas útiles (de todos modos en las matemáticas se ve la inteligencia así que los que se dedican a la H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Como ent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ara saber cómo la ideas correctas prevalec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(continuación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que la evolución no es “lineal” ni se rige sólo por urgencias de aplicación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ofrecer nuevos caminos a explo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ayudar a plantear mejor nuestras pregu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uede ayudar a tener una visión crítica sobre lo que hac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n general: ayuda a entender nuestra </a:t>
            </a:r>
            <a:r>
              <a:rPr b="0" i="1" lang="es-ES" sz="2400" spc="-1" strike="noStrike">
                <a:solidFill>
                  <a:srgbClr val="000000"/>
                </a:solidFill>
                <a:latin typeface="Garamond"/>
              </a:rPr>
              <a:t>ciencia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us preguntas, debates, a organizar tipos de respuestas, a buscar mejores respuestas (y evitar “inventar la rueda”) , a enfrentar situaciones nuevas y a tener claro las fortalezas y debilidades de nuestros planteamientos (Ejemplo: Sraffa y la controversia del cap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La HPE como oportunidad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1880" y="42141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eo Ricard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7828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Marx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5013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4070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clás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3657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volu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4869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37828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ustria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5445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62864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El estudio de la HPE  puede ser una oportunidad para aproximarse a la teoría económica a la manera de una reflexión permanente; como un diálogo entre “tradiciones” de pen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537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colog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4508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21:23:13Z</dcterms:created>
  <dc:creator/>
  <dc:description/>
  <dc:language>en-US</dc:language>
  <cp:lastModifiedBy>HUEPE-C</cp:lastModifiedBy>
  <dcterms:modified xsi:type="dcterms:W3CDTF">2007-08-28T21:00:42Z</dcterms:modified>
  <cp:revision>16</cp:revision>
  <dc:subject/>
  <dc:title>Historia del Pensamiento Económico</dc:title>
</cp:coreProperties>
</file>