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CCB-DCA5-49A7-A911-C8CD904B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531B-B628-41F8-A9C0-4FA8CFAF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C3F7-5454-4C12-871D-0288A310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8AC-2A67-4344-AACD-52B2E5C5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CBDD-CDB5-4F06-AFC1-24DBA4E6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5D80-240A-4887-8BCE-BFC7E3B9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EFDE-C067-4E39-A0DE-16AC0CF2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936C-5A99-4DF7-820F-CB125972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E35B-2C9C-4DDB-B66A-DD10CA42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255F-302E-422A-87C5-A7BFAD49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2921-4FCD-4D87-9B01-6A83CC36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7BD-834B-4D0C-A0BC-E890F4F0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ABA9-490C-4C7A-BDAC-B84488D3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36E3-DF67-47C6-9878-BB3547C9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7713-22DB-4DF0-8128-4CB27959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39EB-D250-4C0F-984E-D455F139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81D9-BF7C-4255-832C-111A3EC7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E4A-D946-4BBC-B6C2-90303FBB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E3F-7C12-4275-BFE2-C243AD16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9627-A1AD-4A39-8648-4A32CC8B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7C66-613A-4E9C-A135-4C52A0F3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5F88-30C4-4722-91FD-063C1536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BB2-F7CF-4E1B-83EA-2EB3E2BE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3917-F98F-43AF-BC96-066DE7D5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2056-677A-4829-B60F-EA690099F21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4BFA-041B-46A1-97D6-B0B13BF6256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Acerca de la Historia del Pensamiento Económico</a:t>
            </a:r>
            <a:br>
              <a:rPr sz="5000"/>
            </a:br>
            <a:br>
              <a:rPr sz="5000"/>
            </a:b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¿Por qué estudiar “ideas equivocadas de economistas muertos”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¿Qué es la HP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studia el pensamiento económico en su proceso históric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l “pensamiento económico” puede incluir varios aspecto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ciencia económica (teorías y contexto social y pers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"filosofía" de l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modo en que las personas piensan “la economía”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(mentalid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</a:t>
            </a: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estrictamente en la evolución “lineal” del pensamiento (asociación con ciencias “duras”…  ¿“darwinismo vulgar?” ) o en la vocación “práctica” de la 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ada: mejor dedicar ese tiempo a aprender cosas mas útiles (de todos modos en las matemáticas se ve la inteligencia así que los que se dedican a la H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Como ent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ara saber cómo la ideas correctas prevalec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 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(continuación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que la evolución no es “lineal” ni se rige sólo por urgencias de aplicación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ofrecer nuevos caminos a explo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ayudar a plantear mejor nuestras pregu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uede ayudar a tener una visión crítica sobre lo que hac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n general: ayuda a entender nuestra </a:t>
            </a:r>
            <a:r>
              <a:rPr b="0" i="1" lang="es-ES" sz="2400" spc="-1" strike="noStrike">
                <a:solidFill>
                  <a:srgbClr val="000000"/>
                </a:solidFill>
                <a:latin typeface="Garamond"/>
              </a:rPr>
              <a:t>ciencia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us preguntas, debates, a organizar tipos de respuestas, a buscar mejores respuestas (y evitar “inventar la rueda”) , a enfrentar situaciones nuevas y a tener claro las fortalezas y debilidades de nuestros planteamientos (Ejemplo: Sraffa y la controversia del cap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La HPE como oportunidad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1880" y="42141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eo Ricard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37828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Marx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5013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4070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clás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43657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volu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4869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37828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ustria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5445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62864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El estudio de la HPE  puede ser una oportunidad para aproximarse a la teoría económica a la manera de una reflexión permanente; como un diálogo entre “tradiciones” de pen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537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colog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4508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21:23:13Z</dcterms:created>
  <dc:creator/>
  <dc:description/>
  <dc:language>en-US</dc:language>
  <cp:lastModifiedBy>HUEPE-C</cp:lastModifiedBy>
  <dcterms:modified xsi:type="dcterms:W3CDTF">2007-08-28T21:00:42Z</dcterms:modified>
  <cp:revision>16</cp:revision>
  <dc:subject/>
  <dc:title>Historia del Pensamiento Económico</dc:title>
</cp:coreProperties>
</file>