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4B3-D2A7-4691-9966-2C89F34B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D5E-273C-4CF9-BC54-B0DF2CC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AD8-4610-4E1C-85F1-94AE97DB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E45-A1C0-4F72-94A9-F73C2F7E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3B6C-9410-4E4A-A0BF-DD0A963D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FA28-E567-4296-AF41-0E2040F9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9D7-1E58-415E-8F7C-0B38111B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D57-27CD-4469-8DF7-2A51FF07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1DD8-D616-49EB-91DF-16BFDF42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002F-C541-4835-ABEF-B7E3903A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994-57EB-4AE5-8A89-98BFBBD5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1B3-6A29-4A22-897D-9A2657F6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D85D-9D82-4DAF-9BBF-D4F05F3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B30F-AF15-42EE-8F38-32E812F5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8F05-C730-4E95-A127-B3490F53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8218-688C-40D1-8261-96573E64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A7A8-6D2F-4EFF-874B-897FAFBC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522-D435-461B-A711-D96DCFBD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1FC-FE8E-4070-8132-D529BED3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ABC-54C9-47C8-991A-2EEB59A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594-E911-46FC-A8AE-5417A1B5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C2B-EAE2-4977-8AD0-BF3F0EB4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B09-A67B-4588-887D-2B82298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75E-3800-49F0-AE6D-4E1719F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4F93-E412-4EFD-BB9F-D5FEAA31460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4C5-DBEC-4C55-8878-5434BECE0DC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31369-A779-402B-88A6-207687078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DE047-950A-4122-856A-78F723FBE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E1E54-E339-4F17-8075-E7F9AB4D6E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9310E-01A2-4991-ADF0-1647E86E71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(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- S)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Marco Hauva</cp:lastModifiedBy>
  <dcterms:modified xsi:type="dcterms:W3CDTF">2007-05-16T21:45:21Z</dcterms:modified>
  <cp:revision>44</cp:revision>
  <dc:subject/>
  <dc:title>Teoría de la Elección</dc:title>
</cp:coreProperties>
</file>