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81F-F3A4-440E-849D-79DC54A3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73B-B51D-4098-B8E9-1A3AC96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0A-A97F-45E4-9D76-6963BEB1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3EC-754F-48F2-99B9-09FE3C5C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5CE0-7D7D-466E-9B40-5C13E404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E220-FC7D-4F91-9AFC-EF0A2BAF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8ED2-E112-4BC1-ACCD-8EF99416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6F2B-B67B-4DC0-9653-F507DA7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CE7B-829C-4A37-911E-3CF1EA4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2C05-ED03-40A0-8A66-37798E8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AE97-BFB0-4E23-8335-68B3488F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42F-EC02-4CF8-A3D4-BF182CF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E9F-ED8D-49D4-A071-FEFB0B81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C3F-A22F-4850-9B55-1334EFCE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1E3-1221-4667-A566-62006D33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CDBD-3550-4008-B0FA-54C71D5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78C-7D29-4F45-BAB7-A9C0BB1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E62-7CBF-4EAF-8B09-8588E95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778-BE06-4B3A-9C01-DAEC3E8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D40-7648-42FB-94D9-418696AD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82A-00F2-4B24-AC34-87F2C32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6DC-04E6-442D-9801-CE837CF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88C-0A55-41AB-AFB5-AE684D0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C04-9971-4781-A5C4-FDB95A05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83B7-0F0F-4753-BAA4-977C661799B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E5D1-A029-43EA-ADC6-84AAED3536A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E2B7C-574A-482E-9006-1A18454075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2E25C-EE28-48F0-A6A5-2CA7A0561E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4BC67-9ABF-44C8-BD33-7F597F917A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12BE1-D81A-4670-A06F-57EA91022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(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- S)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Marco Hauva</cp:lastModifiedBy>
  <dcterms:modified xsi:type="dcterms:W3CDTF">2007-05-16T21:45:21Z</dcterms:modified>
  <cp:revision>44</cp:revision>
  <dc:subject/>
  <dc:title>Teoría de la Elección</dc:title>
</cp:coreProperties>
</file>