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B01-CE43-4C6E-AE8E-DA668DB3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D20-56DD-4956-9635-210185B5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A81-DEB2-4B66-BE50-ADAF0F53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C9E-9959-456C-9B65-D15E955F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B65E-475B-4E32-8187-C2BFCDF7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8077-024A-46BE-8751-E467857F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2FA-DCCA-4B20-A767-BD8A0E1D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38BC-9C75-4140-870E-ED115743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2532-9AEE-4726-8658-2E132FDB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7792-C3E0-48E2-A046-EF3731B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CD70-CCE6-4C31-8645-10242D2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1DC-E1D8-4E2F-8688-7A0DBB25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B7BA-C044-4C87-A482-77CB94C4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A34C-BF15-4F6E-B2A0-D138600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CB4-1539-475B-8CC5-9E014E9D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1DB6-9BA8-4E7B-966D-EE9E4653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E98-A3B7-4219-80BF-FA6402E2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7F8-A4E5-4DF7-8995-A17E4684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CFF-E524-4060-A8FB-BE497DB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615-39D1-461B-AA50-2DA80335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ACC-71C4-43D7-8042-0959A6BC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0B5-5717-416D-B524-03093EF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1D0-35B1-42EA-94DC-733D9E7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4B8-41FD-4F88-842C-37DE7280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27B9-3B4D-49E3-A8D6-DB91645AE30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6258-41C7-4035-A2C4-A2335FC12BD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E9E40-12CF-49D3-BC40-98EA82B82F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9CF47-D4BA-4D29-885C-D96EFFA6DF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63AF4-A517-466D-A03A-E379161216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FAD47-1C45-4443-8F56-1BFB37F553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(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- S)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Marco Hauva</cp:lastModifiedBy>
  <dcterms:modified xsi:type="dcterms:W3CDTF">2007-05-16T21:45:21Z</dcterms:modified>
  <cp:revision>44</cp:revision>
  <dc:subject/>
  <dc:title>Teoría de la Elección</dc:title>
</cp:coreProperties>
</file>