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B81-F1CF-4E5A-B098-7669BD1A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034-AD17-48DC-A69C-308FDD3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A3D-FD67-4220-A625-7CF8234E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96B-46DC-461E-A824-C01D6D77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1DA-AC13-4A76-86E9-89CB6A82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D845-2058-4C5A-ADC5-FE62FBE8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F2E-8D51-42AA-839B-17C58EB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D7C3-C3E9-48EE-8D53-893BD5C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3569-32CE-41E2-8880-2546A834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815-1E3F-4914-8121-3A1EA103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7B18-DB47-498E-BC8D-2AC22D8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422-C9F0-4FFF-AC00-B0E1CFC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2381-8ED7-4AA9-831E-B609B214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EDB8-B8F8-44B6-9199-9D57390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C032-F7A6-4189-B56C-7E8F64C5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6866-B8A9-41B4-8207-CC28FB58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6550-A57F-47C0-8670-69AE1322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DE0-689A-4DC6-A7FA-396FF039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0AB-CE8D-43D9-AFC7-8672BFE5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5CA-2D34-4110-8425-94A99577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C45-503A-4591-9A91-52447740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869-9C5E-4640-913A-89A2A92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D16-119D-4E10-81A9-B3239D0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FF6-1E20-4129-9C31-B5251C0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8E13-DD42-421D-8E09-037678538A1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106-E52D-4E99-A31A-268387239C3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ABB61-3CD8-4579-947E-DD632C10A7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DAB09-08B2-4B85-BC28-8452E22084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4D40B-D7CF-44A7-AE79-A8E4FCFA4C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2AF7F-B585-4B4C-B1E0-9FAA824451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(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- S)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Marco Hauva</cp:lastModifiedBy>
  <dcterms:modified xsi:type="dcterms:W3CDTF">2007-05-16T21:45:21Z</dcterms:modified>
  <cp:revision>44</cp:revision>
  <dc:subject/>
  <dc:title>Teoría de la Elección</dc:title>
</cp:coreProperties>
</file>