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733-9766-4947-A2D1-5FF12B97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E05-AC5E-4294-9FD5-EE5EBC39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654-5E06-4ABA-8EE8-7237BE0E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7B3-7C68-4DC6-B322-13294B60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24F4-FCF1-4084-8545-105D6EAA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85BF-1E7B-4F87-B592-E3DD9F24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DFD8-9A3D-4933-8324-A28D5873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46F6-02E4-4DAD-9C32-CFB4832E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C8A0-3E92-4DE8-96E3-E53FE71E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34A4-670D-43C8-B601-9128BF23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EEBA-C036-4AC5-A492-D07252FD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1FE-6032-4D7F-B356-5A36FF50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7BB6-AB42-43A5-898E-EFF2333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65C1-DC49-4A4A-92B6-1D6664FC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8B22-278E-43A2-A6C9-F0200E3B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77A3-7462-42AE-8A18-756E46E5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74CE-D2A6-47AF-B728-6ACB844C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6A9-01E2-4712-A8A8-87FD92AD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F34-1DDF-415A-AB7A-86AF711E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F88-557A-4E2F-BC63-4C0FB70C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FF3-788D-4564-A4C3-8032387E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74C-6042-4144-8132-ADAC32A5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70A-87F9-4DC0-819D-B2D756D1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0C1-11CB-47FE-9EC8-F692CBFF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A943-7CBD-435A-81B0-7F3CB9B437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D9C3-739C-4083-B116-861B7BD139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Funciones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8560" y="2011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21520" y="1066680"/>
            <a:ext cx="1892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q = f (K, 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7680" y="1746360"/>
            <a:ext cx="616896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ríodo de 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ienes homogén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ficiencia tecnoló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ductividad marg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ductividad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socuantas de 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so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asticidad de sustit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fectos en la of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cort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9360" y="1220760"/>
            <a:ext cx="69310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rto plaz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Planificación siguiente perío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Limitación de factores fijo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Decisiones operacio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nsecuenci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Costos fijo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Costos totales may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aracterísticas de la industr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Número de firmas no camb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5680" y="1601640"/>
            <a:ext cx="693108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l precio del bien y la cantidad producida por la industria corresponden a un equilibrio de corto plaz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No existen incentivos para que varíe el número de firmas en la industria. Utilidades nulas.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na industria competitiva tenderá a un equilibrio de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2160" y="1601640"/>
            <a:ext cx="7464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diciones para utilidades nula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cceso a tecnologías =&gt; igual función de producción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stos de entrada y salida son nulo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l pago que reciben los factores no depende de la actividad en que se empl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Retornos de escal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2160" y="1601640"/>
            <a:ext cx="792180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recientes   =&gt;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Costos medios decrecie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Incentivos de expandirse para aumentar la utilidad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Una sola firma no tomará los precios como dado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nstantes   =&gt; Costos medio consta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  P = CMe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ín.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? ,  n ? 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Retornos de escal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2160" y="1601640"/>
            <a:ext cx="79218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Decrecientes   =&gt;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Costos medios crecie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Incentivos de reducirse para aumentar la utilidad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Costos de entrada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8640" y="2592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1981440" y="-2563920"/>
            <a:ext cx="11251440" cy="805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34080" y="1703880"/>
            <a:ext cx="915120" cy="1040760"/>
            <a:chOff x="2134080" y="1703880"/>
            <a:chExt cx="915120" cy="1040760"/>
          </a:xfrm>
        </p:grpSpPr>
        <p:sp>
          <p:nvSpPr>
            <p:cNvPr id="264" name=""/>
            <p:cNvSpPr/>
            <p:nvPr/>
          </p:nvSpPr>
          <p:spPr>
            <a:xfrm rot="10800000">
              <a:off x="2134080" y="1703880"/>
              <a:ext cx="88776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800000">
              <a:off x="2160360" y="1703880"/>
              <a:ext cx="88884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72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0800000">
            <a:off x="1475280" y="103680"/>
            <a:ext cx="134568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511280" y="6019920"/>
            <a:ext cx="7035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68480" y="205884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6680" y="228600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2292480"/>
            <a:ext cx="0" cy="37209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06680" y="274320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60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648680" y="3989880"/>
            <a:ext cx="1144080" cy="1040760"/>
            <a:chOff x="4648680" y="3989880"/>
            <a:chExt cx="1144080" cy="1040760"/>
          </a:xfrm>
        </p:grpSpPr>
        <p:sp>
          <p:nvSpPr>
            <p:cNvPr id="275" name=""/>
            <p:cNvSpPr/>
            <p:nvPr/>
          </p:nvSpPr>
          <p:spPr>
            <a:xfrm rot="10800000">
              <a:off x="4648680" y="3989880"/>
              <a:ext cx="111672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4675680" y="3989880"/>
              <a:ext cx="111708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0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0234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 rot="10800000">
            <a:off x="4142160" y="2389680"/>
            <a:ext cx="134532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06680" y="4419720"/>
            <a:ext cx="37972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68480" y="41925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44258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3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6680" y="4952880"/>
            <a:ext cx="37972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2680" y="4726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73240" y="205884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44640" y="1220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2760" y="4344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7840" y="3506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0800000">
            <a:off x="1905120" y="-1648800"/>
            <a:ext cx="11403360" cy="744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53280" y="2119320"/>
            <a:ext cx="359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stos medios decrec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787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stática comparativa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44840" y="1906560"/>
            <a:ext cx="114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4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69840" y="11970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44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8160" y="2058840"/>
            <a:ext cx="1139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310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5680" y="3962520"/>
            <a:ext cx="280656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22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83480" y="60213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692400" y="260352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55080" y="236376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6748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66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stática comparativa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40280" y="18302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8480" y="3735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59240" y="1052640"/>
            <a:ext cx="342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Industria con costos crec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44440" y="289728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9728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354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3054240"/>
            <a:ext cx="0" cy="2959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35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26280" y="594504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70716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311520" y="237492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7384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162920" y="3740040"/>
            <a:ext cx="0" cy="22734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8804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452680" y="-201960"/>
            <a:ext cx="2412360" cy="3784680"/>
            <a:chOff x="2452680" y="-201960"/>
            <a:chExt cx="2412360" cy="3784680"/>
          </a:xfrm>
        </p:grpSpPr>
        <p:sp>
          <p:nvSpPr>
            <p:cNvPr id="380" name=""/>
            <p:cNvSpPr/>
            <p:nvPr/>
          </p:nvSpPr>
          <p:spPr>
            <a:xfrm rot="5400000">
              <a:off x="1841760" y="63648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1766520" y="484200"/>
              <a:ext cx="378468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344840" y="1449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44440" y="32781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6680" y="358128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55124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68640" y="3581280"/>
            <a:ext cx="42544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778000" y="2908440"/>
            <a:ext cx="2387880" cy="1574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155080" y="27446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606680" y="3282840"/>
            <a:ext cx="2044440" cy="67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304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576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07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06680" y="327672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06680" y="396252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6680" y="3276720"/>
            <a:ext cx="532116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25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ficiencia tecnológic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9920" y="2004840"/>
            <a:ext cx="17640" cy="3243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17920" y="5229360"/>
            <a:ext cx="382248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05280" y="1935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86360" y="52293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030760" y="2844720"/>
            <a:ext cx="505080" cy="473760"/>
            <a:chOff x="2030760" y="2844720"/>
            <a:chExt cx="505080" cy="473760"/>
          </a:xfrm>
        </p:grpSpPr>
        <p:sp>
          <p:nvSpPr>
            <p:cNvPr id="91" name=""/>
            <p:cNvSpPr/>
            <p:nvPr/>
          </p:nvSpPr>
          <p:spPr>
            <a:xfrm>
              <a:off x="2030760" y="2844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2160" y="2986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18000" y="5254560"/>
            <a:ext cx="502560" cy="473760"/>
            <a:chOff x="4518000" y="5254560"/>
            <a:chExt cx="502560" cy="473760"/>
          </a:xfrm>
        </p:grpSpPr>
        <p:sp>
          <p:nvSpPr>
            <p:cNvPr id="94" name=""/>
            <p:cNvSpPr/>
            <p:nvPr/>
          </p:nvSpPr>
          <p:spPr>
            <a:xfrm>
              <a:off x="4518000" y="52545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36880" y="53960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28284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848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84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03520" y="3124080"/>
            <a:ext cx="2946240" cy="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679840"/>
            <a:ext cx="0" cy="2565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34680" y="265284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136680" y="5254560"/>
            <a:ext cx="505800" cy="473760"/>
            <a:chOff x="3136680" y="5254560"/>
            <a:chExt cx="505800" cy="473760"/>
          </a:xfrm>
        </p:grpSpPr>
        <p:sp>
          <p:nvSpPr>
            <p:cNvPr id="103" name=""/>
            <p:cNvSpPr/>
            <p:nvPr/>
          </p:nvSpPr>
          <p:spPr>
            <a:xfrm>
              <a:off x="3136680" y="52545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58800" y="53960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030760" y="3835440"/>
            <a:ext cx="505080" cy="473400"/>
            <a:chOff x="2030760" y="3835440"/>
            <a:chExt cx="505080" cy="473400"/>
          </a:xfrm>
        </p:grpSpPr>
        <p:sp>
          <p:nvSpPr>
            <p:cNvPr id="106" name=""/>
            <p:cNvSpPr/>
            <p:nvPr/>
          </p:nvSpPr>
          <p:spPr>
            <a:xfrm>
              <a:off x="2030760" y="38354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52160" y="39765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97040" y="4038480"/>
            <a:ext cx="2959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259704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05880" y="227160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1000" y="364320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606680" y="3282840"/>
            <a:ext cx="5244840" cy="120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6680" y="3276720"/>
            <a:ext cx="69976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088040" y="32781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326280" y="24400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48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451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19280" y="4508640"/>
            <a:ext cx="5245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75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478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65920" y="3265560"/>
            <a:ext cx="14400" cy="2743200"/>
          </a:xfrm>
          <a:custGeom>
            <a:avLst/>
            <a:gdLst/>
            <a:ahLst/>
            <a:rect l="l" t="t" r="r" b="b"/>
            <a:pathLst>
              <a:path w="9" h="1728">
                <a:moveTo>
                  <a:pt x="9" y="0"/>
                </a:moveTo>
                <a:lnTo>
                  <a:pt x="0" y="1728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06680" y="4025880"/>
            <a:ext cx="5073480" cy="14400"/>
          </a:xfrm>
          <a:custGeom>
            <a:avLst/>
            <a:gdLst/>
            <a:ahLst/>
            <a:rect l="l" t="t" r="r" b="b"/>
            <a:pathLst>
              <a:path w="3196" h="9">
                <a:moveTo>
                  <a:pt x="0" y="9"/>
                </a:moveTo>
                <a:lnTo>
                  <a:pt x="3196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0800000">
            <a:off x="3803760" y="562680"/>
            <a:ext cx="278388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50"/>
                </a:moveTo>
                <a:arcTo wR="10800" hR="10800" stAng="10752320" swAng="5443663"/>
                <a:lnTo>
                  <a:pt x="10800" y="10800"/>
                </a:lnTo>
                <a:close/>
              </a:path>
              <a:path fill="none" w="21600" h="21600">
                <a:moveTo>
                  <a:pt x="1" y="10950"/>
                </a:moveTo>
                <a:arcTo wR="10800" hR="10800" stAng="10752320" swAng="5443663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699240" y="4032360"/>
            <a:ext cx="6480" cy="1968480"/>
          </a:xfrm>
          <a:custGeom>
            <a:avLst/>
            <a:gdLst/>
            <a:ahLst/>
            <a:rect l="l" t="t" r="r" b="b"/>
            <a:pathLst>
              <a:path w="4" h="1240">
                <a:moveTo>
                  <a:pt x="0" y="0"/>
                </a:moveTo>
                <a:lnTo>
                  <a:pt x="4" y="124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400800" y="4032360"/>
            <a:ext cx="1440" cy="1987560"/>
          </a:xfrm>
          <a:custGeom>
            <a:avLst/>
            <a:gdLst/>
            <a:ahLst/>
            <a:rect l="l" t="t" r="r" b="b"/>
            <a:pathLst>
              <a:path w="1" h="1252">
                <a:moveTo>
                  <a:pt x="0" y="0"/>
                </a:moveTo>
                <a:lnTo>
                  <a:pt x="0" y="125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393800" y="2514960"/>
            <a:ext cx="2994120" cy="2259720"/>
            <a:chOff x="4393800" y="2514960"/>
            <a:chExt cx="2994120" cy="2259720"/>
          </a:xfrm>
        </p:grpSpPr>
        <p:sp>
          <p:nvSpPr>
            <p:cNvPr id="491" name=""/>
            <p:cNvSpPr/>
            <p:nvPr/>
          </p:nvSpPr>
          <p:spPr>
            <a:xfrm rot="10800000">
              <a:off x="4643280" y="2514600"/>
              <a:ext cx="271728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0800000">
              <a:off x="4393800" y="2514600"/>
              <a:ext cx="299412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020000" y="335772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40360" y="2637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88360" y="59500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511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63160" y="2351520"/>
            <a:ext cx="2883240" cy="2297880"/>
            <a:chOff x="4763160" y="2351520"/>
            <a:chExt cx="2883240" cy="2297880"/>
          </a:xfrm>
        </p:grpSpPr>
        <p:sp>
          <p:nvSpPr>
            <p:cNvPr id="514" name=""/>
            <p:cNvSpPr/>
            <p:nvPr/>
          </p:nvSpPr>
          <p:spPr>
            <a:xfrm rot="10800000">
              <a:off x="5003640" y="2351520"/>
              <a:ext cx="261648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0800000">
              <a:off x="4763160" y="2351160"/>
              <a:ext cx="288324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00840" y="3267000"/>
            <a:ext cx="14400" cy="2727360"/>
          </a:xfrm>
          <a:custGeom>
            <a:avLst/>
            <a:gdLst/>
            <a:ahLst/>
            <a:rect l="l" t="t" r="r" b="b"/>
            <a:pathLst>
              <a:path w="9" h="1718">
                <a:moveTo>
                  <a:pt x="0" y="0"/>
                </a:moveTo>
                <a:lnTo>
                  <a:pt x="9" y="1718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2800" y="4336920"/>
            <a:ext cx="4921200" cy="19080"/>
          </a:xfrm>
          <a:custGeom>
            <a:avLst/>
            <a:gdLst/>
            <a:ahLst/>
            <a:rect l="l" t="t" r="r" b="b"/>
            <a:pathLst>
              <a:path w="3100" h="12">
                <a:moveTo>
                  <a:pt x="0" y="0"/>
                </a:moveTo>
                <a:lnTo>
                  <a:pt x="3100" y="1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34000" y="4356000"/>
            <a:ext cx="6480" cy="1670040"/>
          </a:xfrm>
          <a:custGeom>
            <a:avLst/>
            <a:gdLst/>
            <a:ahLst/>
            <a:rect l="l" t="t" r="r" b="b"/>
            <a:pathLst>
              <a:path w="4" h="1052">
                <a:moveTo>
                  <a:pt x="4" y="0"/>
                </a:moveTo>
                <a:lnTo>
                  <a:pt x="0" y="1052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58080" y="4349880"/>
            <a:ext cx="12600" cy="1638000"/>
          </a:xfrm>
          <a:custGeom>
            <a:avLst/>
            <a:gdLst/>
            <a:ahLst/>
            <a:rect l="l" t="t" r="r" b="b"/>
            <a:pathLst>
              <a:path w="8" h="1032">
                <a:moveTo>
                  <a:pt x="8" y="0"/>
                </a:moveTo>
                <a:lnTo>
                  <a:pt x="0" y="103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93720" y="4362480"/>
            <a:ext cx="4946760" cy="247680"/>
          </a:xfrm>
          <a:custGeom>
            <a:avLst/>
            <a:gdLst/>
            <a:ahLst/>
            <a:rect l="l" t="t" r="r" b="b"/>
            <a:pathLst>
              <a:path w="3116" h="156">
                <a:moveTo>
                  <a:pt x="3116" y="0"/>
                </a:moveTo>
                <a:lnTo>
                  <a:pt x="3112" y="156"/>
                </a:lnTo>
                <a:lnTo>
                  <a:pt x="0" y="148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93720" y="4349880"/>
            <a:ext cx="4946760" cy="323640"/>
          </a:xfrm>
          <a:custGeom>
            <a:avLst/>
            <a:gdLst/>
            <a:ahLst/>
            <a:rect l="l" t="t" r="r" b="b"/>
            <a:pathLst>
              <a:path w="3116" h="204">
                <a:moveTo>
                  <a:pt x="3116" y="0"/>
                </a:moveTo>
                <a:lnTo>
                  <a:pt x="3116" y="204"/>
                </a:lnTo>
                <a:lnTo>
                  <a:pt x="0" y="200"/>
                </a:lnTo>
              </a:path>
            </a:pathLst>
          </a:custGeom>
          <a:noFill/>
          <a:ln cap="rnd" w="28440">
            <a:solidFill>
              <a:srgbClr val="00cc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606680" y="4356000"/>
            <a:ext cx="4464000" cy="438120"/>
          </a:xfrm>
          <a:custGeom>
            <a:avLst/>
            <a:gdLst/>
            <a:ahLst/>
            <a:rect l="l" t="t" r="r" b="b"/>
            <a:pathLst>
              <a:path w="2812" h="276">
                <a:moveTo>
                  <a:pt x="2812" y="0"/>
                </a:moveTo>
                <a:lnTo>
                  <a:pt x="2804" y="276"/>
                </a:lnTo>
                <a:lnTo>
                  <a:pt x="0" y="271"/>
                </a:lnTo>
              </a:path>
            </a:pathLst>
          </a:custGeom>
          <a:noFill/>
          <a:ln cap="rnd" w="284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6516360" y="6093000"/>
            <a:ext cx="360360" cy="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6084360" y="6165720"/>
            <a:ext cx="792360" cy="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00200" y="3271680"/>
            <a:ext cx="2062080" cy="667080"/>
          </a:xfrm>
          <a:custGeom>
            <a:avLst/>
            <a:gdLst/>
            <a:ahLst/>
            <a:rect l="l" t="t" r="r" b="b"/>
            <a:pathLst>
              <a:path w="1299" h="420">
                <a:moveTo>
                  <a:pt x="1299" y="0"/>
                </a:moveTo>
                <a:lnTo>
                  <a:pt x="1299" y="420"/>
                </a:lnTo>
                <a:lnTo>
                  <a:pt x="0" y="414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585800" y="3271680"/>
            <a:ext cx="2076480" cy="1290960"/>
          </a:xfrm>
          <a:custGeom>
            <a:avLst/>
            <a:gdLst/>
            <a:ahLst/>
            <a:rect l="l" t="t" r="r" b="b"/>
            <a:pathLst>
              <a:path w="1308" h="813">
                <a:moveTo>
                  <a:pt x="1308" y="0"/>
                </a:moveTo>
                <a:lnTo>
                  <a:pt x="1302" y="813"/>
                </a:lnTo>
                <a:lnTo>
                  <a:pt x="0" y="813"/>
                </a:lnTo>
              </a:path>
            </a:pathLst>
          </a:custGeom>
          <a:noFill/>
          <a:ln cap="rnd" w="28440">
            <a:solidFill>
              <a:srgbClr val="00cc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04880" y="3276720"/>
            <a:ext cx="5305680" cy="1224000"/>
          </a:xfrm>
          <a:custGeom>
            <a:avLst/>
            <a:gdLst/>
            <a:ahLst/>
            <a:rect l="l" t="t" r="r" b="b"/>
            <a:pathLst>
              <a:path w="3342" h="771">
                <a:moveTo>
                  <a:pt x="3333" y="0"/>
                </a:moveTo>
                <a:lnTo>
                  <a:pt x="3342" y="771"/>
                </a:lnTo>
                <a:lnTo>
                  <a:pt x="0" y="768"/>
                </a:lnTo>
              </a:path>
            </a:pathLst>
          </a:custGeom>
          <a:noFill/>
          <a:ln cap="rnd" w="284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643200" y="3267000"/>
            <a:ext cx="19080" cy="2747880"/>
          </a:xfrm>
          <a:custGeom>
            <a:avLst/>
            <a:gdLst/>
            <a:ahLst/>
            <a:rect l="l" t="t" r="r" b="b"/>
            <a:pathLst>
              <a:path w="12" h="1731">
                <a:moveTo>
                  <a:pt x="12" y="0"/>
                </a:moveTo>
                <a:lnTo>
                  <a:pt x="0" y="1731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1964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35280" y="6381720"/>
            <a:ext cx="32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606680" y="4121280"/>
            <a:ext cx="4711680" cy="596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69280" y="31258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0800000">
            <a:off x="4217760" y="-277920"/>
            <a:ext cx="2717640" cy="53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02240" y="19828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553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556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0800000">
            <a:off x="3836880" y="56016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338360" y="2389320"/>
            <a:ext cx="2825640" cy="2412360"/>
            <a:chOff x="4338360" y="2389320"/>
            <a:chExt cx="2825640" cy="2412360"/>
          </a:xfrm>
        </p:grpSpPr>
        <p:sp>
          <p:nvSpPr>
            <p:cNvPr id="564" name=""/>
            <p:cNvSpPr/>
            <p:nvPr/>
          </p:nvSpPr>
          <p:spPr>
            <a:xfrm rot="10800000">
              <a:off x="4572000" y="238932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0800000">
              <a:off x="4338360" y="2388960"/>
              <a:ext cx="2825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324480" y="404496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736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59440" y="335448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69080" y="274464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06680" y="4876920"/>
            <a:ext cx="3873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0800000">
            <a:off x="3151080" y="86508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3805920" y="2465640"/>
            <a:ext cx="2824920" cy="2412360"/>
            <a:chOff x="3805920" y="2465640"/>
            <a:chExt cx="2824920" cy="2412360"/>
          </a:xfrm>
        </p:grpSpPr>
        <p:sp>
          <p:nvSpPr>
            <p:cNvPr id="584" name=""/>
            <p:cNvSpPr/>
            <p:nvPr/>
          </p:nvSpPr>
          <p:spPr>
            <a:xfrm rot="10800000">
              <a:off x="4038480" y="246564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0800000">
              <a:off x="3805920" y="2465280"/>
              <a:ext cx="282492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5410080" y="4807080"/>
            <a:ext cx="0" cy="12063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59240" y="6021360"/>
            <a:ext cx="1444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87840" y="274464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2680" y="4649760"/>
            <a:ext cx="1216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11680" y="335448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611280" y="915840"/>
            <a:ext cx="4187880" cy="5420880"/>
            <a:chOff x="611280" y="915840"/>
            <a:chExt cx="4187880" cy="5420880"/>
          </a:xfrm>
        </p:grpSpPr>
        <p:sp>
          <p:nvSpPr>
            <p:cNvPr id="593" name=""/>
            <p:cNvSpPr/>
            <p:nvPr/>
          </p:nvSpPr>
          <p:spPr>
            <a:xfrm>
              <a:off x="1219320" y="1003320"/>
              <a:ext cx="0" cy="485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130040" y="5867280"/>
              <a:ext cx="360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25440" y="2362320"/>
              <a:ext cx="90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01760" y="4572000"/>
              <a:ext cx="1816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97280" y="58690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4578480"/>
              <a:ext cx="0" cy="12826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12800" y="2832120"/>
              <a:ext cx="1955880" cy="226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71560" y="2000160"/>
              <a:ext cx="2629080" cy="300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695600" y="1390680"/>
              <a:ext cx="799920" cy="2019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49360" y="3125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79840" y="3441600"/>
              <a:ext cx="812520" cy="2032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92560" y="5869080"/>
              <a:ext cx="606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3560" y="915840"/>
              <a:ext cx="453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30240" y="586908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57400" y="2368440"/>
              <a:ext cx="0" cy="349272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7240" y="205884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1280" y="42688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54280" y="12970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7280" y="38116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40280" y="4268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105520" y="107964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016240" y="594360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111640" y="365760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11640" y="4952880"/>
            <a:ext cx="30355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45040" y="594504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77320" y="4952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99000" y="29084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657760" y="2076480"/>
            <a:ext cx="2629080" cy="3009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562880" y="3524400"/>
            <a:ext cx="799920" cy="2019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8040" y="45734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27600" y="2603520"/>
            <a:ext cx="812880" cy="203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305920" y="594360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49760" y="9921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848720" y="594360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72200" y="3664080"/>
            <a:ext cx="0" cy="22730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49760" y="472608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35448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560" y="34304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869080" y="282096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630840" y="29732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Times New Roman"/>
              </a:rPr>
              <a:t>Economías pecuniarias y el precio de las f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aximización de utilidad y función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98560" y="2011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800" y="1387440"/>
            <a:ext cx="2438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x.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I -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42720" y="2073240"/>
            <a:ext cx="456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P q  - { w L(q) + r K(q)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0720" y="2759040"/>
            <a:ext cx="5171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K,L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P  f (K, L) - { w L + r K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99760" y="3673440"/>
            <a:ext cx="3761640" cy="1260360"/>
            <a:chOff x="2399760" y="3673440"/>
            <a:chExt cx="3761640" cy="1260360"/>
          </a:xfrm>
        </p:grpSpPr>
        <p:sp>
          <p:nvSpPr>
            <p:cNvPr id="118" name=""/>
            <p:cNvSpPr/>
            <p:nvPr/>
          </p:nvSpPr>
          <p:spPr>
            <a:xfrm>
              <a:off x="2399760" y="3673440"/>
              <a:ext cx="3761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V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= P * 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L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w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99840" y="4359240"/>
              <a:ext cx="3581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V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= P * 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K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778480" y="5349960"/>
            <a:ext cx="3145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Mg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L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/ w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Mg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/ 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Iso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08040" y="23922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538000" y="1609560"/>
            <a:ext cx="17640" cy="370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48080" y="5305320"/>
            <a:ext cx="444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57560" y="11732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05680" y="53053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54440" y="2463840"/>
            <a:ext cx="505440" cy="473400"/>
            <a:chOff x="1954440" y="2463840"/>
            <a:chExt cx="505440" cy="473400"/>
          </a:xfrm>
        </p:grpSpPr>
        <p:sp>
          <p:nvSpPr>
            <p:cNvPr id="128" name=""/>
            <p:cNvSpPr/>
            <p:nvPr/>
          </p:nvSpPr>
          <p:spPr>
            <a:xfrm>
              <a:off x="1954440" y="2463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6200" y="26049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975200" y="5407200"/>
            <a:ext cx="502560" cy="473400"/>
            <a:chOff x="4975200" y="5407200"/>
            <a:chExt cx="502560" cy="473400"/>
          </a:xfrm>
        </p:grpSpPr>
        <p:sp>
          <p:nvSpPr>
            <p:cNvPr id="131" name=""/>
            <p:cNvSpPr/>
            <p:nvPr/>
          </p:nvSpPr>
          <p:spPr>
            <a:xfrm>
              <a:off x="4975200" y="540720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94080" y="55483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803920" y="5407200"/>
            <a:ext cx="505440" cy="473400"/>
            <a:chOff x="5803920" y="5407200"/>
            <a:chExt cx="505440" cy="473400"/>
          </a:xfrm>
        </p:grpSpPr>
        <p:sp>
          <p:nvSpPr>
            <p:cNvPr id="134" name=""/>
            <p:cNvSpPr/>
            <p:nvPr/>
          </p:nvSpPr>
          <p:spPr>
            <a:xfrm>
              <a:off x="5803920" y="540720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25680" y="55483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954440" y="1701720"/>
            <a:ext cx="505440" cy="473760"/>
            <a:chOff x="1954440" y="1701720"/>
            <a:chExt cx="505440" cy="473760"/>
          </a:xfrm>
        </p:grpSpPr>
        <p:sp>
          <p:nvSpPr>
            <p:cNvPr id="137" name=""/>
            <p:cNvSpPr/>
            <p:nvPr/>
          </p:nvSpPr>
          <p:spPr>
            <a:xfrm>
              <a:off x="1954440" y="1701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76200" y="1843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549520" y="2755800"/>
            <a:ext cx="2657520" cy="252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49520" y="2009880"/>
            <a:ext cx="3419640" cy="328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77880" y="4541760"/>
            <a:ext cx="21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 = w L + 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5600" y="3110040"/>
            <a:ext cx="2133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= w L + 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2680" y="1890720"/>
            <a:ext cx="152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22680" y="4903920"/>
            <a:ext cx="406440" cy="7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314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314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56960" y="4527720"/>
            <a:ext cx="640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635000" y="4737240"/>
            <a:ext cx="185436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inimización de 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35000" y="1533240"/>
            <a:ext cx="0" cy="394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62000" y="5473800"/>
            <a:ext cx="4596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19480" y="14778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91280" y="5457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20920" y="2387520"/>
            <a:ext cx="505440" cy="473760"/>
            <a:chOff x="1420920" y="2387520"/>
            <a:chExt cx="505440" cy="473760"/>
          </a:xfrm>
        </p:grpSpPr>
        <p:sp>
          <p:nvSpPr>
            <p:cNvPr id="153" name=""/>
            <p:cNvSpPr/>
            <p:nvPr/>
          </p:nvSpPr>
          <p:spPr>
            <a:xfrm>
              <a:off x="1420920" y="2387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42680" y="25290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92480" y="2597040"/>
            <a:ext cx="12600" cy="12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49400" y="2660400"/>
            <a:ext cx="406440" cy="205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46320" y="5483160"/>
            <a:ext cx="505440" cy="473760"/>
            <a:chOff x="2146320" y="5483160"/>
            <a:chExt cx="505440" cy="473760"/>
          </a:xfrm>
        </p:grpSpPr>
        <p:sp>
          <p:nvSpPr>
            <p:cNvPr id="158" name=""/>
            <p:cNvSpPr/>
            <p:nvPr/>
          </p:nvSpPr>
          <p:spPr>
            <a:xfrm>
              <a:off x="214632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808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362320" y="274968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2286000" y="-505800"/>
            <a:ext cx="72892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86800" y="45576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16160" y="2063880"/>
            <a:ext cx="216000" cy="18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974600" y="3886200"/>
            <a:ext cx="46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1640" y="3284640"/>
            <a:ext cx="443880" cy="120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54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544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0400" y="2355840"/>
            <a:ext cx="3068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S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79520" y="2771640"/>
            <a:ext cx="1338480" cy="95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40040" y="2260440"/>
            <a:ext cx="3274920" cy="3191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64080" y="5043600"/>
            <a:ext cx="4755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708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708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38360" y="37195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793760" y="4197240"/>
            <a:ext cx="546120" cy="1130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inimización de 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43280" y="1411200"/>
            <a:ext cx="0" cy="405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38240" y="5464080"/>
            <a:ext cx="546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19480" y="14778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91280" y="5457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20920" y="2387520"/>
            <a:ext cx="505440" cy="473760"/>
            <a:chOff x="1420920" y="2387520"/>
            <a:chExt cx="505440" cy="473760"/>
          </a:xfrm>
        </p:grpSpPr>
        <p:sp>
          <p:nvSpPr>
            <p:cNvPr id="178" name=""/>
            <p:cNvSpPr/>
            <p:nvPr/>
          </p:nvSpPr>
          <p:spPr>
            <a:xfrm>
              <a:off x="1420920" y="2387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2680" y="25290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9782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938240" y="2660400"/>
            <a:ext cx="417600" cy="205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146320" y="5483160"/>
            <a:ext cx="505440" cy="473760"/>
            <a:chOff x="2146320" y="5483160"/>
            <a:chExt cx="505440" cy="473760"/>
          </a:xfrm>
        </p:grpSpPr>
        <p:sp>
          <p:nvSpPr>
            <p:cNvPr id="183" name=""/>
            <p:cNvSpPr/>
            <p:nvPr/>
          </p:nvSpPr>
          <p:spPr>
            <a:xfrm>
              <a:off x="214632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808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362320" y="274968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2286000" y="-505800"/>
            <a:ext cx="72892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79960" y="4557600"/>
            <a:ext cx="1752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16160" y="3206880"/>
            <a:ext cx="1130400" cy="12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584440" y="441972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74800" y="3970440"/>
            <a:ext cx="44460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54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544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2800" y="2165400"/>
            <a:ext cx="3911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S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89360" y="2673360"/>
            <a:ext cx="241200" cy="1663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5880" y="2903400"/>
            <a:ext cx="2421000" cy="252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41840" y="5113440"/>
            <a:ext cx="5965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171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1714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38360" y="37195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032000" y="4121280"/>
            <a:ext cx="1384200" cy="12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2230560"/>
            <a:ext cx="3197160" cy="3209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87560" y="3962520"/>
            <a:ext cx="9018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968640"/>
            <a:ext cx="0" cy="1435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344960" y="3683160"/>
            <a:ext cx="505080" cy="473400"/>
            <a:chOff x="1344960" y="3683160"/>
            <a:chExt cx="505080" cy="473400"/>
          </a:xfrm>
        </p:grpSpPr>
        <p:sp>
          <p:nvSpPr>
            <p:cNvPr id="201" name=""/>
            <p:cNvSpPr/>
            <p:nvPr/>
          </p:nvSpPr>
          <p:spPr>
            <a:xfrm>
              <a:off x="1344960" y="368316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6360" y="38242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755800" y="5483160"/>
            <a:ext cx="505800" cy="473760"/>
            <a:chOff x="2755800" y="5483160"/>
            <a:chExt cx="505800" cy="473760"/>
          </a:xfrm>
        </p:grpSpPr>
        <p:sp>
          <p:nvSpPr>
            <p:cNvPr id="204" name=""/>
            <p:cNvSpPr/>
            <p:nvPr/>
          </p:nvSpPr>
          <p:spPr>
            <a:xfrm>
              <a:off x="275580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7792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Isocuantas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593800" y="1609200"/>
            <a:ext cx="30240" cy="364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619360" y="5222880"/>
            <a:ext cx="4340160" cy="3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60640" y="16146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8600" y="53895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30760" y="2844720"/>
            <a:ext cx="505080" cy="473760"/>
            <a:chOff x="2030760" y="2844720"/>
            <a:chExt cx="505080" cy="473760"/>
          </a:xfrm>
        </p:grpSpPr>
        <p:sp>
          <p:nvSpPr>
            <p:cNvPr id="212" name=""/>
            <p:cNvSpPr/>
            <p:nvPr/>
          </p:nvSpPr>
          <p:spPr>
            <a:xfrm>
              <a:off x="2030760" y="2844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52160" y="2986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03280" y="5300640"/>
            <a:ext cx="502200" cy="473760"/>
            <a:chOff x="3203280" y="5300640"/>
            <a:chExt cx="502200" cy="473760"/>
          </a:xfrm>
        </p:grpSpPr>
        <p:sp>
          <p:nvSpPr>
            <p:cNvPr id="215" name=""/>
            <p:cNvSpPr/>
            <p:nvPr/>
          </p:nvSpPr>
          <p:spPr>
            <a:xfrm>
              <a:off x="320328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180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28284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848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84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03520" y="3124080"/>
            <a:ext cx="2946240" cy="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2679840"/>
            <a:ext cx="0" cy="2565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72600" y="4329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995280" y="5300640"/>
            <a:ext cx="505800" cy="473760"/>
            <a:chOff x="3995280" y="5300640"/>
            <a:chExt cx="505800" cy="473760"/>
          </a:xfrm>
        </p:grpSpPr>
        <p:sp>
          <p:nvSpPr>
            <p:cNvPr id="224" name=""/>
            <p:cNvSpPr/>
            <p:nvPr/>
          </p:nvSpPr>
          <p:spPr>
            <a:xfrm>
              <a:off x="399528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1740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051280" y="2349360"/>
            <a:ext cx="505080" cy="473400"/>
            <a:chOff x="2051280" y="2349360"/>
            <a:chExt cx="505080" cy="473400"/>
          </a:xfrm>
        </p:grpSpPr>
        <p:sp>
          <p:nvSpPr>
            <p:cNvPr id="227" name=""/>
            <p:cNvSpPr/>
            <p:nvPr/>
          </p:nvSpPr>
          <p:spPr>
            <a:xfrm>
              <a:off x="2051280" y="234936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72680" y="24904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627280" y="2637000"/>
            <a:ext cx="1513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3068640"/>
            <a:ext cx="4680" cy="2182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3048120" y="52200"/>
            <a:ext cx="7263360" cy="43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573800">
            <a:off x="3920040" y="-527400"/>
            <a:ext cx="7264080" cy="43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9400" y="3213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4880" y="5373720"/>
            <a:ext cx="122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6560" y="1197000"/>
            <a:ext cx="353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pansión de largo plaz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15560" y="2342160"/>
            <a:ext cx="1738080" cy="25768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348000" y="1773000"/>
            <a:ext cx="2016000" cy="136836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637000"/>
            <a:ext cx="0" cy="2592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96640" y="2271960"/>
            <a:ext cx="1767960" cy="25570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25320" y="2508480"/>
            <a:ext cx="1639440" cy="233172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7280" y="2565360"/>
            <a:ext cx="353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pansión de corto plaz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571640" y="5300640"/>
            <a:ext cx="505800" cy="473760"/>
            <a:chOff x="4571640" y="5300640"/>
            <a:chExt cx="505800" cy="473760"/>
          </a:xfrm>
        </p:grpSpPr>
        <p:sp>
          <p:nvSpPr>
            <p:cNvPr id="243" name=""/>
            <p:cNvSpPr/>
            <p:nvPr/>
          </p:nvSpPr>
          <p:spPr>
            <a:xfrm>
              <a:off x="457164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9376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697120" y="3121200"/>
            <a:ext cx="4195800" cy="1440"/>
          </a:xfrm>
          <a:custGeom>
            <a:avLst/>
            <a:gdLst/>
            <a:ahLst/>
            <a:rect l="l" t="t" r="r" b="b"/>
            <a:pathLst>
              <a:path w="2643" h="1">
                <a:moveTo>
                  <a:pt x="0" y="0"/>
                </a:moveTo>
                <a:lnTo>
                  <a:pt x="2643" y="0"/>
                </a:lnTo>
              </a:path>
            </a:pathLst>
          </a:custGeom>
          <a:solidFill>
            <a:srgbClr val="0000a4">
              <a:alpha val="23000"/>
            </a:srgbClr>
          </a:solidFill>
          <a:ln w="2844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1640" y="1677960"/>
            <a:ext cx="693108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rto y largo plaz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arcial y general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aracterísticas tecnológicas de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Precio de equilibri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3040" y="1449360"/>
            <a:ext cx="715968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Las firmas no se arrepienten de la decisión de producir q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tomando el precio de venta como da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A un precio mayor se produce un exceso de of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&gt; disminuir el preci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A un precio menor se produce un exceso de dema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&gt; aumentar el pre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5:22:15Z</dcterms:created>
  <dc:creator>Marco Hauva</dc:creator>
  <dc:description/>
  <dc:language>en-US</dc:language>
  <cp:lastModifiedBy>Marco Hauva</cp:lastModifiedBy>
  <dcterms:modified xsi:type="dcterms:W3CDTF">2007-09-04T15:24:42Z</dcterms:modified>
  <cp:revision>2</cp:revision>
  <dc:subject/>
  <dc:title>Slide 1</dc:title>
</cp:coreProperties>
</file>