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BFD-1500-430B-911E-C0CC85CE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9BA-3A3A-4AA0-BD88-26FEBF41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F96-ACEF-4771-A7D3-57D997AA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E96-741F-41C1-8673-3FD5FE60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24D8-0AB5-4F15-8E80-66CE5C40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A250-235E-4AEF-947F-2BCC265C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D892-3907-47F6-9CEB-A991DB47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7887-8FA5-4932-BBC7-329A5923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2D2F-53AB-4C07-A3FA-4C5593BA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A97B-57D4-484A-BF66-A0017C12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9288-7E13-433E-B5B6-B20CECD9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D51-A416-4213-8877-3C705005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66A0-D9AC-4618-B5EC-5C05CF68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275D-2243-4981-A811-D6C746E6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1F28-2D45-47D0-B97C-44D75195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E6BD-45C4-4896-A7A8-A8AC4815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2DA1-610D-43A1-A975-B1C92A64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922-2C49-4E0A-B0F8-033FDC55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FD5-6FCE-419F-B297-63C86518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AA1-3CDB-4779-860D-5A6EDB08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C25-E42F-4B70-A82A-E1835DD2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B4C-871E-4DAE-8AE5-D5E78EAA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34A-C60B-4506-9E99-F11E690C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57A-40B9-404B-B74D-ECBDCDEA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95C0-2498-483D-B09D-4F39B59FFD7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B3D3-5E5F-40ED-9F72-602BF47E596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Acerca de la Historia del Pensamiento Económico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¿Por qué estudiar “ideas equivocadas de economistas muertos”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¿Qué es la HP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studia el pensamiento económico en su proceso histór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l “pensamiento económico” puede incluir varios aspect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ciencia económica (teorías y contexto social y pers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"filosofía" de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modo en que las personas piensan “la economía”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(menta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</a:t>
            </a: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estrictamente en la evolución “lineal” del pensamiento (asociación con ciencias “duras”…  ¿“darwinismo vulgar?” ) o en la vocación “práctica”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ada: mejor dedicar ese tiempo a aprender cosas mas útiles (de todos modos en las matemáticas se ve la inteligencia así que los que se dedican a la H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mo ent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ra saber cómo la ideas correctas prevalec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continuació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que la evolución no es “lineal” ni se rige sólo por urgencias de aplicación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ofrecer nuevos caminos a expl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ayudar a plantear mejor nuestras pregu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uede ayudar a tener una visión crítica sobre lo que ha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n general: ayuda a entender nuestr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ciencia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us preguntas, debates, a organizar tipos de respuestas, a buscar mejores respuestas (y evitar “inventar la rueda”) , a enfrentar situaciones nuevas y a tener claro las fortalezas y debilidades de nuestros planteamientos (Ejemplo: Sraffa y la controversia del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La HPE como oportunidad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1880" y="4214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o Ricard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8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Marx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01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070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cl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365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ol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86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82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ustri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El estudio de la HPE  puede ser una oportunidad para aproximarse a la teoría económica a la manera de una reflexión permanente; como un diálogo entre “tradiciones” de pen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colog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/>
  <dc:description/>
  <dc:language>en-US</dc:language>
  <cp:lastModifiedBy>HUEPE-C</cp:lastModifiedBy>
  <dcterms:modified xsi:type="dcterms:W3CDTF">2007-08-28T21:00:42Z</dcterms:modified>
  <cp:revision>16</cp:revision>
  <dc:subject/>
  <dc:title>Historia del Pensamiento Económico</dc:title>
</cp:coreProperties>
</file>