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8627-30FB-4887-9C2C-2ADDF28C5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50C4-1AE3-47AC-AFBB-3416457B6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FF60-756E-45B4-8AA8-A879DD9AA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4416-5711-452C-85E4-C4C11DAB4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DD0CD-507A-49EF-94CC-B55596730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A6128-3589-42CF-A22D-048F91BA4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DE15B-4630-45B3-BE9A-0FED1FF46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6E668-3272-4E0A-A34D-C722FDFB3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8D952-9A17-45E4-B414-EA501A682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F8CF0-8332-4754-9332-971771C14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4D0A2-2EF8-428E-ADD9-170D94A5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8EAC-23D8-44CB-86EF-56AFF2B69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AB968-3266-4899-B017-DBB03070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4F31D-687E-46C3-8657-9487BA09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9C43E-63A4-4860-94D1-A0B8E8F5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470A4-C9BC-4491-9749-77D9E4255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664C4-4EB6-4F1F-870F-2E6CA3D96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F8B9-729F-4595-A969-C2AF24407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BC9C-B9EB-41CD-804D-AA6D97634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62C4-BB34-43E3-99E4-DB511334E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8566-A331-4DC9-A265-9BADAE2E2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9EF7-7479-4B03-AC5E-33FB193F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FED0-25B4-4C28-AC56-E1F6FD47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CC84-9818-4398-9D1C-53B94AA5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4C3B7-10E9-45B3-9918-12815629B4CB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C7C7-26DD-43BE-8C35-605066F76B28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00000"/>
                </a:solidFill>
                <a:latin typeface="Garamond"/>
              </a:rPr>
              <a:t>Acerca de la Historia del Pensamiento Económico</a:t>
            </a:r>
            <a:br>
              <a:rPr sz="5000"/>
            </a:br>
            <a:br>
              <a:rPr sz="5000"/>
            </a:br>
            <a:r>
              <a:rPr b="1" lang="es-ES" sz="5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" sz="4000" spc="-1" strike="noStrike">
                <a:solidFill>
                  <a:srgbClr val="000000"/>
                </a:solidFill>
                <a:latin typeface="Garamond"/>
              </a:rPr>
              <a:t>¿Por qué estudiar “ideas equivocadas de economistas muertos”?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0000"/>
                </a:solidFill>
                <a:latin typeface="Garamond"/>
              </a:rPr>
              <a:t>¿Qué es la HPE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063"/>
              </a:spcBef>
              <a:spcAft>
                <a:spcPts val="1063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Garamond"/>
              </a:rPr>
              <a:t>Estudia el pensamiento económico en su proceso históric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063"/>
              </a:spcBef>
              <a:spcAft>
                <a:spcPts val="1063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Garamond"/>
              </a:rPr>
              <a:t>El “pensamiento económico” puede incluir varios aspectos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la ciencia económica (teorías y contexto social y pers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la "filosofía" de la econom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75000"/>
              </a:lnSpc>
              <a:spcBef>
                <a:spcPts val="624"/>
              </a:spcBef>
              <a:spcAft>
                <a:spcPts val="624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el modo en que las personas piensan “la economía” </a:t>
            </a:r>
            <a:r>
              <a:rPr b="0" lang="es-ES" sz="2000" spc="-1" strike="noStrike">
                <a:solidFill>
                  <a:srgbClr val="000000"/>
                </a:solidFill>
                <a:latin typeface="Garamond"/>
              </a:rPr>
              <a:t>(mentalidad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Garamond"/>
              </a:rPr>
              <a:t>¿Puede aportar la HPE a la formación de los economistas?</a:t>
            </a:r>
            <a:r>
              <a:rPr b="0" lang="es-ES" sz="3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Si creemos estrictamente en la evolución “lineal” del pensamiento (asociación con ciencias “duras”…  ¿“darwinismo vulgar?” ) o en la vocación “práctica” de la econom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6208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Nada: mejor dedicar ese tiempo a aprender cosas mas útiles (de todos modos en las matemáticas se ve la inteligencia así que los que se dedican a la HP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6208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Como entrete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6208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Para saber cómo la ideas correctas prevalecie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Garamond"/>
              </a:rPr>
              <a:t>¿Puede aportar la HPE a la formación de los economistas? </a:t>
            </a:r>
            <a:r>
              <a:rPr b="1" lang="es-ES" sz="2800" spc="-1" strike="noStrike">
                <a:solidFill>
                  <a:srgbClr val="000000"/>
                </a:solidFill>
                <a:latin typeface="Garamond"/>
              </a:rPr>
              <a:t>(continuación)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Si creemos que la evolución no es “lineal” ni se rige sólo por urgencias de aplicación…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05800" indent="-3056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Nos puede ofrecer nuevos caminos a explor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5800" indent="-3056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Nos puede ayudar a plantear mejor nuestras pregu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5800" indent="-3056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Puede ayudar a tener una visión crítica sobre lo que hace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5800" indent="-3056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En general: ayuda a entender nuestra </a:t>
            </a:r>
            <a:r>
              <a:rPr b="0" i="1" lang="es-ES" sz="2400" spc="-1" strike="noStrike">
                <a:solidFill>
                  <a:srgbClr val="000000"/>
                </a:solidFill>
                <a:latin typeface="Garamond"/>
              </a:rPr>
              <a:t>ciencia 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sus preguntas, debates, a organizar tipos de respuestas, a buscar mejores respuestas (y evitar “inventar la rueda”) , a enfrentar situaciones nuevas y a tener claro las fortalezas y debilidades de nuestros planteamientos (Ejemplo: Sraffa y la controversia del capi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Garamond"/>
              </a:rPr>
              <a:t>La HPE como oportunidad…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21880" y="4214160"/>
            <a:ext cx="19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Neo Ricardia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00360" y="37828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Marx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56000" y="501336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Institucional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24360" y="40705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Neoclás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24360" y="436572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Evolu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43280" y="486900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NeoKeynesia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580000" y="378288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Austria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92720" y="544500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NeoInstitucional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628640"/>
            <a:ext cx="806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El estudio de la HPE  puede ser una oportunidad para aproximarse a la teoría económica a la manera de una reflexión permanente; como un diálogo entre “tradiciones” de pens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32000" y="537372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Ecolog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87640" y="450864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Keynesia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4T21:23:13Z</dcterms:created>
  <dc:creator/>
  <dc:description/>
  <dc:language>en-US</dc:language>
  <cp:lastModifiedBy>HUEPE-C</cp:lastModifiedBy>
  <dcterms:modified xsi:type="dcterms:W3CDTF">2007-08-28T21:00:42Z</dcterms:modified>
  <cp:revision>16</cp:revision>
  <dc:subject/>
  <dc:title>Historia del Pensamiento Económico</dc:title>
</cp:coreProperties>
</file>