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051-9062-42E8-AE85-E08963C1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9A7-FA60-4F6B-A97F-53DCD06D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245-324A-4116-A331-AB779244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BF8-8F44-4CA6-B065-F4D112D4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1FCD-24F5-4C67-BDF3-B69C7DBB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EE08-3D0A-458B-8F5C-623CBFBF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2EF8-6BF1-4B05-A72E-31C221E9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F8CE-50B9-4C7E-991A-64503FD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68B-D4F8-4DDF-B955-306765EC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7FC7-8078-498A-981D-3BC87E2B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C0AF-C3CC-4D27-A987-4CFDD9A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5A1-59D8-455C-8CB1-EE8A393B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4A56-8936-4962-91AD-DF7E4D2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D91-4330-4B3E-A771-10A80093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FE08-1D6E-44E8-A41B-3A58F538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C9C7-1444-4906-82CB-D6AF2368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4C9F-CC2B-46BF-B2CF-8332A178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706-CEB5-446C-88CA-2D1AF5D7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65F-61F5-4E99-8FF9-7178E3E1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477-7CA3-448E-BBE8-FAAC4B71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9DF-3BCD-4367-9F8C-092CE4B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7C3-521A-4AD4-A688-271585DF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E56-9731-432D-887E-52F9050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F66-D202-4E15-B0B2-7193A21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351-FA6A-4D80-BD8D-F891ABBDC34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A96D-1AD4-403E-90C0-58DEC49734A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9C5-B5F6-4D17-9955-5C817E0EA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3A3-4557-424C-BA60-35554F754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D33-1BAF-43BC-9CA8-555EAD075F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BC1-9CE4-47E6-92FD-E0A2C7F32D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9FF-25BB-4FB1-868E-CACD11BC4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107-FCEE-462D-A730-179B7B804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DCC-6EF9-434F-9BC9-DD9906287480}" type="slidenum">
              <a:t>15</a:t>
            </a:fld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89A-3C46-47DE-988E-8D79ADCD63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3F3-1555-462C-BD62-2FBBB3EF31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19E-6214-433A-BBB2-3795625CA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EE6-A86C-4634-AD62-5D7598F3A0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B73-5963-4B2B-9B4D-3C13C6D8EB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05B-0709-499C-83A4-C8D2B2BC3B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9E8-880A-4624-A8CD-DBCC869AB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8E4-5DA0-4CD6-8F84-E0E6728DE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55736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ño de estudio a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8DF-5B49-4646-900B-03E9FC38E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 la contratació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6B4-E49A-48E8-AFBB-7A954AA18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6-01T20:29:28Z</dcterms:modified>
  <cp:revision>26</cp:revision>
  <dc:subject/>
  <dc:title>Sin título de diapositiva</dc:title>
</cp:coreProperties>
</file>