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TECL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B184-7BBF-4EFC-A64F-A4818F47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6B95-1C0E-4EFB-BFA5-A4D69A4E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1C5-2B2C-409D-A5C4-A33AC426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568-3A54-46E7-9065-4164892B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0112-AA85-4127-8B1F-72B49131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BB35-591D-4B1E-BCEB-25FE1F7E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64FB-535E-4534-9CD3-0449B95E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B33A-9D41-40BB-BCBC-78F43A47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0914-7949-4283-964D-CA6B0E60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8529-26B8-4150-A29B-0220844F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374C-9BF9-4AC6-AFDA-A3C8C2BB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5EC-8879-4BF7-8D3E-F1C073CD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BFEA-5C9D-4D0A-A38B-375551A5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B29B-0C5B-4AF5-B337-A1841444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B81F-E8F7-46E9-85BF-3FEB5019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1FC7-BA83-4859-935E-8E763DA2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B29A-4131-43EA-8CE6-2B5ACEDF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DD64-8EA8-49BC-A824-18D4181B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476-6877-4623-ABA2-403F4DF0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740-5F5F-46C8-9A2D-21C7F814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8E27-6E8F-40A0-8EA7-0F1A7FC9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4B2C-66E9-490C-BC7D-6C5F964B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490B-DB92-4CCA-9B3D-7DDB4E48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17B-4D64-44EE-B81F-D4F3370C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851B-EA6A-425D-A4AE-64912FA77B4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479D-D738-42FD-A2E9-E06A01FEA11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352680" y="4572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651640" y="1773360"/>
            <a:ext cx="25747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curs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87640" y="4076640"/>
            <a:ext cx="3962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scase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26920" y="2133720"/>
            <a:ext cx="4038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Necesidades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1A77-E3AF-44DF-9283-430C178BFD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flipV="1">
            <a:off x="2209680" y="1600200"/>
            <a:ext cx="0" cy="449568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4343400"/>
            <a:ext cx="21337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426708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340160" y="3733560"/>
            <a:ext cx="7920" cy="5331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533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4267080"/>
            <a:ext cx="152640" cy="152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94C1-8514-4731-8F5E-F51D68ABF8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5181480"/>
            <a:ext cx="37339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5181480"/>
            <a:ext cx="0" cy="6858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495680"/>
            <a:ext cx="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572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6A89-B143-4E7A-8E26-A8732C3967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4800600"/>
            <a:ext cx="3581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800600"/>
            <a:ext cx="0" cy="10666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44956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4343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</a:t>
            </a:r>
            <a:r>
              <a:rPr b="1" lang="es-CL" sz="16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C69-3AFB-4D68-AB91-C353F543AC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286000"/>
            <a:ext cx="556272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028D-3568-4AED-A3CD-312B1520FD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971800"/>
            <a:ext cx="380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61080" y="2666520"/>
            <a:ext cx="576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2057400"/>
            <a:ext cx="5410440" cy="38098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E88C-4A62-4FF9-8F0D-4E9797BC22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22860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FLUJO CIRCULAR DEL INGRESO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ECONOMÍA CERRAD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éficit- Superávi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1219320"/>
            <a:ext cx="3200400" cy="8330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productiv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2590920"/>
            <a:ext cx="167652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 financie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4082400"/>
            <a:ext cx="167616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Gobiern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5543640"/>
            <a:ext cx="266688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bienes y servi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3169440"/>
            <a:ext cx="18288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Empres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3201120"/>
            <a:ext cx="16002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Hoga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1697040"/>
            <a:ext cx="1524240" cy="14270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1152" y="1056"/>
                </a:moveTo>
                <a:lnTo>
                  <a:pt x="1152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3657600"/>
            <a:ext cx="2286000" cy="2209680"/>
          </a:xfrm>
          <a:custGeom>
            <a:avLst/>
            <a:gdLst/>
            <a:ahLst/>
            <a:rect l="l" t="t" r="r" b="b"/>
            <a:pathLst>
              <a:path w="1104" h="1584">
                <a:moveTo>
                  <a:pt x="0" y="1584"/>
                </a:moveTo>
                <a:lnTo>
                  <a:pt x="1104" y="1584"/>
                </a:lnTo>
                <a:lnTo>
                  <a:pt x="110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2895480"/>
            <a:ext cx="2666880" cy="22860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752480"/>
            <a:ext cx="1524240" cy="144468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192" y="0"/>
                </a:moveTo>
                <a:lnTo>
                  <a:pt x="0" y="0"/>
                </a:lnTo>
                <a:lnTo>
                  <a:pt x="0" y="1056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3733920"/>
            <a:ext cx="1371600" cy="571320"/>
          </a:xfrm>
          <a:custGeom>
            <a:avLst/>
            <a:gdLst/>
            <a:ahLst/>
            <a:rect l="l" t="t" r="r" b="b"/>
            <a:pathLst>
              <a:path w="864" h="528">
                <a:moveTo>
                  <a:pt x="0" y="0"/>
                </a:moveTo>
                <a:lnTo>
                  <a:pt x="0" y="528"/>
                </a:lnTo>
                <a:lnTo>
                  <a:pt x="864" y="528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1219320" cy="2071440"/>
          </a:xfrm>
          <a:custGeom>
            <a:avLst/>
            <a:gdLst/>
            <a:ahLst/>
            <a:rect l="l" t="t" r="r" b="b"/>
            <a:pathLst>
              <a:path w="768" h="1632">
                <a:moveTo>
                  <a:pt x="0" y="0"/>
                </a:moveTo>
                <a:lnTo>
                  <a:pt x="0" y="1632"/>
                </a:lnTo>
                <a:lnTo>
                  <a:pt x="768" y="1632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4648320"/>
            <a:ext cx="1440" cy="89532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72200" y="1295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ago a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371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80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onsu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 de empres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37339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247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horro priv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4267080"/>
            <a:ext cx="2057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2000"/>
                </a:solidFill>
                <a:latin typeface="Times New Roman"/>
              </a:rPr>
              <a:t>Impuestos Directos - Transferenci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Gasto del Gobiern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3276720"/>
            <a:ext cx="990720" cy="23619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3276720"/>
            <a:ext cx="457200" cy="9903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572000" y="4572000"/>
            <a:ext cx="0" cy="91440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44197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mpuest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ndirectos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- Subsidi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373D-B9F8-4154-B872-8ECFD62671D1}" type="slidenum">
              <a:t>15</a:t>
            </a:fld>
          </a:p>
        </p:txBody>
      </p:sp>
    </p:spTree>
  </p:cSld>
  <p:transition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Demand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Necesidades, gustos, preferenci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36C-5D90-4403-9E0F-83721248C7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3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3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3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3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3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3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s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Ofert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9E8-5859-49A1-BFC0-457B031CFB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3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3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3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3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3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3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3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590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signación de los recursos escasos a distintos fines riva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276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ómo se enfrentan a la escasez las personas y las sociedad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962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La manera en que las sociedades utilizan los recursos escasos para producir mercancías valiosas y distribuirlas entre los individu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19051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odo en que la sociedad gestiona los recursos esca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3F9-213D-48CF-ABA5-6C1DF815AA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7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7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57600" y="3808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 rot="21335400">
            <a:off x="1294920" y="4647960"/>
            <a:ext cx="7391520" cy="88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Para quién se producen los biene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 rot="128400">
            <a:off x="1828440" y="304776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Cómo producirlo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 rot="21504600">
            <a:off x="1064880" y="1828440"/>
            <a:ext cx="7696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f68e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Qué bienes y en qué cantidade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4f68e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BD61-6010-4667-92AF-1CB69AAE90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scribe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el cómo es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Norma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Posi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rescripciones de cómo debería ser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895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salario mínimo provoca desemple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5181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gobierno debería subir el salario míni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352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Un impuesto a las ventas reduce la cantidad transad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55627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ben cobrarse mayores impuestos por la venta de cigarrill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020-CD5E-472C-81D4-EF4AAC70CE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7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7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7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22096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a el modo en que los hogares y la empresas toman decisiones, y de la forma en que interactúan en los mercad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a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i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5720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o de los fenómenos que afectan al conjunto de la economía, entre los que se encuentran la inflación, el desempleo y el crecimiento económic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F819-29E5-47B4-AA24-4386E41C1B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7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7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7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1752480"/>
            <a:ext cx="739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1: Las personas enfrentan disyuntiv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Tiempo de un estudian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mensual de una famil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na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Ingreso y calidad ambient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Equidad y 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8C3-2F0F-4342-A4F4-C64D74A09D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7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1752480"/>
            <a:ext cx="7467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2: el costo de algo es lo que se debe renunciar por obtener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una carrera en la Univers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Ir a cl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Matrimon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Recla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BD0B-F3F0-40DB-A40B-BA9489128C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1557360"/>
            <a:ext cx="698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3: las personas racionales piensan en términos margin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umenta su “combo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en otra ciu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ño de estudio adi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5DA8-081E-4B87-AD7D-6DF5AB1984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752480"/>
            <a:ext cx="7086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4: las personas responden a incentiv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Venta de ilegal de cigarrill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Quema de bosqu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Subsidio a la contratació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292D-F784-4572-BD3D-A739E02C29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6:03:53Z</dcterms:created>
  <dc:creator>XX</dc:creator>
  <dc:description/>
  <dc:language>en-US</dc:language>
  <cp:lastModifiedBy> Marco Hauva</cp:lastModifiedBy>
  <dcterms:modified xsi:type="dcterms:W3CDTF">2006-06-01T20:29:28Z</dcterms:modified>
  <cp:revision>26</cp:revision>
  <dc:subject/>
  <dc:title>Sin título de diapositiva</dc:title>
</cp:coreProperties>
</file>