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B68-E0CC-478A-8CC3-C8D22CEB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9AF-25F5-4281-A836-3512A44F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7FF-6D1C-4904-A752-EC19640D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F72-F0F0-4320-AEA2-AC22D372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F106-1D2C-498A-8809-7C2016CB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E4E5-843D-4F7E-B2E5-5573E9B3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2051-3A84-48BB-B274-401E5124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EE16-3EE0-4DDA-824F-41EA5F5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BCD7-640A-4AC5-8EDB-171D06B2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E220-36A2-44BC-BDA8-C1DBFA78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81A9-BE48-4695-8839-A224657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E31-34C3-45DF-B566-BCA0465F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BBAE-9EE5-45C9-8B83-E8E0E75E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CA94-40E9-48AF-85A8-40BF74C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3F48-91BB-4A43-8DBE-CB9FE02A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D19C-DF64-4155-8CE2-4ACCF47F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6E78-74CA-48D8-8276-E1538CD9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50E-29F5-432A-BC81-8841A81C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428-5B9D-46FB-A783-A7E6CE1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496-2073-41E2-99C2-9359937E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822-A474-4873-82E1-284EC3A7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C33-E9D9-4E8E-9B2B-7CB0DA0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9DF-1CC4-4287-86B2-3E9A60F6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094-FE8F-47BA-8E86-979B123E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C7C4-0039-4C82-8088-53AC47C8070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0085-6B13-4313-867D-91D9C5E604A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1A6-51FE-4896-860F-BE1A8F9756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497-FAFB-4560-93F8-135850D86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AA6-42F0-4B48-8642-3EA5583D8A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AF4-D782-4C67-A746-8AB85EA55F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8F0-FE5A-4546-866D-E6E546862D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24A-8E27-4554-801C-77EFC6B3D5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0D7-B5B0-45AE-802C-C249D6CC229A}" type="slidenum">
              <a:t>15</a:t>
            </a:fld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2C4-3E6F-4298-AFD7-05198D132A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464-D464-495E-8FE4-9C7D9D1336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D08-64C2-406E-A2AA-244586E0D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7F8-6E53-46F8-B77E-7F7A428AB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E66-FFF0-44A3-B37F-777D280C3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46A-C0B8-46BF-981B-C71715FAF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456-1958-4D7A-B1DA-34179CC127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795-AE9A-4317-8184-2EC55FC033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557360"/>
            <a:ext cx="69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ño de estudio adi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922-18A5-431C-B2A0-9C420DF980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 la contratació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5F4-3FCF-4D86-A30D-EDCC4CEF9F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6-01T20:29:28Z</dcterms:modified>
  <cp:revision>26</cp:revision>
  <dc:subject/>
  <dc:title>Sin título de diapositiva</dc:title>
</cp:coreProperties>
</file>