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C66-EC21-4E3B-A6C6-D8E156C4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029-917F-4399-B130-F58A89F0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4F3-4F15-4A8F-9147-1E48D325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C2D-1DAD-49C6-BAB0-2A1C54F6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0DE1-737C-447A-9DE3-08733276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9407-46D2-4C23-9048-0F6F856D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3017-AF4B-4654-821B-4B3AD3B9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B356-B6BC-45A0-88C0-6B7C79EB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3AF3-E394-41DC-980F-076FBC4C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7F5B-310E-4D4E-BEEC-90CFFBA8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39F1-098A-45D8-9530-E1BA3CDB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083-04D2-40E3-A056-83BB09C8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488D-F4BE-4B35-A04B-1E82E7AB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4093-A3FA-48AD-BD78-D53246C3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0963-80F6-4946-9D77-E28E4B9E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1E15-AEBF-447E-8959-81274AFB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BDAF-BF47-4EDA-80BF-FC1C94D9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887-77EA-4B9D-88C4-50F09205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8DD-83C8-4077-9EE1-FF2FCA04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F48-6783-4363-972C-09D666C4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288-20E2-4F01-86B6-0C15AD25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A96-D61F-4C2E-9DE2-F370B7BB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7C5-3A2B-4882-9BCD-41606A7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A10-BCEC-4259-8E97-2541EC5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7662-CE5F-46B0-A1CD-69250F5B24A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51C0-CE96-4036-8BC1-6CB9B05346F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186-2981-4729-9F80-900B6E174B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13B-C68A-4CD7-9C6F-4A8473B1E9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A92-520F-4AF9-9B89-59096B6AB9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267-FDFF-4716-98D1-54076ECC23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3C0-3319-4E2B-96CE-F5975E74BD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1BF-919A-413C-8194-C195988562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B9E-46C8-48A4-A5E7-F6067E97057C}" type="slidenum">
              <a:t>15</a:t>
            </a:fld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36D-E8EC-49C2-BE1B-83ACFC9F3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C6D-F700-4540-84EF-22593DB82E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7C8-12C7-4B14-84E0-4568ECA8E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7AE-BE3D-4464-904B-75FB4A0A9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CFD-9C79-4205-BD1D-F48481ECD3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F68-C8BC-4B3A-AEC1-C4FC8F7747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5EF-A6AC-4021-A621-77C8609F77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CEA-994E-4C38-BB3C-766DEE957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557360"/>
            <a:ext cx="69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ño de estudio adi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396-D89C-4BFE-9EF3-3ED49DD53F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 la contratació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E8E-50A9-4BF0-9656-2272386955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6-01T20:29:28Z</dcterms:modified>
  <cp:revision>26</cp:revision>
  <dc:subject/>
  <dc:title>Sin título de diapositiva</dc:title>
</cp:coreProperties>
</file>