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TECL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0E6B-F8D3-4AF3-BC52-801B054F1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7932-45B9-4CE1-BAE7-12CF6328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A08F-6485-44EA-A698-21EE5DEBD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2F72-99AB-4896-A6AB-68F06238A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EE5A-77FB-4917-A9CF-D7597F230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BA7F-41F9-4505-8DAA-7A65FFA8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1E80D-B2DD-4A7F-8EC6-EC6A251F6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84BA-2B96-4F93-B1A2-268F6230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87AB-B113-4666-9FE9-098E38996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EF45-1FEC-49ED-9713-66F557216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8E50-C70A-45B9-9BB4-9A2BB9B4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48D0-DAA8-476E-AF97-FBE1EC5A3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B025-9792-4D0F-BD3C-28AE86D0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4324-1AFF-46F4-AC5A-EFF3E02D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1FC2F-A5ED-432D-B087-F1562323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519B-AC4B-46C6-BB2C-790122396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32681-D065-48BB-9169-C61C4722D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E074-5944-4147-9597-2A6452C66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6350-EE87-4715-AA5E-949861E6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D38E-7B1D-4D3A-9BE7-904A56F7D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83B0-8E59-4CD6-ACA8-7F10FB78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A870-F827-4170-9708-889DC4DC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13B7-163B-47D5-AF5C-336D64B9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4FF0-A590-4052-882D-F55259A6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18F3-AC66-461A-97EA-C07BF0342817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3774-EC55-4C79-899B-E86307627B30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ECLA.WAV"/><Relationship Id="rId2" Type="http://schemas.openxmlformats.org/officeDocument/2006/relationships/audio" Target="../media/TECLA.WAV"/><Relationship Id="rId3" Type="http://schemas.openxmlformats.org/officeDocument/2006/relationships/audio" Target="../media/TECL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352680" y="457200"/>
            <a:ext cx="266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651640" y="1773360"/>
            <a:ext cx="2574720" cy="17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4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Recurso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987640" y="4076640"/>
            <a:ext cx="39625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Escase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826920" y="2133720"/>
            <a:ext cx="40388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Necesidades 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7E36-9D8A-432F-BDEC-9CB26C08A9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 flipV="1">
            <a:off x="2209680" y="1600200"/>
            <a:ext cx="0" cy="4495680"/>
          </a:xfrm>
          <a:prstGeom prst="line">
            <a:avLst/>
          </a:prstGeom>
          <a:ln w="1908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57400" y="5867280"/>
            <a:ext cx="60958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0968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2428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86400" y="44197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588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248520" y="57913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lnTo>
                  <a:pt x="0" y="2256"/>
                </a:lnTo>
                <a:lnTo>
                  <a:pt x="2592" y="2256"/>
                </a:lnTo>
                <a:lnTo>
                  <a:pt x="2496" y="2016"/>
                </a:lnTo>
                <a:lnTo>
                  <a:pt x="2304" y="1680"/>
                </a:lnTo>
                <a:lnTo>
                  <a:pt x="2160" y="1440"/>
                </a:lnTo>
                <a:lnTo>
                  <a:pt x="1968" y="1200"/>
                </a:lnTo>
                <a:lnTo>
                  <a:pt x="1680" y="912"/>
                </a:lnTo>
                <a:lnTo>
                  <a:pt x="1488" y="720"/>
                </a:lnTo>
                <a:lnTo>
                  <a:pt x="1200" y="528"/>
                </a:lnTo>
                <a:lnTo>
                  <a:pt x="1008" y="384"/>
                </a:lnTo>
                <a:lnTo>
                  <a:pt x="864" y="288"/>
                </a:lnTo>
                <a:lnTo>
                  <a:pt x="672" y="192"/>
                </a:lnTo>
                <a:lnTo>
                  <a:pt x="432" y="96"/>
                </a:lnTo>
                <a:lnTo>
                  <a:pt x="192" y="48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2971800"/>
            <a:ext cx="5331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62520" y="2971800"/>
            <a:ext cx="0" cy="28954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09680" y="2971800"/>
            <a:ext cx="16765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 flipV="1">
            <a:off x="3959280" y="2438280"/>
            <a:ext cx="7920" cy="5335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86200" y="2895480"/>
            <a:ext cx="15228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60948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Eficienc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4343400"/>
            <a:ext cx="21337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43400" y="4267080"/>
            <a:ext cx="0" cy="160020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4340160" y="3733560"/>
            <a:ext cx="7920" cy="53316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343400" y="4343400"/>
            <a:ext cx="5335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4267080"/>
            <a:ext cx="152640" cy="152640"/>
          </a:xfrm>
          <a:prstGeom prst="ellipse">
            <a:avLst/>
          </a:prstGeom>
          <a:solidFill>
            <a:srgbClr val="66ff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3843-8536-462D-B5CD-9229737F9F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6000"/>
                            </p:stCondLst>
                            <p:childTnLst>
                              <p:par>
                                <p:cTn id="21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25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8000"/>
                            </p:stCondLst>
                            <p:childTnLst>
                              <p:par>
                                <p:cTn id="232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335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 flipV="1">
            <a:off x="2286000" y="1600200"/>
            <a:ext cx="0" cy="44956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62720" y="44197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17220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324480" y="57913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95480" y="2438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0" y="2743200"/>
            <a:ext cx="13716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57600" y="2743200"/>
            <a:ext cx="0" cy="312408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3048120"/>
            <a:ext cx="18288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3048120"/>
            <a:ext cx="0" cy="281916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0" y="4495680"/>
            <a:ext cx="3352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0" y="5181480"/>
            <a:ext cx="373392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638680" y="4495680"/>
            <a:ext cx="0" cy="13716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5181480"/>
            <a:ext cx="0" cy="6858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514600" y="274320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4495680"/>
            <a:ext cx="0" cy="68580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2666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76520" y="4572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5791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57600" y="54864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54864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62720" y="5791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95280" y="53352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osto de oportun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4F66-BF8C-45E9-8294-55D7B00F74F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 flipV="1">
            <a:off x="2286000" y="1600200"/>
            <a:ext cx="0" cy="449568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133720" y="5867280"/>
            <a:ext cx="60958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26668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80060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62720" y="44197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17220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324480" y="57913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95480" y="2438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0" y="2743200"/>
            <a:ext cx="13716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657600" y="2743200"/>
            <a:ext cx="0" cy="312408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3048120"/>
            <a:ext cx="182880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3048120"/>
            <a:ext cx="0" cy="281916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0" y="4495680"/>
            <a:ext cx="33526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4800600"/>
            <a:ext cx="3581280" cy="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38680" y="4495680"/>
            <a:ext cx="0" cy="137160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4800600"/>
            <a:ext cx="0" cy="1066680"/>
          </a:xfrm>
          <a:prstGeom prst="line">
            <a:avLst/>
          </a:prstGeom>
          <a:ln w="1908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274320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14600" y="4495680"/>
            <a:ext cx="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76520" y="26668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76520" y="43434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A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579132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86400" y="586728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Δ</a:t>
            </a:r>
            <a:r>
              <a:rPr b="0" lang="es-CL" sz="2400" spc="-1" strike="noStrike" baseline="-25000">
                <a:solidFill>
                  <a:srgbClr val="402000"/>
                </a:solidFill>
                <a:latin typeface="Times New Roman"/>
              </a:rPr>
              <a:t>V</a:t>
            </a:r>
            <a:r>
              <a:rPr b="1" lang="es-CL" sz="16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7600" y="5486400"/>
            <a:ext cx="4572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38680" y="5486400"/>
            <a:ext cx="22860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95280" y="53352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osto de oportun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B9FA-42D5-4E8C-8E90-E5054B0078D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 flipV="1">
            <a:off x="2209680" y="1752120"/>
            <a:ext cx="0" cy="4343400"/>
          </a:xfrm>
          <a:prstGeom prst="line">
            <a:avLst/>
          </a:prstGeom>
          <a:ln w="1908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057400" y="5867280"/>
            <a:ext cx="60958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2428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486400" y="44197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588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248520" y="57913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lnTo>
                  <a:pt x="0" y="2256"/>
                </a:lnTo>
                <a:lnTo>
                  <a:pt x="2592" y="2256"/>
                </a:lnTo>
                <a:lnTo>
                  <a:pt x="2496" y="2016"/>
                </a:lnTo>
                <a:lnTo>
                  <a:pt x="2304" y="1680"/>
                </a:lnTo>
                <a:lnTo>
                  <a:pt x="2160" y="1440"/>
                </a:lnTo>
                <a:lnTo>
                  <a:pt x="1968" y="1200"/>
                </a:lnTo>
                <a:lnTo>
                  <a:pt x="1680" y="912"/>
                </a:lnTo>
                <a:lnTo>
                  <a:pt x="1488" y="720"/>
                </a:lnTo>
                <a:lnTo>
                  <a:pt x="1200" y="528"/>
                </a:lnTo>
                <a:lnTo>
                  <a:pt x="1008" y="384"/>
                </a:lnTo>
                <a:lnTo>
                  <a:pt x="864" y="288"/>
                </a:lnTo>
                <a:lnTo>
                  <a:pt x="672" y="192"/>
                </a:lnTo>
                <a:lnTo>
                  <a:pt x="432" y="96"/>
                </a:lnTo>
                <a:lnTo>
                  <a:pt x="192" y="48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2971800"/>
            <a:ext cx="53316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971800"/>
            <a:ext cx="0" cy="28954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09680" y="2971800"/>
            <a:ext cx="16765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3959280" y="2438280"/>
            <a:ext cx="7920" cy="5335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886200" y="2895480"/>
            <a:ext cx="15228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60948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recimiento económic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2286000"/>
            <a:ext cx="556272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5C9C-B9B1-479A-B511-A8435C5ADF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 flipV="1">
            <a:off x="2209680" y="1752120"/>
            <a:ext cx="0" cy="4343400"/>
          </a:xfrm>
          <a:prstGeom prst="line">
            <a:avLst/>
          </a:prstGeom>
          <a:ln w="1908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057400" y="5867280"/>
            <a:ext cx="6095880" cy="0"/>
          </a:xfrm>
          <a:prstGeom prst="line">
            <a:avLst/>
          </a:prstGeom>
          <a:ln w="2844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209680" y="228600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505320" y="26668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24280" y="3581280"/>
            <a:ext cx="7632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86400" y="44197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5880" y="5334120"/>
            <a:ext cx="7632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48520" y="5791320"/>
            <a:ext cx="75960" cy="7596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819520" y="2438280"/>
            <a:ext cx="75960" cy="76320"/>
          </a:xfrm>
          <a:prstGeom prst="ellipse">
            <a:avLst/>
          </a:pr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09680" y="2286000"/>
            <a:ext cx="4114800" cy="35812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lnTo>
                  <a:pt x="0" y="2256"/>
                </a:lnTo>
                <a:lnTo>
                  <a:pt x="2592" y="2256"/>
                </a:lnTo>
                <a:lnTo>
                  <a:pt x="2496" y="2016"/>
                </a:lnTo>
                <a:lnTo>
                  <a:pt x="2304" y="1680"/>
                </a:lnTo>
                <a:lnTo>
                  <a:pt x="2160" y="1440"/>
                </a:lnTo>
                <a:lnTo>
                  <a:pt x="1968" y="1200"/>
                </a:lnTo>
                <a:lnTo>
                  <a:pt x="1680" y="912"/>
                </a:lnTo>
                <a:lnTo>
                  <a:pt x="1488" y="720"/>
                </a:lnTo>
                <a:lnTo>
                  <a:pt x="1200" y="528"/>
                </a:lnTo>
                <a:lnTo>
                  <a:pt x="1008" y="384"/>
                </a:lnTo>
                <a:lnTo>
                  <a:pt x="864" y="288"/>
                </a:lnTo>
                <a:lnTo>
                  <a:pt x="672" y="192"/>
                </a:lnTo>
                <a:lnTo>
                  <a:pt x="432" y="96"/>
                </a:lnTo>
                <a:lnTo>
                  <a:pt x="192" y="48"/>
                </a:lnTo>
                <a:lnTo>
                  <a:pt x="48" y="0"/>
                </a:lnTo>
                <a:lnTo>
                  <a:pt x="0" y="0"/>
                </a:lnTo>
                <a:close/>
              </a:path>
            </a:pathLst>
          </a:custGeom>
          <a:solidFill>
            <a:srgbClr val="ce99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971800"/>
            <a:ext cx="38088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62520" y="2971800"/>
            <a:ext cx="0" cy="2895480"/>
          </a:xfrm>
          <a:prstGeom prst="line">
            <a:avLst/>
          </a:prstGeom>
          <a:ln w="936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209680" y="2971800"/>
            <a:ext cx="1676520" cy="0"/>
          </a:xfrm>
          <a:prstGeom prst="line">
            <a:avLst/>
          </a:prstGeom>
          <a:ln w="28440">
            <a:solidFill>
              <a:srgbClr val="402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3961080" y="2666520"/>
            <a:ext cx="5760" cy="30492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86200" y="2895480"/>
            <a:ext cx="152280" cy="152640"/>
          </a:xfrm>
          <a:prstGeom prst="ellipse">
            <a:avLst/>
          </a:prstGeom>
          <a:solidFill>
            <a:srgbClr val="ff6699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209680" y="2057400"/>
            <a:ext cx="5410440" cy="3809880"/>
          </a:xfrm>
          <a:custGeom>
            <a:avLst/>
            <a:gdLst/>
            <a:ahLst/>
            <a:rect l="l" t="t" r="r" b="b"/>
            <a:pathLst>
              <a:path w="2592" h="2256">
                <a:moveTo>
                  <a:pt x="0" y="0"/>
                </a:moveTo>
                <a:cubicBezTo>
                  <a:pt x="120" y="24"/>
                  <a:pt x="240" y="48"/>
                  <a:pt x="384" y="96"/>
                </a:cubicBezTo>
                <a:cubicBezTo>
                  <a:pt x="528" y="144"/>
                  <a:pt x="664" y="168"/>
                  <a:pt x="864" y="288"/>
                </a:cubicBezTo>
                <a:cubicBezTo>
                  <a:pt x="1064" y="408"/>
                  <a:pt x="1376" y="632"/>
                  <a:pt x="1584" y="816"/>
                </a:cubicBezTo>
                <a:cubicBezTo>
                  <a:pt x="1792" y="1000"/>
                  <a:pt x="1968" y="1208"/>
                  <a:pt x="2112" y="1392"/>
                </a:cubicBezTo>
                <a:cubicBezTo>
                  <a:pt x="2256" y="1576"/>
                  <a:pt x="2368" y="1776"/>
                  <a:pt x="2448" y="1920"/>
                </a:cubicBezTo>
                <a:cubicBezTo>
                  <a:pt x="2528" y="2064"/>
                  <a:pt x="2568" y="2200"/>
                  <a:pt x="2592" y="2256"/>
                </a:cubicBezTo>
              </a:path>
            </a:pathLst>
          </a:custGeom>
          <a:noFill/>
          <a:ln w="28440">
            <a:solidFill>
              <a:srgbClr val="cd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95280" y="533520"/>
            <a:ext cx="7315200" cy="93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Frontera de Posibilidades de Producció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2000"/>
                </a:solidFill>
                <a:latin typeface="Times New Roman"/>
              </a:rPr>
              <a:t>Crecimiento económic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76364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451640" y="5877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2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4121-AD1D-4FDF-A450-1DBED5C3E1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04920" y="228600"/>
            <a:ext cx="883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402000"/>
                </a:solidFill>
                <a:uFillTx/>
                <a:latin typeface="Times New Roman"/>
              </a:rPr>
              <a:t>FLUJO CIRCULAR DEL INGRESO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402000"/>
                </a:solidFill>
                <a:uFillTx/>
                <a:latin typeface="Times New Roman"/>
              </a:rPr>
              <a:t>ECONOMÍA CERRAD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76720" y="3429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Déficit- Superávit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895480" y="1219320"/>
            <a:ext cx="3200400" cy="83304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a7f32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Mercado de factor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productiv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00600" y="2590920"/>
            <a:ext cx="1676520" cy="642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a7f32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Mercado  financie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505320" y="4082400"/>
            <a:ext cx="1676160" cy="520560"/>
          </a:xfrm>
          <a:prstGeom prst="rect">
            <a:avLst/>
          </a:prstGeom>
          <a:gradFill rotWithShape="0">
            <a:gsLst>
              <a:gs pos="0">
                <a:srgbClr val="eca07a"/>
              </a:gs>
              <a:gs pos="100000">
                <a:srgbClr val="ce9964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2000"/>
                </a:solidFill>
                <a:latin typeface="Times New Roman"/>
              </a:rPr>
              <a:t>Gobiern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590920" y="5543640"/>
            <a:ext cx="2666880" cy="64260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9a7f32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402000"/>
                </a:solidFill>
                <a:latin typeface="Times New Roman"/>
              </a:rPr>
              <a:t>Mercado de bienes y servici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29400" y="3169440"/>
            <a:ext cx="1828800" cy="520560"/>
          </a:xfrm>
          <a:prstGeom prst="rect">
            <a:avLst/>
          </a:prstGeom>
          <a:gradFill rotWithShape="0">
            <a:gsLst>
              <a:gs pos="0">
                <a:srgbClr val="eca07a"/>
              </a:gs>
              <a:gs pos="100000">
                <a:srgbClr val="ce9964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2000"/>
                </a:solidFill>
                <a:latin typeface="Times New Roman"/>
              </a:rPr>
              <a:t>Empresa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914400" y="3201120"/>
            <a:ext cx="1600200" cy="520560"/>
          </a:xfrm>
          <a:prstGeom prst="rect">
            <a:avLst/>
          </a:prstGeom>
          <a:gradFill rotWithShape="0">
            <a:gsLst>
              <a:gs pos="0">
                <a:srgbClr val="eca07a"/>
              </a:gs>
              <a:gs pos="100000">
                <a:srgbClr val="ce9964"/>
              </a:gs>
            </a:gsLst>
            <a:lin ang="5400000"/>
          </a:gra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402000"/>
                </a:solidFill>
                <a:latin typeface="Times New Roman"/>
              </a:rPr>
              <a:t>Hogar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5880" y="1697040"/>
            <a:ext cx="1524240" cy="1427040"/>
          </a:xfrm>
          <a:custGeom>
            <a:avLst/>
            <a:gdLst/>
            <a:ahLst/>
            <a:rect l="l" t="t" r="r" b="b"/>
            <a:pathLst>
              <a:path w="1152" h="1056">
                <a:moveTo>
                  <a:pt x="1152" y="1056"/>
                </a:moveTo>
                <a:lnTo>
                  <a:pt x="1152" y="0"/>
                </a:lnTo>
                <a:lnTo>
                  <a:pt x="0" y="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34120" y="3657600"/>
            <a:ext cx="2286000" cy="2209680"/>
          </a:xfrm>
          <a:custGeom>
            <a:avLst/>
            <a:gdLst/>
            <a:ahLst/>
            <a:rect l="l" t="t" r="r" b="b"/>
            <a:pathLst>
              <a:path w="1104" h="1584">
                <a:moveTo>
                  <a:pt x="0" y="1584"/>
                </a:moveTo>
                <a:lnTo>
                  <a:pt x="1104" y="1584"/>
                </a:lnTo>
                <a:lnTo>
                  <a:pt x="1104" y="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133720" y="2895480"/>
            <a:ext cx="2666880" cy="22860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192"/>
                </a:moveTo>
                <a:lnTo>
                  <a:pt x="0" y="0"/>
                </a:lnTo>
                <a:lnTo>
                  <a:pt x="1344" y="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752480"/>
            <a:ext cx="1524240" cy="1444680"/>
          </a:xfrm>
          <a:custGeom>
            <a:avLst/>
            <a:gdLst/>
            <a:ahLst/>
            <a:rect l="l" t="t" r="r" b="b"/>
            <a:pathLst>
              <a:path w="192" h="1056">
                <a:moveTo>
                  <a:pt x="192" y="0"/>
                </a:moveTo>
                <a:lnTo>
                  <a:pt x="0" y="0"/>
                </a:lnTo>
                <a:lnTo>
                  <a:pt x="0" y="1056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133720" y="3733920"/>
            <a:ext cx="1371600" cy="571320"/>
          </a:xfrm>
          <a:custGeom>
            <a:avLst/>
            <a:gdLst/>
            <a:ahLst/>
            <a:rect l="l" t="t" r="r" b="b"/>
            <a:pathLst>
              <a:path w="864" h="528">
                <a:moveTo>
                  <a:pt x="0" y="0"/>
                </a:moveTo>
                <a:lnTo>
                  <a:pt x="0" y="528"/>
                </a:lnTo>
                <a:lnTo>
                  <a:pt x="864" y="528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733920"/>
            <a:ext cx="1219320" cy="2071440"/>
          </a:xfrm>
          <a:custGeom>
            <a:avLst/>
            <a:gdLst/>
            <a:ahLst/>
            <a:rect l="l" t="t" r="r" b="b"/>
            <a:pathLst>
              <a:path w="768" h="1632">
                <a:moveTo>
                  <a:pt x="0" y="0"/>
                </a:moveTo>
                <a:lnTo>
                  <a:pt x="0" y="1632"/>
                </a:lnTo>
                <a:lnTo>
                  <a:pt x="768" y="1632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14800" y="4648320"/>
            <a:ext cx="1440" cy="895320"/>
          </a:xfrm>
          <a:prstGeom prst="line">
            <a:avLst/>
          </a:prstGeom>
          <a:ln w="22320">
            <a:solidFill>
              <a:srgbClr val="402000"/>
            </a:solidFill>
            <a:miter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72200" y="1295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Pago a factor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47920" y="13716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Ingres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219320" y="5803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Consum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4120" y="58672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Ingreso de empres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48520" y="3733920"/>
            <a:ext cx="501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Invers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57400" y="24796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Ahorro privad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4267080"/>
            <a:ext cx="20574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402000"/>
                </a:solidFill>
                <a:latin typeface="Times New Roman"/>
              </a:rPr>
              <a:t>Impuestos Directos - Transferencia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600200" y="495288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Gasto del Gobiern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57800" y="3276720"/>
            <a:ext cx="990720" cy="23619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624" y="0"/>
                </a:moveTo>
                <a:lnTo>
                  <a:pt x="624" y="1200"/>
                </a:lnTo>
                <a:lnTo>
                  <a:pt x="0" y="120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1480" y="3276720"/>
            <a:ext cx="457200" cy="990360"/>
          </a:xfrm>
          <a:custGeom>
            <a:avLst/>
            <a:gdLst/>
            <a:ahLst/>
            <a:rect l="l" t="t" r="r" b="b"/>
            <a:pathLst>
              <a:path w="624" h="1200">
                <a:moveTo>
                  <a:pt x="624" y="0"/>
                </a:moveTo>
                <a:lnTo>
                  <a:pt x="624" y="1200"/>
                </a:lnTo>
                <a:lnTo>
                  <a:pt x="0" y="1200"/>
                </a:lnTo>
              </a:path>
            </a:pathLst>
          </a:custGeom>
          <a:noFill/>
          <a:ln w="22320">
            <a:solidFill>
              <a:srgbClr val="402000"/>
            </a:solidFill>
            <a:round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4572000" y="4572000"/>
            <a:ext cx="0" cy="914400"/>
          </a:xfrm>
          <a:prstGeom prst="line">
            <a:avLst/>
          </a:prstGeom>
          <a:ln w="22320">
            <a:solidFill>
              <a:srgbClr val="402000"/>
            </a:solidFill>
            <a:miter/>
            <a:headEnd len="lg" type="oval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4419720"/>
            <a:ext cx="5014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2000"/>
                </a:solidFill>
                <a:latin typeface="Times New Roman"/>
              </a:rPr>
              <a:t>Impuest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2000"/>
                </a:solidFill>
                <a:latin typeface="Times New Roman"/>
              </a:rPr>
              <a:t>Indirectos 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402000"/>
                </a:solidFill>
                <a:latin typeface="Times New Roman"/>
              </a:rPr>
              <a:t>- Subsidios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8AE7-E5DD-4102-ADFC-69510333B726}" type="slidenum">
              <a:t>15</a:t>
            </a:fld>
          </a:p>
        </p:txBody>
      </p:sp>
    </p:spTree>
  </p:cSld>
  <p:transition>
    <p:wipe dir="d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962520" y="380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Mercado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19320" y="1752480"/>
            <a:ext cx="7467480" cy="45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80"/>
                </a:solidFill>
                <a:latin typeface="Times New Roman"/>
              </a:rPr>
              <a:t>Oferta y Demanda se refieren a la forma que interrelacionan las personas en los mercad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80"/>
                </a:solidFill>
                <a:latin typeface="Times New Roman"/>
              </a:rPr>
              <a:t>Demanda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Necesidades, gustos, preferenci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Ingres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Futu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9D0E-DF38-4F33-8237-F72CE316D4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3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3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3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3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300"/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3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300"/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962520" y="3808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Mercado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19320" y="1752480"/>
            <a:ext cx="7467480" cy="45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80"/>
                </a:solidFill>
                <a:latin typeface="Times New Roman"/>
              </a:rPr>
              <a:t>Oferta y Demanda se refieren a la forma que se interrelacionan las personas en los mercado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457200">
              <a:lnSpc>
                <a:spcPct val="140000"/>
              </a:lnSpc>
              <a:buClr>
                <a:srgbClr val="000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s-ES" sz="2800" spc="-1" strike="noStrike">
                <a:solidFill>
                  <a:srgbClr val="000080"/>
                </a:solidFill>
                <a:latin typeface="Times New Roman"/>
              </a:rPr>
              <a:t>Oferta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Tecnologí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Prec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Cost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Alternativ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40000"/>
              </a:lnSpc>
              <a:buClr>
                <a:srgbClr val="00008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80"/>
                </a:solidFill>
                <a:latin typeface="Times New Roman"/>
              </a:rPr>
              <a:t>Futur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4102-9EE7-4CB9-A31F-18E7D80D27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3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3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3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3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3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30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300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657600" y="457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066680" y="2590920"/>
            <a:ext cx="76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Asignación de los recursos escasos a distintos fines rival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32767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Cómo se enfrentan a la escasez las personas y las sociedad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3962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La manera en que las sociedades utilizan los recursos escasos para producir mercancías valiosas y distribuirlas entre los individu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19051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Modo en que la sociedad gestiona los recursos escas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D2D1-A726-4AF7-9F9B-C0CE53E2915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75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75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75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75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0" dur="1" fill="hold"/>
                                  <p:tgtEl>
                                    <p:spTgt spid="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57600" y="38088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 rot="21335400">
            <a:off x="1294920" y="4647960"/>
            <a:ext cx="7391520" cy="88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¿Para quién se producen los bienes?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 rot="128400">
            <a:off x="1828440" y="3047760"/>
            <a:ext cx="6019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¿Cómo producirlos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 rot="21504600">
            <a:off x="1064880" y="1828440"/>
            <a:ext cx="769608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4f68e3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¿Qué bienes y en qué cantidades?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4f68e3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143000" y="533520"/>
            <a:ext cx="228600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Asig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553080" y="457200"/>
            <a:ext cx="213372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Racionar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8D333-B9F5-416C-9711-3A1833758B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57600" y="457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22096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Describe </a:t>
            </a:r>
            <a:r>
              <a:rPr b="0" i="1" lang="es-CL" sz="2400" spc="-1" strike="noStrike">
                <a:solidFill>
                  <a:srgbClr val="402000"/>
                </a:solidFill>
                <a:latin typeface="Times New Roman"/>
              </a:rPr>
              <a:t>el cómo es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66680" y="3886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conomía Normati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66680" y="16765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conomía Positi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45720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Prescripciones de cómo debería ser </a:t>
            </a:r>
            <a:r>
              <a:rPr b="0" i="1" lang="es-CL" sz="2400" spc="-1" strike="noStrike">
                <a:solidFill>
                  <a:srgbClr val="402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28954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l salario mínimo provoca desemple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51814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l gobierno debería subir el salario mínim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5120" y="33526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Un impuesto a las ventas reduce la cantidad transada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556272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Deben cobrarse mayores impuestos por la venta de cigarrill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B4A6-C651-4AA3-8E50-D0051F8FDE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75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75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75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75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75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75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75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75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657600" y="457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402000"/>
                </a:solidFill>
                <a:latin typeface="Times New Roman"/>
              </a:rPr>
              <a:t>Economía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28800" y="220968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studia el modo en que los hogares y la empresas toman decisiones, y de la forma en que interactúan en los mercado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3886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Macroeconomí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167652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Microeconomí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4572000"/>
            <a:ext cx="693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02000"/>
                </a:solidFill>
                <a:latin typeface="Times New Roman"/>
              </a:rPr>
              <a:t>Estudio de los fenómenos que afectan al conjunto de la economía, entre los que se encuentran la inflación, el desempleo y el crecimiento económic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1084-ECF8-47F9-BD63-B07776C271D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75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75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75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ECL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7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1752480"/>
            <a:ext cx="7391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1: Las personas enfrentan disyuntiva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Tiempo de un estudiant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esupuesto mensual de una famil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esupuesto nacion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Ingreso y calidad ambient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Equidad y eficiencia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D759-F07A-47E2-B3B4-41B3795239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75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19320" y="1752480"/>
            <a:ext cx="74674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2: el costo de algo es lo que se debe renunciar por obtenerl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Estudiar una carrera en la Universi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Ir a clas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Matrimonio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Reclama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F85D-BFBB-469F-95F5-A81F85B58BB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58920" y="1557360"/>
            <a:ext cx="6985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3: las personas racionales piensan en términos margina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Aumenta su “combo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Estudiar en otra ciuda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Año de estudio adiciona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717A-69DF-4A70-8967-C472459230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066680" y="533520"/>
            <a:ext cx="74678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4f68e3"/>
                </a:solidFill>
                <a:latin typeface="Times New Roman"/>
              </a:rPr>
              <a:t>CÓMO LAS PERSONAS TOMAN DECISION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1752480"/>
            <a:ext cx="7086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80"/>
                </a:solidFill>
                <a:latin typeface="Times New Roman"/>
              </a:rPr>
              <a:t>Principio 4: las personas responden a incentiv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Venta de ilegal de cigarrillo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Quema de bosqu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80"/>
                </a:solidFill>
                <a:latin typeface="Times New Roman"/>
              </a:rPr>
              <a:t>Subsidio a la contratació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00008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35AF-28D3-4A5C-8662-79959FC3D4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6:03:53Z</dcterms:created>
  <dc:creator>XX</dc:creator>
  <dc:description/>
  <dc:language>en-US</dc:language>
  <cp:lastModifiedBy> Marco Hauva</cp:lastModifiedBy>
  <dcterms:modified xsi:type="dcterms:W3CDTF">2006-06-01T20:29:28Z</dcterms:modified>
  <cp:revision>26</cp:revision>
  <dc:subject/>
  <dc:title>Sin título de diapositiva</dc:title>
</cp:coreProperties>
</file>