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B7C9A-5A8E-45CD-942D-31BA67AD4DA2}" type="slidenum">
              <a:rPr b="0" lang="es-C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ide points, that lead to m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first, say that students will do some modeling in homework, to make principles and thinking pre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econd, say why not just study the specializations, and then lead to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244440" y="4560480"/>
            <a:ext cx="666432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people are not stupid, and will act in best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 principles govern groups acting that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nes about how economics is and always will be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 --- The New Economy is still an econo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 --- I was working at MIT, no PC’s, cut and paste meant  scissors, networks wer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ion and email was a  misspel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raiding of the 1980s was just as tumultuous as the internet revolution of the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0(?)  --- All you can be sure of is that the economy will be governed by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as now.  People will still act in their own inte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with ---economics is making its way farther and farther into corporate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e from Welch/McNealy Fortune article, May 1, 2000   Welch, retired GE CEO, McNealy, CEO of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ther Relevant Conc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ll the other things we talked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sellers, information, externalities, blah bla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Welch/McNealy Fortune May 1, 2000 arti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Questions for A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Bicycles, and any other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244440" y="4560480"/>
            <a:ext cx="666432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people are not stupid, and will act in best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 principles govern groups acting that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ines about how economics is and always will be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 --- The New Economy is still an econo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 --- I was working at MIT, no PC’s, cut and paste meant  scissors, networks wer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vision and email was a  misspel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e raiding of the 1980s was just as tumultuous as the internet revolution of the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0(?)  --- All you can be sure of is that the economy will be governed by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as now.  People will still act in their own inte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with ---economics is making its way farther and farther into corporate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e from Welch/McNealy Fortune article, May 1, 2000   Welch, retired GE CEO, McNealy, CEO of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45C-91EF-4B50-A955-7E78DAD6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B28-9B03-4CA7-B215-1DC50235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C24-8DA5-46B2-B7C8-2FDCEAC7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5A3-2671-469B-A1D0-A03A462B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841-E034-4336-9002-CDFD8713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9B3-860F-40A5-920D-930E10D3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63E-BD57-4CDC-8481-3988C321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C8E-1E90-47E8-B460-CD5A28B9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251-76C3-486A-8B7F-471988FF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0D5-97D5-4948-99BE-638751E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82A-23EC-4C20-BB8B-9C17CF6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2BB-6387-41C0-8A97-0B2ACFEE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E93E-E3CC-4D22-9762-EEF44C6237A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rellano@dii.uchile.cl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. Soledad Arel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rellano@dii.uchile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. 407 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ción gráfica de las preferencias del consum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ciones de canastas que proveen 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mo nivel de satisfac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idor está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fer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re todas las canastas que están en la misma curva de indi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les recuerda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qué nos sirve el concep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dica magnitud del cambio (no sólo la dir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s dice cómo cambia el gasto total cuando cambian los pre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os en la oferta tienen distintas consecuencias sobre el equilibrio dependiendo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dad Precio y Ga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Si sube el precio de la mantequilla, gasto más o menos $ en mantequil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asto = G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ΔG/ΔP=Q(1+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 Elástica: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4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 Inelástica: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4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 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asticidad Precio Demanda y Sh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pasa con el precio de la luz si aumenta el precio del gas natu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61722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cidad Ingre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%I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enes nor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enes inf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cidad precio-cruz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Δ%Q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itutos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os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Ofert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ΔP    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ramos qu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≥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as elasticidades relevantes: respecto de precio de insumos (&lt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sticidade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o y Largo Plaz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posibilidades de sustitución dependen del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ualmente mayor elasticidad en el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anda: necesidad de ajustar consumo (ej auto a bencina  die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ferta: rol de las restricciones de capacidad en el corto plaz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5627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16292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3880" y="525780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debieran ser las Curvas de Indiferenc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nos dice “Mas es mejor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mplicancias Supuesto No Sacia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ás es mejor” / No sac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 es mejor que A ; A es mejor qu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ndient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A y B me producen el MISMO nivel de satisfacción: Dado que B tiene menos unidades de comida que 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ECESARIAME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B debe tener más unidades de ropa que A (sólo así pueden ser indifer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70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57400" y="5638680"/>
            <a:ext cx="58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implican los su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encias Transitivas + Mas es mejo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5562720"/>
            <a:ext cx="601992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icancia Mas es Mejor + Transi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47920" y="914400"/>
          <a:ext cx="6067440" cy="41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14400"/>
                    <a:ext cx="60674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447920" y="4572000"/>
            <a:ext cx="70102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 es mejor que F (Mas es mej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 es mejor que C (Transitiv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ADICCION!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C. de Ind. NO SE PUEDEN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  CORTA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Propiedad #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cando Curvas de Indife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mas es mejor o i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l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mas es pe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o son las C.Indif. de las canastas x e y si 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bien, Y es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bien, Y es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X es mal, Y es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uesto 4 Preferencia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dad Marginal Decre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0020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9528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752480"/>
            <a:ext cx="381024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048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 M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5029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981080"/>
            <a:ext cx="327672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dad Marginal de un BIEN e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ositiv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ero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decrecient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.e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dad adicional me da menos utilidad que la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 saciabilidad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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 UMg decrec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a U = U (ropa, com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aciabilidad imp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 /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opa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Mg X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 de utilidad creciente en sus arg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Mg decreciente imp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 0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UMg 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pa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sa Marginal de Sustitución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 el Consumo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S = | Pendiente de la Curva de Indiferencia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|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Δro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Δcomida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uántas unidades de ropa me tienen que dar a cambio de u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 de comida para quedar indifer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qué depe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encias: cuánto me gusta cada uno en términos rel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vel de co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idor enfrenta problema de la escas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dades ilimi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os limi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oría del consumidor nos ayuda a entender cómo decide el consumidor : cuánto compra, a qué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752480"/>
            <a:ext cx="769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MS y Utilidad Mar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 = U (x,y)  donde x,y son dos cana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= U (y(x),x)    / d/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  =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Utilidad es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y  dx      d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 lo largo de la C. de Indi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=  -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U/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x        dU/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d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= -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x        UM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MS =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- UMg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g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800600"/>
            <a:ext cx="3504960" cy="1447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371600" y="533520"/>
          <a:ext cx="652932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533520"/>
                    <a:ext cx="652932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52480" y="502920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es la TMS de acuerdo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s es Mejor y UMg Decreci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MS : ¿Cómo es?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aciabilida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ndiente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dad Marginal Decrecien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Decreciente: Las unidades de ropa que cedo por tener más comida se reducen en la medida que tengo mucha com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s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44792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sos Espe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os sustit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constante: siempre estoy dispuesto a ceder las mismas unidades del bien a cambio de una del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son líneas re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os comp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requiere de los dos bienes para obtener más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de indiferencia en ángulo 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 es cero o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mp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ns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ón de utilidad ú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saciabilidad (“mas es mejor o igua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ndiente Curvas de Indiferenci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. Indiferencia no se cor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dad Marginal Decre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. Indiferencia conv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unta a respo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l consumidor escoge una canasta de consumo, dados los precios y el ingreso dispon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 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752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657600"/>
            <a:ext cx="5867640" cy="2590920"/>
          </a:xfrm>
          <a:prstGeom prst="rightArrowCallout">
            <a:avLst>
              <a:gd name="adj1" fmla="val 25002"/>
              <a:gd name="adj2" fmla="val 25000"/>
              <a:gd name="adj3" fmla="val 37745"/>
              <a:gd name="adj4" fmla="val 7383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tricción Presupuest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s es mejor, pero el individuo no puede comprar todo lo que quiere pues los recursos son limi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P indica lo que el individuo PUEDE h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a cantidad de cada bien que puede comprar el consumidor dado su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I) y lo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precio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los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cC+PrR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supuesto implicito: no hay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hor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aciabilidad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cC+PrR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9339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696080" cy="5175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57400" y="4191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M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ricción Presupuestaria: 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cio relativo Px/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idades de y que se deben sacrificar en el mercado para obtener una unidad más d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sa a la que el mercado permite al consumidor sustituir entr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asa de Sustitución de Mercad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0574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o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eferencias,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entender la Deman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o una Teoría de l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der Adquisitivo Ingreso 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r adquisitivo depende tanto del ingreso como de los pre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ída de ambos precios a la mitad es equivalente a una duplicación del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1: PcC+PrR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2: (Pc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C+(Pr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R=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010640" cy="4583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3733920" y="32767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895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ndiente: -P comida / P 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40080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56386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áx Comida que puedo comprar con el ingreso I (I / P com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990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ción Presupuestar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C+PrR 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152388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¿Qué pasa si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menta el Ingr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edo comprar más unidades al mism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P se traslada paralelam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3352680"/>
          <a:ext cx="5610240" cy="32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5610240" cy="32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pasa si.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 el precio de la rop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o comprar menos unidades de ropa con el  mismo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P “rota” hacia ade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47920" y="3429000"/>
          <a:ext cx="561024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429000"/>
                    <a:ext cx="5610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tricción Presupuestaria: Resu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dica lo máximo que se puede consumir dados los precios y el i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sición determinada por el Ingr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ndiente determinada por los precios rel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1000" y="285480"/>
            <a:ext cx="775476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754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decisión del Consumidor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 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  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1542960"/>
            <a:ext cx="741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2590920"/>
            <a:ext cx="5410080" cy="3352680"/>
          </a:xfrm>
          <a:prstGeom prst="rightArrowCallout">
            <a:avLst>
              <a:gd name="adj1" fmla="val 25002"/>
              <a:gd name="adj2" fmla="val 24574"/>
              <a:gd name="adj3" fmla="val 26894"/>
              <a:gd name="adj4" fmla="val 738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352680"/>
            <a:ext cx="190512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uesto racionalida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umidore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ximiza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l nivel de bienestar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ad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u poder adquis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umidor elegirá dentro del set de canasta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isponi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aquella que más le gu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diciones de un equilib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ximo bienestar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be estar sobre la RP (igualdad de gasto e ingr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isión : sustituyo una unidad de X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horro”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 utilidad disminuye en UMgX, luego para mantener constante mi utilidad debo comprar UMgX/UMgY unidades de Y. C/u cuesta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luego el costo de sustituir una unidad de X =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UMgX / UMg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ego, en el opti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1    = Costo de unidades de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X     necesarias para reemplaza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=       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gY        UMgY    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=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MgY    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2004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as Unidades de Y exijo para que yo renuncie a una unidad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32004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tas Unidades de Y puedo comprar si renuncio a una unidad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1866240" y="186660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5676480" y="179064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5105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arginal de Sustitución en el Consumo (T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de Sustitu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cando el Equilibrio: Intu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X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UM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MgY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   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mbinación de X y Y que implica un minimo costo es tal que el ultimo $ gastado en cada uno de las canastas me genera el mismo nivel de ut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eoría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unta a respo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el consumidor escoge una canasta de consumo, dados los precios y el ingreso dispon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quiero hac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eoría de las Preferenci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 que puedo hac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ricción Presupuestari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752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657600"/>
            <a:ext cx="6248520" cy="2590920"/>
          </a:xfrm>
          <a:prstGeom prst="rightArrowCallout">
            <a:avLst>
              <a:gd name="adj1" fmla="val 25002"/>
              <a:gd name="adj2" fmla="val 25000"/>
              <a:gd name="adj3" fmla="val 40195"/>
              <a:gd name="adj4" fmla="val 7037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cando el Equilibrio.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olución Gra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8204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quilibrio debe estar SOBRE la R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tos más arriba (“A”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IBLES (gasto &gt; ingreso actu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tos por debajo (“B”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LES PERO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dicen insacia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to &lt; ingres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o todos los recursos se gast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idor podría estar me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”, “D” o “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343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o =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no se alcanza la máxima utilidad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es el equilib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to =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lcanza la máxima utilidad po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 y curva de indiferencia son tangentes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endiente de la RP y de la curva de indiferencia son igu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/Pr = T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434340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as unidades de ropa puedo comprar si renuncio a comprar una unidad de co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4648320"/>
            <a:ext cx="3809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as unidades de ropa me tienen que dar para que yo renuncie a una unidad de comida (y quedar indife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02920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33960" cy="4859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7400" y="5334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pasa fuera del Equilib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pasa fuera del Equilibr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 no es equilibrio pues en C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MS &gt; Pc / 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C el consumidor valora menos las unidades de ropa que lo que lo hace el mercado (exige menos unidades de comida a cambio de una de ropa para quedar indifer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 conviene vender una unidad de ropa para aumentar su ut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é pasa fuera del Equili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 no es equilibrio pues en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MS &lt; Pc / 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umidor valora MAS las unidades de ropa que lo que lo hace el mercado (está dispuesto a entregar MAS unidades de comida para quedar indifer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 conviene comprar una unidad de ropa (vender una de comida) para aumentar su ut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es el único equilibrio pues sólo ah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posición a sustituir es igual a las posibilidades que da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beneficio marginal de cada unidad (TMS) se iguala con su costo marginal (precios relativ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ximizando la Utilidad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U(x,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.a    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 = U(x,y)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-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O:  dU/dx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dU/dx /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/dy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dU/dy /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eg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dU/d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CL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/dy     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5029200"/>
            <a:ext cx="33526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2670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oría de las Preferenci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Advert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tudiamos una Teoría Agregada de las Preferencias, sino una teoría de las preferencias a nivel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 lo que aprendemos es en relación al individu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teoría no nos sirve para hacer comparaciones entre individu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scando el Equilibrio: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gencia entre RP y curva de indi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S se iguala a precio rel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asegura que se alcance la máxima utilidad posible tomando en cuenta el poder adqui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1: Distintas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4267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362320" y="56386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que B no es equilibrio para el individuo “a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2: Solución de Esquina Bienes que no se Consum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371600" y="1828800"/>
          <a:ext cx="6086520" cy="41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608652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2: Solución de Esquina Bienes que no se Consu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qué ocur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MS &gt; precios relativos en todo el rango relev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stá dispuesto a dar mucho de un bien a cambio del o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queños cambios en precios relativos y/o ingreso no alteran el equilib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3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mento en Ingres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P se trasl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lado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ánto? monto del subsi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? Depende de la forma como se entregue el subsi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Dinero : Traslado paral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Bienes : RP no se traslada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uesto: el bien subsidiado no se puede v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20574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33600" y="1981080"/>
          <a:ext cx="60768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1981080"/>
                    <a:ext cx="6076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752480" y="1676520"/>
          <a:ext cx="60724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76520"/>
                    <a:ext cx="6072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1430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715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6019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o en comida: mi consumo máximo de ropa no au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bsidio en Dinero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vs Subsidio en Bi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términos de Aumento de Bienest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Dinero es MEJOR o IG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io en Bienes: posible solución de esq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qué se entrega subsidio de leche Puri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HINT: supuesto clave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4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ar el Precio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s Subsidiar el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ecto del Subsid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precio: rota la 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ingreso: traslado paralelo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mej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uesto: Ambos subsidios permiten financiar la nueva canasta de subsidio en precios (canasta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198108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 4: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bsidiar el Preci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vs Subsidiar el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86520" cy="4267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371600" y="5486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ambos subsidios permiten financiar la nueva canasta del subsidio en precios, este consumidor prefiere el subsidio en dinero. (rol de las preferenc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ánto más me gusta el helado que la coca c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existe una escala cuantitativa para medir las prefer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étodo alternativo: Comparación de canastas 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“dieciocher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asta 1: 1 empanada y 2 chori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asta 2: 2 empanadas y 1 chorip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canasta me gusta más?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a Individual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Generaliz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álisis de cambios en la cantidad demandada cu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a 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nea ingreso - con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rva de Engel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I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X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a el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nción de demanda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I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X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ión de Demanda Generaliz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U(x,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.a    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x +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y =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X = X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 de Dema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er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= Y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657600"/>
            <a:ext cx="457200" cy="2133720"/>
          </a:xfrm>
          <a:custGeom>
            <a:avLst/>
            <a:gdLst>
              <a:gd name="textAreaLeft" fmla="*/ 0 w 457200"/>
              <a:gd name="textAreaRight" fmla="*/ 164880 w 4572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28195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 pasa si aumenta el Ingreso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uesto: ceteris paribus (precio relativo constante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ecto en demanda depende de si el bien 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umenta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 de Primera Necesidad: aumenta a tasa decre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 de lujo: aumenta a tasa cre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eri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sminuy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icancia elasticidad ingreso de la dema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lo representa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va de Enge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X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ingreso -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urva de E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1447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219320" y="1599840"/>
            <a:ext cx="17524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13716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3505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674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1371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14479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733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6477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495680"/>
            <a:ext cx="1447920" cy="1828800"/>
          </a:xfrm>
          <a:custGeom>
            <a:avLst/>
            <a:gdLst/>
            <a:ahLst/>
            <a:rect l="l" t="t" r="r" b="b"/>
            <a:pathLst>
              <a:path w="912" h="1152">
                <a:moveTo>
                  <a:pt x="0" y="1152"/>
                </a:moveTo>
                <a:cubicBezTo>
                  <a:pt x="196" y="1084"/>
                  <a:pt x="392" y="1016"/>
                  <a:pt x="528" y="912"/>
                </a:cubicBezTo>
                <a:cubicBezTo>
                  <a:pt x="664" y="808"/>
                  <a:pt x="752" y="680"/>
                  <a:pt x="816" y="528"/>
                </a:cubicBezTo>
                <a:cubicBezTo>
                  <a:pt x="880" y="376"/>
                  <a:pt x="896" y="188"/>
                  <a:pt x="9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4800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DE 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6553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4343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96080" y="649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4648320"/>
            <a:ext cx="2514600" cy="1523880"/>
          </a:xfrm>
          <a:custGeom>
            <a:avLst/>
            <a:gdLst/>
            <a:ahLst/>
            <a:rect l="l" t="t" r="r" b="b"/>
            <a:pathLst>
              <a:path w="1584" h="960">
                <a:moveTo>
                  <a:pt x="0" y="960"/>
                </a:moveTo>
                <a:cubicBezTo>
                  <a:pt x="28" y="808"/>
                  <a:pt x="56" y="656"/>
                  <a:pt x="144" y="528"/>
                </a:cubicBezTo>
                <a:cubicBezTo>
                  <a:pt x="232" y="400"/>
                  <a:pt x="384" y="272"/>
                  <a:pt x="528" y="192"/>
                </a:cubicBezTo>
                <a:cubicBezTo>
                  <a:pt x="672" y="112"/>
                  <a:pt x="832" y="80"/>
                  <a:pt x="1008" y="48"/>
                </a:cubicBezTo>
                <a:cubicBezTo>
                  <a:pt x="1184" y="16"/>
                  <a:pt x="1384" y="8"/>
                  <a:pt x="15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5029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 DE PRIMERA 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105160" cy="3583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487692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28600" y="1447920"/>
            <a:ext cx="327672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ínea Ingreso – Consu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stra las combinaciones de equilibrio a medida que aumenta 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45720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00600" y="83808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143000"/>
            <a:ext cx="1600200" cy="1270080"/>
          </a:xfrm>
          <a:custGeom>
            <a:avLst/>
            <a:gdLst/>
            <a:ahLst/>
            <a:rect l="l" t="t" r="r" b="b"/>
            <a:pathLst>
              <a:path w="1008" h="800">
                <a:moveTo>
                  <a:pt x="0" y="0"/>
                </a:moveTo>
                <a:cubicBezTo>
                  <a:pt x="4" y="96"/>
                  <a:pt x="8" y="192"/>
                  <a:pt x="48" y="288"/>
                </a:cubicBezTo>
                <a:cubicBezTo>
                  <a:pt x="88" y="384"/>
                  <a:pt x="112" y="496"/>
                  <a:pt x="240" y="576"/>
                </a:cubicBezTo>
                <a:cubicBezTo>
                  <a:pt x="368" y="656"/>
                  <a:pt x="688" y="736"/>
                  <a:pt x="816" y="768"/>
                </a:cubicBezTo>
                <a:cubicBezTo>
                  <a:pt x="944" y="800"/>
                  <a:pt x="976" y="784"/>
                  <a:pt x="1008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ecto de un Cambio en el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, ceteris paribus (P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, 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o lo representam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ínea precio – consumo: canastas que maximizan el bienestar ante cambios en el precio del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individual: La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man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muestra las cantidades de equilibrio del bien como resultado de este exp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4495680" cy="3156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267440" cy="2995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33520" y="8380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 DE PRECIO -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composición del Efecto Cambi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cambia el precio de un bien, se producen dos efectos simultáne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aumenta el Precio de la com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omida es más cara en términos relativos (vs la ropa) por lo que su consumo es menos atractiv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E. Sustitu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ingreso “rinde” menos (menor poder adquisitivo, i.e. cae el ingreso real), soy más pobre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E. Ingre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ecto Sustitución e Ingres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en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 Precio de la 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Ingreso : soy mas rico 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aumenta consumo de ro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 Sustitución: Ropa relativamente mas barat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ube consumo de 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. Ingreso        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 Sustitu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: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46483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0292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fecto Sustitución e Ingreso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∆- P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181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3429000" y="32763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4343400"/>
            <a:ext cx="1447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let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individuo es capaz de decirnos qué canasta pref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es preferido a B 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 es preferido a A 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y B son indif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ferencias son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ransitiv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preferencias son consistentes a través de cana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 A es preferido a B, y B es preferido a C, entonces debe ser cierto que A es preferido a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600200"/>
            <a:ext cx="741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omposición Efecto Tot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bi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Equilibrio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equilibrio a lo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e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cios y el poder de compr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: Efecto sustitu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ísla cambio en precios relativos del cambio en poder adquis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emp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menta (o permanece constante) el consumo del bien cuyo P c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ecto Sustitución e Ingreso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∆- P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B: Efecto ingr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 el poder adquisitivo sin cambio en precios relativ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gno depende del tipo de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erior : B está a la izquierda de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rmal:  B esta a la derecha d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fecto Sustitución e Ingr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66680" y="1887480"/>
            <a:ext cx="6782040" cy="4757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 flipV="1">
            <a:off x="3657600" y="350496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464832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omposición Efecto Tot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mento de Pre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554880" cy="2092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62120" y="41911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enes Giffen: demanda con pendiente positiv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umenta el Preci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umenta el consum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. Ingreso &gt; E. Su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en precio se pueden descomponer en efectos ingreso y sustit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Sustitu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ólo cambio en precio relativo (ingreso permite alcanzar nivel de utilidad previo a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o siempre negativo o constante (dirección opuesta al cambio de pre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Ingres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 en poder de compra (ingreso r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o depende del tipo de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ar el efecto de un cambio en el precio de la ropa sobre la cantidad demandada de com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omponer el efecto ingreso y el efecto sustitució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librio de Mercado requiere de un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manda de mercado (“demanda agregad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rcado = conjunto de individuos que ti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ferencias prop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pasamos de una demanda individual a una de mercad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total que todos los participantes del mercado están dispuestos a comprar a un precio 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ma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s demandas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Agreg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933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Demanda Agrega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543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ferencias: Supuesto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3. No saciabilidad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ás es mejor (o igual) que men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ás es mejor o i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ás es peo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hay saturación (si no, es un 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o: No saciabilidad NO IMPLICA que cada unidad consumida me dé la misma satisfacción que la unidad que consumí 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371600"/>
            <a:ext cx="721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a de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 de Consumid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egura que pendiente de demanda individual sea negativa (por qu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íricamente se ha constatado que usualmente la pendiente es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lazamientos Demanda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pensar en términos de demanda individual y después agr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bios en la demanda de M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38280" y="2286000"/>
            <a:ext cx="0" cy="31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5410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438280" y="2755800"/>
            <a:ext cx="3454560" cy="264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2286000"/>
            <a:ext cx="3505320" cy="25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437920" y="3886200"/>
            <a:ext cx="203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413080" y="4216320"/>
            <a:ext cx="1549440" cy="11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90720" y="2271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29200" y="5548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7320" y="51055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81840" y="2500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30240" y="3809880"/>
            <a:ext cx="3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15880" y="55627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90920" y="2666880"/>
            <a:ext cx="3504960" cy="25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96720" y="4633920"/>
            <a:ext cx="38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3429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podemos medir la satisfacción que el consumo de bienes da a los demanda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emos una unidad de medida objetiva y compa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da de lo que gana el consumidor al comprar ciertas unidades de un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ad objetiva y compa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d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Valoración   - Lo qu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Consumidor    del bien         c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4267080"/>
            <a:ext cx="79246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ación del bien: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manda: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ximo precio que se está dispuesto a pagar por una cantidad determinad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área bajo la demanda mide la satisfacción que dan las unidades del b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 del Bien: Precio x # 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295280" y="2109960"/>
            <a:ext cx="72392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xcedente de cada unidad cae con las unidades comprad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eneficio para todos los demandantes se mide en la demanda de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remos el excedente del consumidor (y del productor) para evaluar los costos y beneficios de diversas polí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lo que ganan (pierden) los consumidores supera a lo que pierden (ganan) los productores, entonces se trata de una buena (mala) política. La sociedad gana (pier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1600200"/>
            <a:ext cx="74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esto introduce una “brecha” entre el precio que pagan los consumidores y el que efctivamente reciben los produc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5270400"/>
            <a:ext cx="7619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sminuye Q, Sube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puesto al consumo vs Impuesto a la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276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447920" y="1960560"/>
            <a:ext cx="4952880" cy="3220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981080" y="54100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Social del Impu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idencia del Impuesto vs Recaudación del I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o representamos las Preferenci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ción ORD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ias pueden ser representadas a través de un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unción de utilid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única excepto por transformaciones crecien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ón de Utilidad se representa a través d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vas de indi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cia del Impu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1752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4114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1752480"/>
            <a:ext cx="10666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828440"/>
            <a:ext cx="1981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1752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4114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410080" y="1904760"/>
            <a:ext cx="1981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251460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297180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27432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2895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4572000"/>
            <a:ext cx="7162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mo Impuest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n “paga” mas? El consumidor o el produc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es mayor el costo en bienest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EA : SUBSI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ertura al Comercio Exterior: Impor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327672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419112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814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60440" y="525780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3733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 la apertura? Por q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anc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3276720"/>
            <a:ext cx="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419112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60440" y="525780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038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95280" y="563868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l aran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gan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3886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24080" y="3886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24280" y="3886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3886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14800" y="3886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ertura al Comercio Exterior: Export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76520" y="220968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59360" y="525780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6668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en bienestar de la apertura? Por q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uesto a las Expor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51055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81080" y="1981080"/>
            <a:ext cx="3962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905120" y="1904760"/>
            <a:ext cx="36576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676520" y="3276720"/>
            <a:ext cx="2209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6520" y="220968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81480" y="2209680"/>
            <a:ext cx="0" cy="28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9360" y="525780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579132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 es el efecto de un impuesto a las exportacion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2666880"/>
            <a:ext cx="2971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-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paso: Elasticidad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nsibil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la cantidad ofrecida y demandada a cambios en sus determin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da cuantitativa: nos permite predecir la magnitud del cambio, no sólo la direc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oci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ndi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la curva (pero NO es igual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asticidad: % de cambio en una variable como respuesta a un cambio de un 1% en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%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ΔX    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demos calcular la elasticidad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de Demanda y Of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 respecto a cualquiera de sus determinantes: Precio, ingreso, precio cruzad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Δ%Q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ΔQ 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Δ%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ΔP    Q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 la elasticidad precio de la dema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Q es la cantidad y  P es el pre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-2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cuanto aumenta Q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i el precio cae 10%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lasticidad usualmente varía a lo largo de la curva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85800" y="3048120"/>
          <a:ext cx="8001000" cy="32922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ás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&g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&lt;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lás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&lt;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&gt;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a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s-C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ΔP| = |ΔQ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asticidad - Demand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elasticidad precio depend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cia de sustit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cia del bien en el gasto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sos extr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initamente elástica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demanda horiz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initamente inelástica E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0 (demanda verti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8:45:04Z</dcterms:created>
  <dc:creator>M.Soledad Arellano</dc:creator>
  <dc:description/>
  <dc:language>en-US</dc:language>
  <cp:lastModifiedBy>dii</cp:lastModifiedBy>
  <dcterms:modified xsi:type="dcterms:W3CDTF">2007-09-03T15:52:27Z</dcterms:modified>
  <cp:revision>41</cp:revision>
  <dc:subject/>
  <dc:title>Economía  IN 41 A – Primavera 2005 Clase # 11</dc:title>
</cp:coreProperties>
</file>