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166F-586F-4612-BDE8-AFC8BE447C07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ide points, that lead to m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irst, say that students will do some modeling in homework, to make principles and thinking pre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econd, say why not just study the specializations, and then lead to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ther Relevant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ll the other things we talked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sellers, information, externalities, blah bl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Welch/McNealy Fortune May 1, 2000 arti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Questions for A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Bicycles, and any other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1C9-8778-4AFF-9C8F-0BFD6A79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901-AE7A-4817-AB35-AAA532B9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FAD-92B7-4D50-93ED-C906DF0B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7A8-BE8E-412D-AC0F-4CC287DF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E59-7E19-4FA2-9DC3-514B997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C32-D600-4D3F-B3CF-B2D45EAB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837-F12D-41ED-9178-C2B92044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9CC-56FD-4845-8FE7-CCC9D3B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BE3-2FA0-4A71-B1E4-4467331D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1516-F8DC-4B04-B848-DB0DFA6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DB7-1E94-4C65-B985-F2DE829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BBA-FBB3-49C0-A723-54ADB6A0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00F8-4AB7-4C1D-8BB0-974DD25A034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rellano@dii.uchile.c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Soledad Arel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rellano@dii.uchile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. 407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gráfica de las preferencias del consum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ones de canastas que proveen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mo nivel de satisfac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idor está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fer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re todas las canastas que están en la misma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es recuerda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é nos sirve el concep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 magnitud del cambio (no sólo la dir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s dice cómo cambia el gasto total cuando cambian l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os en la oferta tienen distintas consecuencias sobre el equilibrio dependiendo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 Precio y Ga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i sube el precio de la mantequilla, gasto más o menos $ en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sto = G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G/ΔP=Q(1+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In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asticidad Precio Demanda y 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pasa con el precio de la luz si aumenta el precio del gas natu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61722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Ingre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I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no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inf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precio-cruz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itu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Ofer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mos qu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≥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elasticidades relevantes: respecto de precio de insumos (&l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o y Largo Plaz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posibilidades de sustitución dependen del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ualmente mayor elasticidad en el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: necesidad de ajustar consumo (ej auto a bencina  die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ferta: rol de las restricciones de capacidad en el corto pl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562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3880" y="525780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bieran ser las Curvas de Indiferenc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os dice “Mas es mejo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mplicancias Supuesto No Sac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es mejor” / No sa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 es mejor que A ; A es mejor qu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ndient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A y B me producen el MISMO nivel de satisfacción: Dado que B tiene menos unidades de comida que 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CESARIAME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B debe tener más unidades de ropa que A (sólo así pueden ser indifer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7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7400" y="5638680"/>
            <a:ext cx="58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can los 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encias Transitivas + Mas es mejo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5562720"/>
            <a:ext cx="60199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ncia Mas es Mejor + Transi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914400"/>
          <a:ext cx="606744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67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4572000"/>
            <a:ext cx="7010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es mejor que F (Mas es mej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 es mejor que C (Transitiv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DICCION!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C. de Ind. NO SE PUEDEN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CORT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ropiedad #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cando Curvas de Indi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mejor o i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pe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son las C.Indif. de las canastas x e y si 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mal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 4 Preferenci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0020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752480"/>
            <a:ext cx="381024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 M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0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981080"/>
            <a:ext cx="327672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 un BIEN e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osi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er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crecient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.e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dad adicional me da menos utilidad que la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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UMg decre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a U = U (ropa, com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/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op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 X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 de utilidad creciente en sus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Mg decreciente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 0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UMg 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pa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sa Marginal de Sustitución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l Consum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S = | Pendiente de la Curva de Indiferenci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|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Δro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Δcomid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uántas unidades de ropa me tienen que dar a cambio de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de comida para quedar indifer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qué depe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ias: cuánto me gusta cada uno en términos rel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el de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idor enfrenta problema de la escas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dades i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 del consumidor nos ayuda a entender cómo decide el consumidor : cuánto compra, a qué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75248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MS y Utilidad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= U (x,y)  donde x,y son dos can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= U (y(x),x)    / d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 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Utilidad e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y  dx      d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o largo de la C. de Indi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dU/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UM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S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- UMg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800600"/>
            <a:ext cx="3504960" cy="1447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371600" y="533520"/>
          <a:ext cx="652932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652932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52480" y="502920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s la TMS de acuerd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s es Mejor y UMg Decreci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MS : ¿Cómo es?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aciabilida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diente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dad Marginal Decrecien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Decreciente: Las unidades de ropa que cedo por tener más comida se reducen en la medida que tengo much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sos Espe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sustit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constante: siempre estoy dispuesto a ceder las mismas unidades del bien a cambio de una del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líne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comp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de los dos bienes para obtener más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en ángulo 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es cero o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mp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ns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ón de utilidad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saciabilidad (“mas es mejor o igua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iente Curvas de Indiferenci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no se cor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657600"/>
            <a:ext cx="5867640" cy="2590920"/>
          </a:xfrm>
          <a:prstGeom prst="rightArrowCallout">
            <a:avLst>
              <a:gd name="adj1" fmla="val 25002"/>
              <a:gd name="adj2" fmla="val 25000"/>
              <a:gd name="adj3" fmla="val 37745"/>
              <a:gd name="adj4" fmla="val 7383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tricción Presupues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s es mejor, pero el individuo no puede comprar todo lo que quiere pues los recursos son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P indica lo que el individuo PUEDE h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a cantidad de cada bien que puede comprar el consumidor dado su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I) y lo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os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cC+PrR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supuesto implicito: no hay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696080" cy="5175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740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M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 relativo Px/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dades de y que se deben sacrificar en el mercado para obtener una unidad más d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 a la que el mercado permite al consumidor sustituir entr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asa de Sustitución de Merc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eferencias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entender la De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o una Teoría de l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er Adquisitivo Ingreso 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r adquisitivo depende tanto del ingreso como de los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ída de ambos precios a la mitad es equivalente a una duplica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1: PcC+PrR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2: (P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C+(Pr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R=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458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3733920" y="3276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ndiente: -P comida / P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40080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6386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 Comida que puedo comprar con el ingreso I (I / P com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ción Presupuestar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52388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¿Qué pasa si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 el Ingr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do comprar más unidades al mism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P se traslada paralela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3352680"/>
          <a:ext cx="5610240" cy="32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61024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pasa si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 el precio de la 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o comprar menos unidades de ropa con el  mismo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P “rota” hacia a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47920" y="3429000"/>
          <a:ext cx="561024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610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Re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dica lo máximo que se puede consumir dados los precios y el i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ición determinada por el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diente determinada por los precios rel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85480"/>
            <a:ext cx="775476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754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decisión del Consumido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 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 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542960"/>
            <a:ext cx="741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590920"/>
            <a:ext cx="5410080" cy="3352680"/>
          </a:xfrm>
          <a:prstGeom prst="rightArrowCallout">
            <a:avLst>
              <a:gd name="adj1" fmla="val 25002"/>
              <a:gd name="adj2" fmla="val 24574"/>
              <a:gd name="adj3" fmla="val 26894"/>
              <a:gd name="adj4" fmla="val 738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352680"/>
            <a:ext cx="190512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uesto racionalid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umidor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ximiza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l nivel de bienestar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elegirá dentro del set de canasta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isponi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quella que más le gu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diciones de un 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bienestar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be estar sobre la RP (igualdad de gasto e ingr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sión : sustituyo una unidad de X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horro”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 utilidad disminuye en UMgX, luego para mantener constante mi utilidad debo comprar UMgX/UMgY unidades de Y. C/u cuesta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luego el costo de sustituir una unidad de X =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X / UMg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, en el opt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1    = Costo de unidades 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X     necesarias para reemplaza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=    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Y        UMgY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=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2004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exijo para que yo renuncie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2004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puedo comprar si renuncio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866240" y="18666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5676480" y="179064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arginal de Sustitución en el Consumo (T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de Sustitu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mbinación de X y Y que implica un minimo costo es tal que el ultimo $ gastado en cada uno de las canastas me genera el mismo nivel de ut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657600"/>
            <a:ext cx="6248520" cy="2590920"/>
          </a:xfrm>
          <a:prstGeom prst="rightArrowCallout">
            <a:avLst>
              <a:gd name="adj1" fmla="val 25002"/>
              <a:gd name="adj2" fmla="val 25000"/>
              <a:gd name="adj3" fmla="val 40195"/>
              <a:gd name="adj4" fmla="val 70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olución Gra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820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quilibrio debe estar SOBRE la R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más arriba (“A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IBLES (gasto &gt; ingreso actu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por debajo (“B”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LES PER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dicen insaci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o &lt; ingres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 todos los recursos se gast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idor podría estar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”, “D” o “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343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no se alcanza la máxima utilidad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lcanza la máxima utilidad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y curva de indiferencia son tangentes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endiente de la RP y de la curva de indiferencia son igu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/Pr = T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34340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puedo comprar si renuncio a comprar una unidad de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64832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me tienen que dar para que yo renuncie a una unidad de comida (y quedar indife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0292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33960" cy="485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740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pasa fuera del Equilib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pasa fuera del Equilibr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 no es equilibrio pues en C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MS &g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C el consumidor valora menos las unidades de ropa que lo que lo hace el mercado (exige menos unidades de comida a cambio de una de rop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vender una unidad de ropa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é pasa fuera del Equili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 no es equilibrio pues en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MS &l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valora MAS las unidades de ropa que lo que lo hace el mercado (está dispuesto a entregar MAS unidades de comid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comprar una unidad de ropa (vender una de comida)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único equilibrio pues sólo ah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posición a sustituir es igual a las posibilidades que da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beneficio marginal de cada unidad (TMS) se iguala con su costo marginal (precios relativ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izando la Utilidad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 = U(x,y)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-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O:  dU/dx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x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y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5029200"/>
            <a:ext cx="3352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267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ía de las Preferenci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Adver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tudiamos una Teoría Agregada de las Preferencias, sino una teoría de las preferencias a nivel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 lo que aprendemos es en relación al individu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teoría no nos sirve para hacer comparaciones entre individu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cando el Equilibrio: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gencia entre RP y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se iguala a precio rel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asegura que se alcance la máxima utilidad posible tomando en cuenta el poder adqui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1: Distintas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62320" y="56386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que B no es equilibrio para el individuo “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71600" y="1828800"/>
          <a:ext cx="6086520" cy="41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08652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qué ocur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&gt; precios relativos en todo el rango relev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á dispuesto a dar mucho de un bien a cambio de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queños cambios en precios relativos y/o ingreso no alteran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3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o en Ingres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P se trasl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lad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ánto? monto d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? Depende de la forma como se entregue 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: Traslado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 : RP no se traslada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uesto: el bien subsidiado no se puede v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33600" y="1981080"/>
          <a:ext cx="6076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981080"/>
                    <a:ext cx="60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52480" y="1676520"/>
          <a:ext cx="60724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2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1430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715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6019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o en comida: mi consumo máximo de ropa no au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términos de Aumento de Bienes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es MEJOR o IG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: posible solución de es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qué se entrega subsidio de leche Puri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HINT: supuesto clave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ubsi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precio: rota la 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ingreso: traslado paralel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mej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: Ambos subsidios permiten financiar la nueva canasta de subsidio en precios (canast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98108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86520" cy="4267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71600" y="5486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ambos subsidios permiten financiar la nueva canasta del subsidio en precios, este consumidor prefiere el subsidio en dinero. (rol de las prefere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ánto más me gusta el helado que la coca c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existe una escala cuantitativa para medir las prefer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alternativo: Comparación de canasta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“diecioch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1: 1 empanada y 2 chori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2: 2 empanadas y 1 chorip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canasta me gusta más?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Individual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Generaliz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de cambios en la cantidad demandada c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rva de Engel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e demanda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ión de Demanda Generaliz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X = X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 de Dema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= Y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657600"/>
            <a:ext cx="457200" cy="2133720"/>
          </a:xfrm>
          <a:custGeom>
            <a:avLst/>
            <a:gdLst>
              <a:gd name="textAreaLeft" fmla="*/ 0 w 457200"/>
              <a:gd name="textAreaRight" fmla="*/ 16488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8195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 pasa si aumenta el Ingreso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uesto: ceteris paribus (precio relativo constant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ecto en demanda depende de si el bien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umenta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Primera Necesidad: aumenta a tasa de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lujo: aumenta a tasa 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sminuy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icancia elasticidad ingreso de la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de Enge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rva de 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447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219320" y="1599840"/>
            <a:ext cx="17524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371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74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371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14479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6477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495680"/>
            <a:ext cx="1447920" cy="1828800"/>
          </a:xfrm>
          <a:custGeom>
            <a:avLst/>
            <a:gdLst/>
            <a:ahLst/>
            <a:rect l="l" t="t" r="r" b="b"/>
            <a:pathLst>
              <a:path w="912" h="1152">
                <a:moveTo>
                  <a:pt x="0" y="1152"/>
                </a:moveTo>
                <a:cubicBezTo>
                  <a:pt x="196" y="1084"/>
                  <a:pt x="392" y="1016"/>
                  <a:pt x="528" y="912"/>
                </a:cubicBezTo>
                <a:cubicBezTo>
                  <a:pt x="664" y="808"/>
                  <a:pt x="752" y="680"/>
                  <a:pt x="816" y="528"/>
                </a:cubicBezTo>
                <a:cubicBezTo>
                  <a:pt x="880" y="376"/>
                  <a:pt x="896" y="188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4800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6553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4343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648320"/>
            <a:ext cx="2514600" cy="1523880"/>
          </a:xfrm>
          <a:custGeom>
            <a:avLst/>
            <a:gdLst/>
            <a:ahLst/>
            <a:rect l="l" t="t" r="r" b="b"/>
            <a:pathLst>
              <a:path w="1584" h="960">
                <a:moveTo>
                  <a:pt x="0" y="960"/>
                </a:moveTo>
                <a:cubicBezTo>
                  <a:pt x="28" y="808"/>
                  <a:pt x="56" y="656"/>
                  <a:pt x="144" y="528"/>
                </a:cubicBezTo>
                <a:cubicBezTo>
                  <a:pt x="232" y="400"/>
                  <a:pt x="384" y="272"/>
                  <a:pt x="528" y="192"/>
                </a:cubicBezTo>
                <a:cubicBezTo>
                  <a:pt x="672" y="112"/>
                  <a:pt x="832" y="80"/>
                  <a:pt x="1008" y="48"/>
                </a:cubicBezTo>
                <a:cubicBezTo>
                  <a:pt x="1184" y="16"/>
                  <a:pt x="1384" y="8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502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PRIMERA 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105160" cy="3583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487692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1447920"/>
            <a:ext cx="327672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ínea Ingreso – Consu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las combinaciones de equilibrio a medida que aument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572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83808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1430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ecto de un Cambio en el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ceteris paribus 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ínea precio – consumo: canastas que maximizan el bienestar ante cambios en el preci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individual: L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muestra las cantidades de equilibrio del bien como resultado de este exp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4495680" cy="315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267440" cy="2995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3520" y="8380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 DE PRECI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composición del Efecto 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cambia el precio de un bien, se producen dos efectos simultáne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aumenta el Precio de la com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ida es más cara en términos relativos (vs la ropa) por lo que su consumo es menos atractiv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Sustitu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ngreso “rinde” menos (menor poder adquisitivo, i.e. cae el ingreso real), soy más pob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Ingr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Precio d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Ingreso : soy mas rico 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umenta consumo de ro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Sustitución: Ropa relativamente mas barat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be consumo de 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Ingreso        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 Sustit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: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46483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0292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3429000" y="32763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let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individuo es capaz de decirnos qué canasta pref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es preferido a B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 es preferido a A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y B son in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ransitiv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preferencias son consistentes a través de cana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A es preferido a B, y B es preferido a C, entonces debe ser cierto que A es preferido a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600200"/>
            <a:ext cx="741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quilibrio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equilibrio a l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e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cios y el poder de compr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: Efecto sustit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ísla cambio en precios relativos del cambio en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a (o permanece constante) el consumo del bien cuyo P c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B: Efecto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 el poder adquisitivo sin cambio en precios rela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: B está a la izquierda de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:  B esta a la derecha d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887480"/>
            <a:ext cx="6782040" cy="4757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V="1">
            <a:off x="3657600" y="350496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64832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ment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554880" cy="2092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2120" y="4191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enes Giffen: demanda con pendiente positi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umenta el Preci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umenta el consum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 Ingreso &gt; E. Su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precio se pueden descomponer en efectos ingreso y sustit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Sustitu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o cambio en precio relativo (ingreso permite alcanzar nivel de utilidad previo a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siempre negativo o constante (dirección opuesta al cambio de pre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Ingre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en poder de compra (ingreso r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r el efecto de un cambio en el precio de la ropa sobre la cantidad demandada de com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ner el efecto ingreso y el efecto sustitució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de Mercado requiere de un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anda de mercado (“demanda agregad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= conjunto de individuos que t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erencias pr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asamos de una demanda individual a una de mercad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total que todos los participantes del mercado están dispuestos a comprar a un precio 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m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s demanda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933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3. No saciabilidad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ás es mejor (o igual) que men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mejor o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peo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y saturación (si no, es un 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o: No saciabilidad NO IMPLICA que cada unidad consumida me dé la misma satisfacción que la unidad que consumí 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37160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de Consumid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egura que pendiente de demanda individual sea negativa (por qu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íricamente se ha constatado que usualmente la pendiente es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lazamientos Demand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pensar en términos de demanda individual y después ag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s en la demanda de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228600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5410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438280" y="2755800"/>
            <a:ext cx="3454560" cy="264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286000"/>
            <a:ext cx="350532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437920" y="3886200"/>
            <a:ext cx="20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413080" y="4216320"/>
            <a:ext cx="1549440" cy="11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0720" y="2271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29200" y="5548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7320" y="5105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81840" y="250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0240" y="38098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15880" y="5562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2666880"/>
            <a:ext cx="350496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96720" y="4633920"/>
            <a:ext cx="38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3429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podemos medir la satisfacción que el consumo de bienes da a los demand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mos una unidad de medida objetiva y compa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de lo que gana el consumidor al comprar ciertas unidades de un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ad objetiva y 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d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Valoración   - Lo qu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Consumidor    del bien         c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4267080"/>
            <a:ext cx="7924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ación del bien: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anda: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ximo precio que se está dispuesto a pagar por una cantidad determinad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área bajo la demanda mide la satisfacción que dan las unidades del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l Bien: Precio x #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295280" y="2109960"/>
            <a:ext cx="72392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xcedente de cada unidad cae con las unidades comprad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neficio para todos los demandantes se mide en la demanda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remos el excedente del consumidor (y del productor) para evaluar los costos y beneficios de diversas pol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 que ganan (pierden) los consumidores supera a lo que pierden (ganan) los productores, entonces se trata de una buena (mala) política. La sociedad gana (pier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 introduce una “brecha” entre el precio que pagan los consumidores y el que efctivamente reciben los produ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52704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sminuye Q, Sub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puesto al consumo vs Impuesto a la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276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47920" y="1960560"/>
            <a:ext cx="4952880" cy="3220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981080" y="54100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Social del Impu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idencia del Impuesto vs Recaudación del I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o representamos las Preferenci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ción O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ias pueden ser representadas a través de un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ión de uti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única excepto por transformaciones crecien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ón de Utilidad se representa a través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cia del Impu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752480"/>
            <a:ext cx="10666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82844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410080" y="190476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51460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97180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2743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2895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4572000"/>
            <a:ext cx="716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o Impuest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n “paga” mas? El consumidor o el produc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s mayor el costo en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EA : SUBS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Im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37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anc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95280" y="563868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l aran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gan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3886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1480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Ex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 a las Expor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de un impuesto a las exportacion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266688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-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paso: Elasticida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bil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antidad ofrecida y demandada a cambios en sus determin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cuantitativa: nos permite predecir la magnitud del cambio, no sólo la dire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oci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ndi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urva (pero NO es igua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asticidad: % de cambio en una variable como respuesta a un cambio de un 1% en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X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demos calcular la elasticidad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y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 respecto a cualquiera de sus determinantes: Precio, ingreso, precio cruzad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 la elasticidad precio de la dema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es la cantidad y  P es el pre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2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cuanto aumenta Q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i el precio cae 10%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lasticidad usualmente varía a lo largo de la curva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85800" y="3048120"/>
          <a:ext cx="8001000" cy="32922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l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g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a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=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lasticidad precio depend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cia de sustit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del bien en el gasto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sos extr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demanda 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in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0 (demanda 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8:45:04Z</dcterms:created>
  <dc:creator>M.Soledad Arellano</dc:creator>
  <dc:description/>
  <dc:language>en-US</dc:language>
  <cp:lastModifiedBy>dii</cp:lastModifiedBy>
  <dcterms:modified xsi:type="dcterms:W3CDTF">2007-09-03T15:52:27Z</dcterms:modified>
  <cp:revision>41</cp:revision>
  <dc:subject/>
  <dc:title>Economía  IN 41 A – Primavera 2005 Clase # 11</dc:title>
</cp:coreProperties>
</file>