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C60C-CABF-4A7F-A319-25E67DBA5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C7D2-C7F4-4A99-9647-3930EE15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9A00-AEAF-4DFD-B9C4-A1B117E83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4760-63F4-4274-B317-C72F5075F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1389-544F-4536-BD1C-C7B50A276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58DD-6475-43DD-801F-8D76A26F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2A6E-577B-4370-93C1-C854F945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4B3A-396D-427F-8DF1-FC73D783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F346-F460-45EA-BC2E-9D6C6A97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FD231-C2A7-4735-BE56-C2476788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F8CD-D471-4769-863D-4E383C96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4510-3E37-4E71-927C-0857B38B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DD06-3B79-43A8-B637-BF979136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E4A7-337C-4F69-A302-6A0BBACA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30EF-DCCE-4C49-9377-715F3DD3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2F98-8246-4187-8482-CC3861ACE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BEDD-20DA-4F1C-99FD-7614B8AD1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8E58-B648-4010-8DB1-9262AAF5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A561-3E12-411A-BC25-F1C81641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C64E-06FD-4AB7-8E5F-96811649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0FE6-EF94-4212-96FD-DE14B413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5C0C-7CE5-4D7F-9539-78D794FF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3470-0439-4518-9F7E-FF0DD0A5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6E89-1204-4BE8-848E-85EAC144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FD38-1143-4C43-9636-72E902797BCE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4881-930F-4BD5-95C1-4BCA7AD510CE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Garamond"/>
              </a:rPr>
              <a:t>Acerca de la Historia del Pensamiento Económico</a:t>
            </a:r>
            <a:br>
              <a:rPr sz="5000"/>
            </a:br>
            <a:br>
              <a:rPr sz="5000"/>
            </a:br>
            <a:r>
              <a:rPr b="1" lang="es-ES" sz="5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Garamond"/>
              </a:rPr>
              <a:t>¿Por qué estudiar “ideas equivocadas de economistas muertos”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Garamond"/>
              </a:rPr>
              <a:t>¿Qué es la HP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063"/>
              </a:spcBef>
              <a:spcAft>
                <a:spcPts val="1063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Garamond"/>
              </a:rPr>
              <a:t>Estudia el pensamiento económico en su proceso históric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063"/>
              </a:spcBef>
              <a:spcAft>
                <a:spcPts val="1063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Garamond"/>
              </a:rPr>
              <a:t>El “pensamiento económico” puede incluir varios aspectos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la ciencia económica (teorías y contexto social y pers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la "filosofía" de la econom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l modo en que las personas piensan “la economía” </a:t>
            </a: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(mentalida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Garamond"/>
              </a:rPr>
              <a:t>¿Puede aportar la HPE a la formación de los economistas?</a:t>
            </a:r>
            <a:r>
              <a:rPr b="0" lang="es-ES" sz="3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Si creemos estrictamente en la evolución “lineal” del pensamiento (asociación con ciencias “duras”…  ¿“darwinismo vulgar?” ) o en la vocación “práctica” de la econom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208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Nada: mejor dedicar ese tiempo a aprender cosas mas útiles (de todos modos en las matemáticas se ve la inteligencia así que los que se dedican a la H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208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Como entre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208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Para saber cómo la ideas correctas prevalecie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Garamond"/>
              </a:rPr>
              <a:t>¿Puede aportar la HPE a la formación de los economistas? </a:t>
            </a:r>
            <a:r>
              <a:rPr b="1" lang="es-ES" sz="2800" spc="-1" strike="noStrike">
                <a:solidFill>
                  <a:srgbClr val="000000"/>
                </a:solidFill>
                <a:latin typeface="Garamond"/>
              </a:rPr>
              <a:t>(continuación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Si creemos que la evolución no es “lineal” ni se rige sólo por urgencias de aplicación…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5800" indent="-3056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Nos puede ofrecer nuevos caminos a explo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5800" indent="-3056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Nos puede ayudar a plantear mejor nuestras pregu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5800" indent="-3056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Puede ayudar a tener una visión crítica sobre lo que hace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5800" indent="-3056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n general: ayuda a entender nuestra </a:t>
            </a:r>
            <a:r>
              <a:rPr b="0" i="1" lang="es-ES" sz="2400" spc="-1" strike="noStrike">
                <a:solidFill>
                  <a:srgbClr val="000000"/>
                </a:solidFill>
                <a:latin typeface="Garamond"/>
              </a:rPr>
              <a:t>ciencia 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sus preguntas, debates, a organizar tipos de respuestas, a buscar mejores respuestas (y evitar “inventar la rueda”) , a enfrentar situaciones nuevas y a tener claro las fortalezas y debilidades de nuestros planteamientos (Ejemplo: Sraffa y la controversia del capi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Garamond"/>
              </a:rPr>
              <a:t>La HPE como oportunidad…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1880" y="421416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Neo Ricardi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00360" y="37828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Marx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56000" y="501336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Institucional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24360" y="40705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Neoclás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24360" y="436572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Evolu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3280" y="486900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NeoKeynesi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80000" y="37828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Austria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92720" y="544500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NeoInstitucional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628640"/>
            <a:ext cx="806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El estudio de la HPE  puede ser una oportunidad para aproximarse a la teoría económica a la manera de una reflexión permanente; como un diálogo entre “tradiciones” de pens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32000" y="5373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Ecolog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87640" y="450864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Keynesi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4T21:23:13Z</dcterms:created>
  <dc:creator/>
  <dc:description/>
  <dc:language>en-US</dc:language>
  <cp:lastModifiedBy>HUEPE-C</cp:lastModifiedBy>
  <dcterms:modified xsi:type="dcterms:W3CDTF">2007-08-28T21:00:42Z</dcterms:modified>
  <cp:revision>16</cp:revision>
  <dc:subject/>
  <dc:title>Historia del Pensamiento Económico</dc:title>
</cp:coreProperties>
</file>