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4281-8E95-4433-82EF-9D9EC0FD9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6CC5-BD36-4212-900B-DFC6246A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4FDB-EE4E-4275-87F2-15FC73443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A282-517B-44FD-A8D9-9EC670A90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DFBA-892D-4431-8A88-C75F2BDA1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BE6E-DDE5-4438-853E-B424D97C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D472-AFF7-4F0E-AB22-B1353280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68EF-B003-4886-9356-30474D79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D50B-0905-41ED-A47E-546ACDD5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7E26-5792-458A-B0B3-5DAF2DD8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4026-1947-41C5-A455-C753BED4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71F7-E18F-4FE3-82CD-AD2EBF2E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FF49-B099-4C0F-ABD9-70DC81C0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2222-5926-40B5-B980-F57B82B6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6094-7523-4479-B0C1-DEA4BA24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5916-5DB5-4B3C-A0FF-8B137684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94BD-B342-441E-922F-7BBC6FD3A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2067-FB5C-4302-A820-6F082572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AC77-D967-4AC0-84C8-BB9F67FA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4764-7256-4B3B-BEEC-15B5DC25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1CFB-F706-4CD8-B99C-478677A6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E65D-C6AC-4E53-92D1-6AF8AB87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3617-A2AF-440F-8A43-CCA23A84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A6D8-3993-4998-A29B-C802CAB7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FF0B-B852-4095-847A-20779A7E82F7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2615-4E68-4086-A5B3-4887D1B0CE23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Garamond"/>
              </a:rPr>
              <a:t>Acerca de la Historia del Pensamiento Económico</a:t>
            </a:r>
            <a:br>
              <a:rPr sz="5000"/>
            </a:br>
            <a:br>
              <a:rPr sz="5000"/>
            </a:br>
            <a:r>
              <a:rPr b="1" lang="es-ES" sz="5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Garamond"/>
              </a:rPr>
              <a:t>¿Por qué estudiar “ideas equivocadas de economistas muertos”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¿Qué es la HP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063"/>
              </a:spcBef>
              <a:spcAft>
                <a:spcPts val="1063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Garamond"/>
              </a:rPr>
              <a:t>Estudia el pensamiento económico en su proceso históric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63"/>
              </a:spcBef>
              <a:spcAft>
                <a:spcPts val="1063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Garamond"/>
              </a:rPr>
              <a:t>El “pensamiento económico” puede incluir varios aspectos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la ciencia económica (teorías y contexto social y pers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la "filosofía" de la econom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modo en que las personas piensan “la economía” </a:t>
            </a: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(mentalida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¿Puede aportar la HPE a la formación de los economistas?</a:t>
            </a:r>
            <a:r>
              <a:rPr b="0" lang="es-ES" sz="3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Si creemos estrictamente en la evolución “lineal” del pensamiento (asociación con ciencias “duras”…  ¿“darwinismo vulgar?” ) o en la vocación “práctica” de la econom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ada: mejor dedicar ese tiempo a aprender cosas mas útiles (de todos modos en las matemáticas se ve la inteligencia así que los que se dedican a la H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Como entre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Para saber cómo la ideas correctas prevalecie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¿Puede aportar la HPE a la formación de los economistas? </a:t>
            </a:r>
            <a:r>
              <a:rPr b="1" lang="es-ES" sz="2800" spc="-1" strike="noStrike">
                <a:solidFill>
                  <a:srgbClr val="000000"/>
                </a:solidFill>
                <a:latin typeface="Garamond"/>
              </a:rPr>
              <a:t>(continuación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Si creemos que la evolución no es “lineal” ni se rige sólo por urgencias de aplicación…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os puede ofrecer nuevos caminos a explo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os puede ayudar a plantear mejor nuestras pregu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Puede ayudar a tener una visión crítica sobre lo que hace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n general: ayuda a entender nuestra </a:t>
            </a:r>
            <a:r>
              <a:rPr b="0" i="1" lang="es-ES" sz="2400" spc="-1" strike="noStrike">
                <a:solidFill>
                  <a:srgbClr val="000000"/>
                </a:solidFill>
                <a:latin typeface="Garamond"/>
              </a:rPr>
              <a:t>ciencia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sus preguntas, debates, a organizar tipos de respuestas, a buscar mejores respuestas (y evitar “inventar la rueda”) , a enfrentar situaciones nuevas y a tener claro las fortalezas y debilidades de nuestros planteamientos (Ejemplo: Sraffa y la controversia del capi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Garamond"/>
              </a:rPr>
              <a:t>La HPE como oportunidad…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1880" y="421416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Neo Ricardi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37828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Marx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56000" y="501336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Institucional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24360" y="40705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Neoclás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24360" y="436572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Evolu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486900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NeoKeynesi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80000" y="37828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Austria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92720" y="544500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NeoInstitucional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62864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El estudio de la HPE  puede ser una oportunidad para aproximarse a la teoría económica a la manera de una reflexión permanente; como un diálogo entre “tradiciones” de pens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32000" y="5373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Ecolog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87640" y="450864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Keynesi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21:23:13Z</dcterms:created>
  <dc:creator/>
  <dc:description/>
  <dc:language>en-US</dc:language>
  <cp:lastModifiedBy>HUEPE-C</cp:lastModifiedBy>
  <dcterms:modified xsi:type="dcterms:W3CDTF">2007-08-28T21:00:42Z</dcterms:modified>
  <cp:revision>16</cp:revision>
  <dc:subject/>
  <dc:title>Historia del Pensamiento Económico</dc:title>
</cp:coreProperties>
</file>