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18D-4084-423A-8C14-E9EFF67B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7CC-5C2F-4724-9E9F-507470A7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CE6-F4F3-49B6-B223-134E092A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103-88A3-472C-B699-4D21D44B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81A-7F30-48E3-872B-79D44F95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33EB-42A7-4C7D-8679-3EBB0D88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80FA-98EE-4336-B717-C0EE3409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66BE-F791-40FC-9067-330ED4AD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B2FB-4FB7-4A35-8AD1-EDBCD77B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D485-8DB4-4CE3-9668-362D5FF4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32C5-E5FE-4EF1-92A4-5BE021D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AF3-21DF-4B3C-864F-E31A04F6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2616-60A1-4B5E-8194-11AC24D9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2ACB-2B21-4DDA-AFE9-7D38A46F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8155-C1DD-44A9-A125-730C6A6F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871E-2BE2-43D6-A0EF-DD7A500D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0441-364F-44F2-A783-C417040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FB4-0638-441E-B48F-1204765D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615-36C0-4229-8180-35ED89C3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DE3-A8CD-4185-84FA-9E8143F0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430-44E4-45B5-9F12-D9637FD4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AD0-52B2-46DB-9B58-11341348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39BC-244E-42D1-B464-F0FBBE56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5EB-4D4D-48EC-8ED6-1F72263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498-67B6-479F-88DA-E0369C7809C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0E7B-38EF-460C-81AC-B51446E960E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Acerca de la Historia del Pensamiento Económico</a:t>
            </a:r>
            <a:br>
              <a:rPr sz="5000"/>
            </a:b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Garamond"/>
              </a:rPr>
              <a:t>¿Por qué estudiar “ideas equivocadas de economistas muertos”?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¿Qué es la HP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studia el pensamiento económico en su proceso históric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063"/>
              </a:spcBef>
              <a:spcAft>
                <a:spcPts val="1063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Garamond"/>
              </a:rPr>
              <a:t>El “pensamiento económico” puede incluir varios aspecto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ciencia económica (teorías y contexto social y pers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a "filosofía" de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modo en que las personas piensan “la economía”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(menta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</a:t>
            </a: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estrictamente en la evolución “lineal” del pensamiento (asociación con ciencias “duras”…  ¿“darwinismo vulgar?” ) o en la vocación “práctica” de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ada: mejor dedicar ese tiempo a aprender cosas mas útiles (de todos modos en las matemáticas se ve la inteligencia así que los que se dedican a la H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Como ent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ara saber cómo la ideas correctas prevaleci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uede aportar la HPE a la formación de los economistas? </a:t>
            </a:r>
            <a:r>
              <a:rPr b="1" lang="es-ES" sz="2800" spc="-1" strike="noStrike">
                <a:solidFill>
                  <a:srgbClr val="000000"/>
                </a:solidFill>
                <a:latin typeface="Garamond"/>
              </a:rPr>
              <a:t>(continuación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Si creemos que la evolución no es “lineal” ni se rige sólo por urgencias de aplicación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ofrecer nuevos caminos a explo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os puede ayudar a plantear mejor nuestras pregu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Puede ayudar a tener una visión crítica sobre lo que hac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800" indent="-3056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n general: ayuda a entender nuestr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ciencia 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us preguntas, debates, a organizar tipos de respuestas, a buscar mejores respuestas (y evitar “inventar la rueda”) , a enfrentar situaciones nuevas y a tener claro las fortalezas y debilidades de nuestros planteamientos (Ejemplo: Sraffa y la controversia del capi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Garamond"/>
              </a:rPr>
              <a:t>La HPE como oportunidad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1880" y="42141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eo Ricard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37828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Marx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013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070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clá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3657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volu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486900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828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Austria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445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NeoInstitucion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62864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El estudio de la HPE  puede ser una oportunidad para aproximarse a la teoría económica a la manera de una reflexión permanente; como un diálogo entre “tradiciones” de pen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37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Ecolog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450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</a:rPr>
              <a:t>Keynesi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21:23:13Z</dcterms:created>
  <dc:creator/>
  <dc:description/>
  <dc:language>en-US</dc:language>
  <cp:lastModifiedBy>HUEPE-C</cp:lastModifiedBy>
  <dcterms:modified xsi:type="dcterms:W3CDTF">2007-08-28T21:00:42Z</dcterms:modified>
  <cp:revision>16</cp:revision>
  <dc:subject/>
  <dc:title>Historia del Pensamiento Económico</dc:title>
</cp:coreProperties>
</file>