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E180A-C231-4B77-AFD7-35D99E776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F598-7E60-4FED-AD8F-A8E5E1ACA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3ECFA-55C0-4ABC-92A0-5BD9DFA28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2350B-0E2B-4B26-842E-40D913E08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9E241-5941-4B08-A26D-90B09600E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61C3-930F-4107-877E-009DEDF8B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CFA74-B47B-4D01-A802-846EBAFEB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63B9A-E1CD-4059-B4D9-FD5A3760D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4FE09-EC1F-441F-A1B8-E8C4CE27A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E6A59-0761-45BD-ACB0-8DD31D93D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A7164-BC74-49B2-B2AA-1B5474444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DE3E-9D5C-4686-9DD3-FBFDF43F9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356E2-B876-44EC-9E2E-C2CCDBBC1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BF6B-F130-47B3-A93A-E4BE67623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2EE73-C083-49AC-8586-69CEC70A9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DFCCA-2837-44F7-BA4F-F609CE90A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2EB4B-0EBB-4F5F-A7F7-B3ECD6110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C595-EFA3-4296-B48E-798CB7D9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B6317-9A26-4DEA-A969-87AA4774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D36C5-4BED-4DF2-B740-81C654EB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34B6D-59A9-42E0-B87F-0552D995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3E0A-0362-48E3-89C0-6A9A6AB80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8422-993A-4D53-95AB-6BCBCF4B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536F-79F3-4098-AC64-1A6135930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C6FF-5669-42D8-9F6A-4B88AC2543D8}"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BA81-2997-4F01-9D50-34240325A4AB}"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21Z</dcterms:modified>
  <cp:revision>13</cp:revision>
  <dc:subject/>
  <dc:title>Resistencia de Macizos Rocosos</dc:title>
</cp:coreProperties>
</file>